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B2D2-55D2-4131-811E-472EF2E60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917F-5DB1-4F65-8B70-378CB7C51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FED-438C-4B33-BAF3-2C5653ACE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E1B-1823-4D0F-BA24-5F6D6484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8B8-E0DD-44A4-AE1C-54AFBD3E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F4E05-1E8E-429D-9316-1517972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7D29D-093E-4006-9D21-53D03DD5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2413C-81B9-4B08-8C4A-9BC29B6D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D3EB3-994A-407A-903C-D657F8AE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5A789-37A3-4671-8DB0-8B1DED1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26A50-F0DF-45F3-BDE4-BE70D7FF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FE8D4-C8D9-4F4D-BD40-8A7B8FC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112C4-E7E1-4AB8-8C16-60DD61D1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37E17-B899-4FD5-A7A5-6DDD0E2A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64925-95B9-4570-8183-48F7700E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2B-CD67-46C7-A4AD-00882C14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5614B-C14C-440A-9633-AB2AD51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44E13-D541-4E1F-A7B0-4A545EA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A8BCA-ED46-4CFE-AEB8-B99BDDC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731E0-F3D4-4F10-AE52-9E54146A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2CCDD-0D54-410C-B270-BA6D5FFB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A6D61-62AF-4B26-8309-4E8C0A0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4FF52-37DE-4E7F-A390-FCAE6F4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B6C7B-C13B-4CE3-BDBD-9BE2125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9288E-B09D-421F-BF72-C39E03FB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5705B-20CD-4E73-AEB0-8B6A086C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8E6-1CEF-47F1-B569-8F73DF00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DEE19-FA64-4139-8243-F3F961A2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4856-3459-451B-A660-7FEF2699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410BD-D600-4B0E-96DE-1F7B88D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07D4D-3E86-4C9B-BFD9-ACF7DE5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711A9-437B-4675-BA67-9141C88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666D6-387C-416E-A0F6-167E6E48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6796-8E52-4D50-A237-22E64EE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DABE7-FF20-45D5-8D98-4ED0B8E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C6D8B-D73D-4FC6-A3E3-28B6549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55892-E603-461F-8614-1B987C67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0831-D4E2-44FE-A6EB-E7A45DD6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B366C-8471-49D1-BE38-F28F2EC0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F4222-09D6-48C0-B27C-BB10AAD0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A0F30-B91C-4ADC-A6B8-8779C39B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57B4C-3628-476A-AB62-01451929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F0B9B-CBA1-48BB-A114-17D8C4E9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8387-6772-4E91-8396-940C6078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5FB98-AF06-4AD9-AB16-36C1F73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0B65D-A073-4D38-96FF-631E622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7332B-26CC-41CC-97B2-E7BF2D43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DDC62-9E61-4F5E-958E-9A4EB59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D06-F4C7-4D1A-A4F0-81989374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8EF9D-2F76-473D-BC93-9C97215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1BABD-0172-4B56-8A9F-31637D4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B0811-04F2-4751-A35C-2B470E02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9033-95DF-47E9-B875-593A9671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99A3D-D662-4C8D-B780-3337B2CA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3FD1E-5A3C-4E41-B50F-6868675E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DC119-7D0C-471A-B6C1-1D21900D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C2CEE-9111-4608-B1D1-D965497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4DD78-3605-44C7-BDD6-165259AC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82EA7-159F-43CD-AC92-B24602E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73C7-6579-4754-BD90-0590198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25262-258F-449A-A756-A649DA3A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7F7EF-3682-4BF6-BAED-B1421EB7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07D72-C008-4EA7-81DB-A97BF212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20D9D-8826-4024-A9F6-A59492D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4F6CC-7826-4426-9981-4C332A02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3938C-CC8B-427C-87F0-E4D37893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CB8A4-C74C-463F-AAF6-FCF31E25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680-EEF3-4AFA-9AEC-489FEC0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E40D-0302-461A-A688-73F14AC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10F-C8A0-4ED1-B467-1E1DFCA6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3B13-45DD-4928-838D-1304ABA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AF3-B97A-41EC-A92B-2D9897E9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170B-01D3-49F1-95D9-9C73080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0CE-EE37-4CF4-A0E0-66622EB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BF7D-8641-4BBC-853D-7A76FC0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7176-AB78-48C0-B2DD-A4D67961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919-6E6E-4AB3-9843-973F1115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086C-4518-4D75-83BC-E696B07A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7879-51B9-484C-9056-2BF8866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49B3-8F5B-4BF2-93B5-2BB0BBD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D577-6EF1-4E0B-840E-23356D6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F23D-E238-43A0-A964-81712BC1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DB-6530-47F9-A5D3-138B7C5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CE97-E229-4682-A07B-005EBD8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4EA4-A2D9-4E13-ACF5-D4DE314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E7B5-CF29-41DD-AD8E-E2E44D6A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9C69-DACD-4D96-9A1F-38087CC4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D828-84C4-4C16-A96F-392E318A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4156-DB39-4B9C-B92A-FCCA1E46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C090-A62F-4302-A739-369B6B58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E438-82BF-4FC7-9814-AD6CE59F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58F5-B4C8-46CE-AAAF-0CEA85F0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370C-3956-422D-B75E-7E12A391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037-DF43-4982-81E8-64AEA03E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65D0-DFF9-47A8-8523-C0F76355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90B0-FE14-4806-9C13-6887A64A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2422-CE07-4401-B803-00FB9FC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FE02-E6EF-4BF5-A4A2-ABBB2C6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DE2B-3C2F-428D-9482-44703CC3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68D6-B1EE-47C2-B108-57843FE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C6C1-AC46-4218-8D63-60915F32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ADBA-4134-40D6-9F06-95783C97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D9EC-335C-471E-91A7-AA6CEA29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F7D6-55D8-4EA6-A0AF-9B037B5B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17F-8D91-4168-B209-B9AB770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9E6C-58E6-4C0E-88BC-15E7A33D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87E3-B88A-4411-AF61-67B3D65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6A3E-20C5-4692-996E-4FA0C777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0CEC-6244-4E10-A06B-CF4B4EEA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EA16-210E-40D9-A5DA-E30762F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1E5A-D268-481A-9992-40C4574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B3781-BA25-4C20-9FEB-5EF017C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4C59-E15E-4946-B1AF-5CF93BBC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830A-8723-4769-94A7-6B153FBD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EAF9-4737-49BB-8DD2-35A53C58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688-0E19-43C0-8B76-8810A44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FB27-FBF1-49B7-B0CF-7E6A3CA5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4964-3EE0-4238-8DC7-4601F0AF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CF50-095D-42A0-BA6D-DB551B0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1835D-9FE7-42AA-9E71-4449CB6C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EC2B-9641-4165-80E4-ED481FD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7E6C-C0FB-4B12-94E6-5A7A264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9902-D17D-49D8-875C-F6EAA05E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04B9-0603-4857-B55D-F53CD2F6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3189-BB0D-49AB-B0AC-F7795F2D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7CF0-2284-4364-926E-EDFE6D5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04C-62FF-4FAA-9FC3-34DA7E2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4A57-605E-4AA8-BD1D-E8E209C8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73FEB-A668-463F-80E3-BC4191B2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689E-B946-4402-8D8D-D351D7E9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9D4B-624A-42FD-85D0-8AF654DE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6E35-ACB7-4901-882A-6B22778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5734-4E40-4D48-9474-408C1DD7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EDD1E-950A-4B78-85EA-886737B2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C9FF7-444A-4F5C-AB44-8ABFCD4E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77F6-5765-48B9-A6BA-EE94F6FB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B44A-F9DB-4D92-A8D9-C5E58E6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39B-56F5-44B3-9394-066F46D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B8A3-4302-4738-A2F8-09EAE67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05B40-4527-46A5-972D-C4CF502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5DF2C-6A64-4153-8009-6BB04EF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B0D03-299F-4163-900D-09CA1997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E99D-856C-4D78-9EF5-5DCEDE01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D34F-5ABA-4F49-95B8-3CE62B0C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CCBC0-D5A5-40D7-9711-86AEB27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5214-98B6-44EA-8734-4DC2985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BEFDF-1AAB-4BCB-9244-C9BB034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BFB2-FAC5-4C06-B566-7B560273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461-1576-44FD-9C3A-3D9FD81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4D4B-085B-4EE1-BD59-F3E2E54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1236F-E298-468F-95C9-E7496C9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72067-D836-4672-8370-C3257B3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CEB12-6D05-4AB2-ADEF-A826124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4E55C-5501-4A64-93AE-88966FB9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936E-E099-45ED-98CD-A2CA5AC8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E40E-D3BC-4399-9794-D088ECB9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B2F46-3C5A-4ED2-9957-0656DBDE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1C992-7D82-400A-98A0-FC46580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09FEC-840F-4921-97C8-87767236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D30-4E95-4A20-993F-B7FD7C13790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2AB8-AC2B-4EDF-84EA-6AA1ED1B6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15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64C-E9E0-476B-B03A-DB597F4EF786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5E72-EFEE-4A46-B501-EC76AF51C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6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318-DE52-45D5-9206-4309944B3EFE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3776-7B43-4B20-91AD-2F869F6DF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0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9B9-2782-4720-94EC-1C51BB246773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4E0-3B35-469B-8584-E2BA38476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53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0F57-501C-4DDF-AA7D-A476588ADE1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B1A2-E01A-4116-8536-C94494280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6B3B-973F-49D3-8148-288A59665164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676-18EE-48BB-BFD0-3C7A832D3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93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CEA-782E-41BF-B4C8-38B83A91764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F7BF-E57F-4518-BA86-B7E6F1F63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39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F2E2-235C-4A38-8796-716DBE089D96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D1DB-E021-4D51-B864-33F966FBD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85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85D4-76FB-4CBB-9650-24959F372735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B88-4A87-490D-A41B-07E91ECC6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23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A31-0736-40B4-8EAE-F3F406C64B71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DEC1-D7D0-45BB-AD24-F8B615F37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27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BA35-A54E-4AC2-9001-1D38AB39CAF8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E7D-85D9-42BF-8B18-E1B71178A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323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6E41-BC20-46CE-97C6-E4D2728C4637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3AA6-473B-42A1-AAFA-211EC3ED6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369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713-96BC-44F0-B067-E695EA21E90F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130-CA53-4FD8-AC45-155DB66D6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C0D-4887-4E11-9929-70944B53B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219320" y="1295280"/>
            <a:ext cx="6553080" cy="52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6fc804"/>
                </a:solidFill>
                <a:latin typeface="Impact"/>
                <a:cs typeface="Times New Roman"/>
              </a:rPr>
              <a:t>مغایرت های زمان ما</a:t>
            </a:r>
            <a:r>
              <a:rPr b="1" lang="fa-IR" sz="9600" spc="-1" strike="noStrike">
                <a:solidFill>
                  <a:srgbClr val="6fc804"/>
                </a:solidFill>
                <a:latin typeface="Impact"/>
                <a:ea typeface="Times New Roman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Impact"/>
                <a:cs typeface="0 Badr Bold"/>
              </a:rPr>
              <a:t>شهاب فطین مشاور پردیس علامه طباطبایی اردبی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5961-DA8E-4D1A-ADCD-A680BBDEA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762120" y="68580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تا ماه رفته و برگشته ایم اما قادر نیستیم برای ملاقات همسایه جدیدمان از یک سوی خیابان به آن سو برویم</a:t>
            </a:r>
            <a:r>
              <a:rPr b="1" lang="fa-IR" sz="60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B5D-CA45-4561-9C96-1B7E22370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38088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فضای بیرون را فتح</a:t>
            </a:r>
            <a:r>
              <a:rPr b="1" lang="fa-IR" sz="66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کرده ایم اما فضا درون را نه</a:t>
            </a: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،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اتم را شکافته ایم اما تعصب را  نه</a:t>
            </a:r>
            <a:r>
              <a:rPr b="0" lang="fa-IR" sz="44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B9DE-A101-41D5-929E-EB7C4476D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بیشتر برنامه می ریزیم اما کمتر به انجام </a:t>
            </a:r>
            <a:br>
              <a:rPr sz="7200"/>
            </a:br>
            <a:r>
              <a:rPr b="1" lang="fa-IR" sz="72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می رسانیم</a:t>
            </a:r>
            <a:r>
              <a:rPr b="1" lang="fa-IR" sz="72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1B8-EE24-4F67-9268-907CD671B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457200" y="83808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عجله کردن را آموخته ایم، نه صبر کردن را</a:t>
            </a: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،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5271-E9A5-4392-BC3F-582AFD36E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762120" y="7621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کامپیوترهای بیشتری می سازیم تا اطلاعات بیشتری نگهداری کنیم، اما ارتباطات کمتری داریم</a:t>
            </a:r>
            <a:r>
              <a:rPr b="1" lang="fa-IR" sz="54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AE9F-7FAC-48FF-9DB5-5E475296D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اکنون زمان غذاهای آماده اما دیر هضم است، مردان بلند قامت اما شخصیت های ضعیف</a:t>
            </a:r>
            <a:r>
              <a:rPr b="0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،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E62-457D-4E1E-B13B-41B95C1F3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3352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Arial"/>
                <a:cs typeface="Arial"/>
              </a:rPr>
              <a:t>فرصت بیشتر اما تفریح کمتر، تنوع غذای بیشتر اما تغذیه ناسالم تر؛ درآمد بیشتر اما طلاق بیشتر؛ منازل رویایی تر اما خانواده های از هم پاشیده</a:t>
            </a:r>
            <a:r>
              <a:rPr b="1" lang="fa-IR" sz="6000" spc="-1" strike="noStrike">
                <a:solidFill>
                  <a:srgbClr val="6fc804"/>
                </a:solidFill>
                <a:latin typeface="Arial"/>
                <a:ea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834-F7B4-4144-A20A-3490D89BC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33520" y="609480"/>
            <a:ext cx="8153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Comic Sans MS"/>
                <a:cs typeface="Arial"/>
              </a:rPr>
              <a:t>بدین دلیل است که پیشنهاد</a:t>
            </a:r>
            <a:r>
              <a:rPr b="1" lang="fa-IR" sz="6000" spc="-1" strike="noStrike">
                <a:solidFill>
                  <a:srgbClr val="6fc804"/>
                </a:solidFill>
                <a:latin typeface="Comic Sans MS"/>
                <a:ea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Comic Sans MS"/>
                <a:cs typeface="Arial"/>
              </a:rPr>
              <a:t>می شود از امروز شما هیچ چیز را برای موقعیتهای خاص نگذارید، زیرا </a:t>
            </a:r>
            <a:r>
              <a:rPr b="1" lang="fa-IR" sz="6000" spc="-1" strike="noStrike" u="sng">
                <a:solidFill>
                  <a:srgbClr val="6fc804"/>
                </a:solidFill>
                <a:uFillTx/>
                <a:latin typeface="Comic Sans MS"/>
                <a:cs typeface="Arial"/>
              </a:rPr>
              <a:t>هر روز زندگی یک موقعیت خاص است</a:t>
            </a:r>
            <a:r>
              <a:rPr b="1" lang="fa-IR" sz="6000" spc="-1" strike="noStrike" u="sng">
                <a:solidFill>
                  <a:srgbClr val="6fc804"/>
                </a:solidFill>
                <a:uFillTx/>
                <a:latin typeface="Comic Sans MS"/>
                <a:ea typeface="Arial"/>
              </a:rPr>
              <a:t>.</a:t>
            </a:r>
            <a:r>
              <a:rPr b="0" lang="fa-IR" sz="4400" spc="-1" strike="noStrike" u="sng">
                <a:solidFill>
                  <a:srgbClr val="6fc804"/>
                </a:solidFill>
                <a:uFillTx/>
                <a:latin typeface="Comic Sans MS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3EAC-C3E6-47DE-8AA9-FD8903E45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609480" y="838080"/>
            <a:ext cx="8001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Comic Sans MS"/>
                <a:cs typeface="Arial"/>
              </a:rPr>
              <a:t>زمان بیشتری را با خانواده و دوستانتان بگذرانید، غذای مورد علاقه تان را بخورید و جاهایی را که دوست دارید ببینید</a:t>
            </a:r>
            <a:r>
              <a:rPr b="1" lang="fa-IR" sz="6600" spc="-1" strike="noStrike">
                <a:solidFill>
                  <a:srgbClr val="6fc804"/>
                </a:solidFill>
                <a:latin typeface="Comic Sans MS"/>
                <a:ea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9D77-0974-409F-99CB-B9AA4F476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457200" y="9144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6fc804"/>
                </a:solidFill>
                <a:latin typeface="Comic Sans MS"/>
                <a:cs typeface="Arial"/>
              </a:rPr>
              <a:t>زندگی فقط حفظ بقاء نیست، بلکه زنجیرا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fc804"/>
                </a:solidFill>
                <a:latin typeface="Comic Sans MS"/>
                <a:ea typeface="Arial"/>
              </a:rPr>
              <a:t>.</a:t>
            </a:r>
            <a:r>
              <a:rPr b="1" lang="fa-IR" sz="4400" spc="-1" strike="noStrike">
                <a:solidFill>
                  <a:srgbClr val="6fc804"/>
                </a:solidFill>
                <a:latin typeface="Comic Sans MS"/>
                <a:cs typeface="Arial"/>
              </a:rPr>
              <a:t>از لحظه های لذتبخش اس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357-5A19-40A0-86C9-FBF1B01CA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533520" y="7621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امروزه خانه های بزرگتر اما   خانواده های کوچکتر داریم</a:t>
            </a:r>
            <a:r>
              <a:rPr b="1" lang="fa-IR" sz="72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544F-49C7-4514-8F33-500BDD422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838080" y="8380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Comic Sans MS"/>
                <a:cs typeface="Arial"/>
              </a:rPr>
              <a:t>بهترین عطرتان را برای روز مبادا نگه ندارید و هر لحظه که دوست دارید از آن استفاده کنید</a:t>
            </a:r>
            <a:r>
              <a:rPr b="1" lang="fa-IR" sz="6000" spc="-1" strike="noStrike">
                <a:solidFill>
                  <a:srgbClr val="6fc804"/>
                </a:solidFill>
                <a:latin typeface="Comic Sans MS"/>
                <a:ea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366-44B1-441E-859B-1C921CA9D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83808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7621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بیایید به خانواده و دوستانمان بگوییم که چقدر آنها را دوست داریم. هیچ چیزی را که</a:t>
            </a:r>
            <a:r>
              <a:rPr b="1" lang="fa-IR" sz="60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می تواند به خنده و شادی شما بیفزاید به تاُخیر نیندازید</a:t>
            </a:r>
            <a:r>
              <a:rPr b="1" lang="fa-IR" sz="60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59F3-C851-4E14-A68C-33CEDF67A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533520" y="685800"/>
            <a:ext cx="8001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Comic Sans MS"/>
                <a:cs typeface="Arial"/>
              </a:rPr>
              <a:t>هر روز، هر ساعت و هر دقیقه خاص است و شما</a:t>
            </a:r>
            <a:r>
              <a:rPr b="1" lang="fa-IR" sz="6600" spc="-1" strike="noStrike">
                <a:solidFill>
                  <a:srgbClr val="6fc804"/>
                </a:solidFill>
                <a:latin typeface="Comic Sans MS"/>
                <a:ea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Comic Sans MS"/>
                <a:cs typeface="Arial"/>
              </a:rPr>
              <a:t>نمی دانید که شاید آن</a:t>
            </a:r>
            <a:r>
              <a:rPr b="1" lang="fa-IR" sz="6600" spc="-1" strike="noStrike">
                <a:solidFill>
                  <a:srgbClr val="6fc804"/>
                </a:solidFill>
                <a:latin typeface="Comic Sans MS"/>
                <a:cs typeface="Arial"/>
              </a:rPr>
              <a:t>،  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Comic Sans MS"/>
                <a:cs typeface="Arial"/>
              </a:rPr>
              <a:t>می تواند آخرین لحظه باشد</a:t>
            </a:r>
            <a:r>
              <a:rPr b="1" lang="fa-IR" sz="6600" spc="-1" strike="noStrike">
                <a:solidFill>
                  <a:srgbClr val="6fc804"/>
                </a:solidFill>
                <a:latin typeface="Comic Sans MS"/>
                <a:ea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96CD-E35C-490F-98A0-FB804600C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838080" y="91440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مدارک تحصیلی بالاتر اما درک عمومی پایین تر ؛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 </a:t>
            </a: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آگاهی بیشتر اما قدرت تشخیص کمتر داریم؛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A4FE-B2CE-4D81-98C0-74F50D228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8380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متخصصان بیشتر اما مشکلات نیز بیشتر؛ داروهای بیشتر اما سلامتی کمتر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5AB1-0AD9-4FE4-8DF8-A1F91DA40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76212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خیلی کم می خندیم، خیلی تند رانندگی می کنیم، خیلی زود عصبانی</a:t>
            </a:r>
            <a:r>
              <a:rPr b="1" lang="fa-IR" sz="48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می شویم، تا دیروقت بیدار می مانیم، خیلی خسته از خواب برمی خیزیم، خیلی کم مطالعه می کنیم، اغلب اوقات تلویزیون نگاه می کنیم و بندرت دعا می کنیم</a:t>
            </a:r>
            <a:r>
              <a:rPr b="1" lang="fa-IR" sz="48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0914-23AF-437B-8EA7-2A1D51E3B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304920" y="6094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خیلی زیاد صحبت می کنیم، اما کمتر گوش می کنیم</a:t>
            </a:r>
            <a:r>
              <a:rPr b="0" lang="fa-IR" sz="66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5EE-06B6-4A8F-A086-21DF64F8B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380880" y="609480"/>
            <a:ext cx="83822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زندگی ساختن را یاد گرفته ایم اما نه زندگی کردن را؛ تنها به زندگی سالهای عمر را</a:t>
            </a:r>
            <a:r>
              <a:rPr b="1" lang="fa-IR" sz="66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افزوده ایم و نه زندگی را به سالهای عمرما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51A-D2D6-430C-83BD-187DFBCFD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914400" y="3352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45720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ما ساختمانهای بلندتر داریم اما طبع کوتاه تر</a:t>
            </a:r>
            <a:r>
              <a:rPr b="0" lang="fa-IR" sz="72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،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بزرگراه های پهن تر اما دیدگاه های باریکت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7A6C-FF3C-4964-8E57-7492A34AC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6fc804"/>
                </a:solidFill>
                <a:latin typeface="Times New Roman"/>
                <a:cs typeface="Times New Roman"/>
              </a:rPr>
              <a:t>بیشتر می خریم اما کمتر لذت می بریم</a:t>
            </a:r>
            <a:r>
              <a:rPr b="0" lang="fa-IR" sz="8000" spc="-1" strike="noStrike">
                <a:solidFill>
                  <a:srgbClr val="6fc804"/>
                </a:solidFill>
                <a:latin typeface="Times New Roman"/>
                <a:ea typeface="Times New Roman"/>
              </a:rPr>
              <a:t>.</a:t>
            </a:r>
            <a:br>
              <a:rPr sz="8000"/>
            </a:br>
            <a:br>
              <a:rPr sz="4400"/>
            </a:br>
            <a:br>
              <a:rPr sz="4400"/>
            </a:b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vabet</cp:lastModifiedBy>
  <dcterms:modified xsi:type="dcterms:W3CDTF">2016-11-07T10:47:04Z</dcterms:modified>
  <cp:revision>83</cp:revision>
  <dc:subject/>
  <dc:title>Paradox of Our Times   مغایرت زمانهای ما </dc:title>
</cp:coreProperties>
</file>