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  <p:sldId id="343" r:id="rId98"/>
    <p:sldId id="344" r:id="rId99"/>
    <p:sldId id="345" r:id="rId100"/>
    <p:sldId id="346" r:id="rId101"/>
    <p:sldId id="347" r:id="rId102"/>
    <p:sldId id="348" r:id="rId103"/>
    <p:sldId id="349" r:id="rId104"/>
    <p:sldId id="350" r:id="rId105"/>
    <p:sldId id="351" r:id="rId106"/>
    <p:sldId id="352" r:id="rId107"/>
    <p:sldId id="353" r:id="rId108"/>
    <p:sldId id="354" r:id="rId109"/>
    <p:sldId id="355" r:id="rId110"/>
    <p:sldId id="356" r:id="rId111"/>
    <p:sldId id="357" r:id="rId112"/>
    <p:sldId id="358" r:id="rId113"/>
    <p:sldId id="359" r:id="rId114"/>
    <p:sldId id="360" r:id="rId115"/>
    <p:sldId id="361" r:id="rId116"/>
    <p:sldId id="362" r:id="rId117"/>
    <p:sldId id="363" r:id="rId118"/>
    <p:sldId id="364" r:id="rId119"/>
    <p:sldId id="365" r:id="rId120"/>
    <p:sldId id="366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slide" Target="slides/slide88.xml"/><Relationship Id="rId99" Type="http://schemas.openxmlformats.org/officeDocument/2006/relationships/slide" Target="slides/slide89.xml"/><Relationship Id="rId100" Type="http://schemas.openxmlformats.org/officeDocument/2006/relationships/slide" Target="slides/slide90.xml"/><Relationship Id="rId101" Type="http://schemas.openxmlformats.org/officeDocument/2006/relationships/slide" Target="slides/slide91.xml"/><Relationship Id="rId102" Type="http://schemas.openxmlformats.org/officeDocument/2006/relationships/slide" Target="slides/slide92.xml"/><Relationship Id="rId103" Type="http://schemas.openxmlformats.org/officeDocument/2006/relationships/slide" Target="slides/slide93.xml"/><Relationship Id="rId104" Type="http://schemas.openxmlformats.org/officeDocument/2006/relationships/slide" Target="slides/slide94.xml"/><Relationship Id="rId105" Type="http://schemas.openxmlformats.org/officeDocument/2006/relationships/slide" Target="slides/slide95.xml"/><Relationship Id="rId106" Type="http://schemas.openxmlformats.org/officeDocument/2006/relationships/slide" Target="slides/slide96.xml"/><Relationship Id="rId107" Type="http://schemas.openxmlformats.org/officeDocument/2006/relationships/slide" Target="slides/slide97.xml"/><Relationship Id="rId108" Type="http://schemas.openxmlformats.org/officeDocument/2006/relationships/slide" Target="slides/slide98.xml"/><Relationship Id="rId109" Type="http://schemas.openxmlformats.org/officeDocument/2006/relationships/slide" Target="slides/slide99.xml"/><Relationship Id="rId110" Type="http://schemas.openxmlformats.org/officeDocument/2006/relationships/slide" Target="slides/slide100.xml"/><Relationship Id="rId111" Type="http://schemas.openxmlformats.org/officeDocument/2006/relationships/slide" Target="slides/slide101.xml"/><Relationship Id="rId112" Type="http://schemas.openxmlformats.org/officeDocument/2006/relationships/slide" Target="slides/slide102.xml"/><Relationship Id="rId113" Type="http://schemas.openxmlformats.org/officeDocument/2006/relationships/slide" Target="slides/slide103.xml"/><Relationship Id="rId114" Type="http://schemas.openxmlformats.org/officeDocument/2006/relationships/slide" Target="slides/slide104.xml"/><Relationship Id="rId115" Type="http://schemas.openxmlformats.org/officeDocument/2006/relationships/slide" Target="slides/slide105.xml"/><Relationship Id="rId116" Type="http://schemas.openxmlformats.org/officeDocument/2006/relationships/slide" Target="slides/slide106.xml"/><Relationship Id="rId117" Type="http://schemas.openxmlformats.org/officeDocument/2006/relationships/slide" Target="slides/slide107.xml"/><Relationship Id="rId118" Type="http://schemas.openxmlformats.org/officeDocument/2006/relationships/slide" Target="slides/slide108.xml"/><Relationship Id="rId119" Type="http://schemas.openxmlformats.org/officeDocument/2006/relationships/slide" Target="slides/slide109.xml"/><Relationship Id="rId120" Type="http://schemas.openxmlformats.org/officeDocument/2006/relationships/slide" Target="slides/slide110.xml"/><Relationship Id="rId121" Type="http://schemas.openxmlformats.org/officeDocument/2006/relationships/slide" Target="slides/slide111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941-A3C5-400B-83BE-3249FF51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DCE-4B5A-4B18-9218-5ED068FC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D0F52-5839-400D-95EB-F6EFB061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38657-7FE2-4766-9BA4-7BCF134B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72697-8204-4EA4-8852-8FC4EB33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6DA7D-0255-436C-96EE-26C749E9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40FD5-EBD5-4377-BAAB-773A306C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4A677-4B61-46F2-98B5-273B3AA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4CB7A-4BDA-4534-856F-BF83ABCA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B36CD-77A3-4A88-80B6-EF004643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7260B-9AEF-46FC-BCC2-4AFFD32D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D25-93CC-467E-A147-090B7462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928-30EF-4653-882A-906BD014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399F-48BF-4B7D-9368-533FB597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C764-897F-4AD7-ADAE-CC514D9C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469F-24F1-407C-ADFB-E2F1EE6A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2CCD-3D04-4989-A4A7-55FD1FB6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B0F1-F310-4402-9B94-16B7CF97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D162-E2A9-4A3B-81F2-FD13CB4B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A210-61DC-4A48-A37A-456799FD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E1FA-3998-4366-859D-83D58C7A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9F87-EBEE-4D3D-9B51-51CC08F9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7D51-EFCC-41AA-99C9-D90E1F1F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1C59-E698-4ECF-86D5-E102F3AE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EFEC-03E9-4F86-A1CB-FEDD40A0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65B3-3529-4B2F-BB9C-228F5326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2E69-B2EE-4357-8B2B-5F8F2C1C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9469-B31E-4291-B908-DE6B00A4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7074E-C6FB-40E3-B4F1-7A85E601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A0C1-931C-4BD7-9AE7-15311663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F431-0AB5-4077-AD21-E6ED4893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208-5B9E-45E6-A14C-768C07C5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7DF7-EC02-4B3C-9E72-74817D5B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11554-72F8-4F7E-BF37-9437AFD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1DFF-9D66-4565-B2D1-77580258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C4E5-843C-4545-B01C-7A823F6F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CED08-A049-4929-AFD4-C69AA07B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A8057-FDDD-4041-8D07-D43100DA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F454D-E2CC-4A8E-A1D1-66899107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6D5D-D80F-4735-A508-C0CFE5D9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B1582-F30A-49D8-8C7D-9C6FA64D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5B348-CEB6-4405-87E1-AABF8E43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4B5-3C20-45FF-8F31-F0A0D8F7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26A9D-8415-403C-94A5-54721817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B38CD-A16B-43C4-B0BA-4204F325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4378D-A9E3-46E7-813D-1D8E049A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4538F-AB99-4AE1-8FD8-B5A7F63B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68598-7CCB-49B1-80FC-486CDD27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D6702-5695-44F6-A63E-144493DC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0A668-2250-4953-B6C7-CBB7989C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1CA7-0FE7-43F8-A22B-9711327B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40C0E-EA91-4B71-8DFF-F50933EA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2E2AF-8CC0-4FDB-BFB7-62E76118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B2D-DAB4-4DA5-B91A-0FBFB7AF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F58FB-5F65-40ED-AE97-DABBD569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6BA96-4A97-4DB7-8356-504EF07A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54D33-32B5-4902-9B72-E217DF4D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558ED-C198-46CE-9EFF-681C0AB6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D0B17-0CDD-4EDA-AD9F-1DF90BE2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C9675-979A-4BD3-B8B1-239542CA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B9CD8-112F-44D4-991D-53889729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BB4D2-8E5F-445D-8637-88C3F8B1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2BEE9-1A81-4E8C-B10D-FC319E29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0B9F-F951-4DD6-8445-34856DE1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4F3-4431-49B1-9B3E-9965C250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D462A-5866-4232-AC6B-1CDC7F8B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882CB-1225-4431-9737-B07A458D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1701C-593D-4067-9780-E20FCF9B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A4DD9-F85C-4740-8FB6-E4D87ED0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E2487-2FD0-4B56-99F6-C9D4304C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8D55F-26B6-4E20-B1A4-ABBC172E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773D8-FB55-4813-8C2D-51EE5793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AA9B9-190C-40F6-B8C5-19FEBAE3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4736B-DF7D-44D6-B65F-7B0644B0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EEDB9-C237-461B-8E36-C9D8DFFC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EC91-BE25-44A6-8CBF-A646968E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A0D8E-FF4F-4194-B822-B180BE86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A1822-CEB1-4D13-B3FA-A412CD33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BC097-69FD-4072-BAA1-4A8C09BE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AACC8-A875-42DB-8512-C7A3D570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00F02-C393-44E5-8856-D94D5519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D4242-6989-4101-A311-261D3433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546AC-6176-4E94-849B-5DF4AB22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15A3E-C621-4B72-A136-238276F4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29EEF-EB78-4E3C-A754-255A6B37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85993-0CCB-4716-9ABD-089AE278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8FF-5F9F-4704-8BDA-5A81D92A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D7293-1CDA-4949-9340-D6FF3C56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F266C-0749-4C8E-9BE1-D6820B0D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849A8-CB50-4FB5-8EC2-0BE38F43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5586B-8717-48D8-A34C-5F5C6A77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B8CBA-D38B-4F5F-8302-AD3597DA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6D0FA-BCEF-4103-9377-B59500C5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7FA8E-1CA5-49EE-A99B-35258E6A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F398D-37F1-4BEB-825F-1EBEDF1C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645EB-4693-4066-A70B-401B9875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61FE0-6AE2-4FB6-AA33-DDFEAE28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360-C35F-4E43-A403-528B274B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D6070-2AC6-4C3E-8EFB-19A3019E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68C59-BAD1-4E1C-9AAC-AC2072E9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D6982-EE5D-4B0E-A688-59BBD954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1B1E5-62C7-47ED-AA12-CDBAB772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6F4C3-4CDC-420F-B3FC-274688EC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C3AC9-2876-4E4D-8B26-BE4C1770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74C9E-B779-4CE3-BB55-8A1AC253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7C6A2-2527-45EE-A458-FE8AB9EF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BE654-DDF4-4C96-823F-F9F413AF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8F207-F449-4C74-9481-B37F3844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65BA-D0FF-4019-9FE9-A2CDF00BB0D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E69E-74EA-47ED-B84C-2B4C4EAE89B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37EB-C54E-4045-ADD4-261A7032E6D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1AD4-BF57-4EB5-9FEF-61EA5C811DB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0ABD-C647-473A-A6DD-27A4DCBBB90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104D-FB92-4F91-9187-46FE1EE796F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1909-A46D-49D8-A410-81B4256790D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CB06-920C-4529-98B8-F88837034EC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7537-2935-49B9-89E6-0542D58B748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914400"/>
            <a:ext cx="8763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جمع آوری داده 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ستیابی و شئونات اخلاق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و گزین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" y="685800"/>
            <a:ext cx="8610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برخی پروژه های تحقیق،تمرکز جمع آوری داده ها بر اسناد گوناگون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 مبنای کتابخ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مبنای رای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شتن یک کانون خط مش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شتن یک جهت گیری تاریخ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2"/>
          <p:cNvSpPr txBox="1"/>
          <p:nvPr/>
        </p:nvSpPr>
        <p:spPr>
          <a:xfrm>
            <a:off x="5638680" y="533520"/>
            <a:ext cx="2681280" cy="7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نوشتتن چکید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80880" y="1905120"/>
            <a:ext cx="739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80880" y="2057400"/>
            <a:ext cx="7848720" cy="22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چکیده نباید بیش از بیست واژه باش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خلاصه ای از موضوع ، متن ، روش و نتایج کتاب یا مقاله و بیش از نیم ساعت نباید برای آن وقت صرف کرد.</a:t>
            </a:r>
            <a:r>
              <a:rPr b="0" lang="fa-I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3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2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2"/>
          <p:cNvSpPr txBox="1"/>
          <p:nvPr/>
        </p:nvSpPr>
        <p:spPr>
          <a:xfrm>
            <a:off x="3048120" y="685800"/>
            <a:ext cx="3047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راحل ارزیاب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4" name="WordArt 3"/>
          <p:cNvSpPr txBox="1"/>
          <p:nvPr/>
        </p:nvSpPr>
        <p:spPr>
          <a:xfrm>
            <a:off x="2819520" y="213372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مسائل عمومی این مرحله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533520" y="3421080"/>
            <a:ext cx="73152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کار در چه زمانی به دست طرف مقابل می رس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وظایف استاد راهنما ، ارزیاب ، سرپرست ، مشاور و... چیس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5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8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5800" y="1600200"/>
            <a:ext cx="7086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چه رویدادهای ویژه ای با مراحل ارزیابی مرتبط اند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با انتقاد،برگشت به منظور تجدید نظر یا رد شدن کارتان چگونه کنار می آیی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WordArt 3"/>
          <p:cNvSpPr txBox="1"/>
          <p:nvPr/>
        </p:nvSpPr>
        <p:spPr>
          <a:xfrm>
            <a:off x="2666880" y="4724280"/>
            <a:ext cx="3857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زمان و موقعیت دریافت کار </a:t>
            </a:r>
            <a:endParaRPr b="0" lang="en-US" sz="32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5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WordArt 3"/>
          <p:cNvSpPr txBox="1"/>
          <p:nvPr/>
        </p:nvSpPr>
        <p:spPr>
          <a:xfrm>
            <a:off x="1752480" y="68580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رزیابی های متداول دانشگاه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152280" y="2286000"/>
            <a:ext cx="73152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هرقدر سطح تعیین کیفیت بالاتر باشد احتمال بیشتری دارد که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ارزشیابی شما توسط ارزشیابان خارجی انجام ش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براساس کار خودتان ارزیابی می شو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1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838080" y="1600200"/>
            <a:ext cx="6934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در جریان ارزیابی مجبور به شرکت در جلسه ارائه باشی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</a:rPr>
              <a:t>- کارتان به منظور انجام برخی اصلاحات جزیی برگردانده شو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3"/>
          <p:cNvSpPr txBox="1"/>
          <p:nvPr/>
        </p:nvSpPr>
        <p:spPr>
          <a:xfrm>
            <a:off x="838080" y="533520"/>
            <a:ext cx="6134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کارهایی که قبل از ارائه تحقیق باید انجام داد :</a:t>
            </a:r>
            <a:endParaRPr b="0" lang="en-US" sz="32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762120" y="2590920"/>
            <a:ext cx="6095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رس و جو کنید و ببینید چه کسانی در جلسه هستن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نحوه عرضه نتایج تحقیق خود را تمرین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5 -0.0222 L 5.55112E-017 8.09249E-007 E">
                                      <p:cBhvr>
                                        <p:cTn id="948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3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6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914400" y="144000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عی کنید اطلاعاتتان به روز باش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اسخگویی به سوالات را تمرین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والاتی که مایلید از شما بپرسند ،تهیه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عی کنید از جلسه ارائه لذت بب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3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2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9" dur="20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2" dur="20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914400" y="1828800"/>
            <a:ext cx="7010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دانید که شما نیز خود مقیاسی برای کنترل دا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آماده دفاع از کار و پیشرفت آن باشید و در عین حال محدودیت ها ونواقص آن را نیز بشناس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2"/>
          <p:cNvSpPr txBox="1"/>
          <p:nvPr/>
        </p:nvSpPr>
        <p:spPr>
          <a:xfrm>
            <a:off x="380880" y="838080"/>
            <a:ext cx="851544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با انتقاد ، برگشت به منظور تجدید نظر یا رد شدن کارتان چگونه کنار بیایید ؟</a:t>
            </a:r>
            <a:endParaRPr b="0" lang="en-US" sz="2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6" name="WordArt 3"/>
          <p:cNvSpPr txBox="1"/>
          <p:nvPr/>
        </p:nvSpPr>
        <p:spPr>
          <a:xfrm>
            <a:off x="2971800" y="2209680"/>
            <a:ext cx="3191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</a:t>
            </a:r>
            <a:r>
              <a:rPr b="0" lang="hi-I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واکنش نسبت به نقد</a:t>
            </a: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1295280" y="3429000"/>
            <a:ext cx="5791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نقد را با روی باز بپذی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صحت و مفهوم ضمنی نقد را برای تحقیق خود ارزیابی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838080" y="1600200"/>
            <a:ext cx="6705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نقد را با واکنش های دیگری که کارتان بوجود آورده ، مقایسه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افته ها و استراتژیهای تحقیق تان را در صورت لزوم اصلاح ک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اسخی سنجیده به نقد بده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8670960" y="1068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304920" y="762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0" y="3048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380880" y="228600"/>
            <a:ext cx="8458200" cy="9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84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دلایل استفاده ازداده های موجود(ثانویه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زمان بر و پر هزینه بودن جمع آوری داده های اولی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مکان داده های کا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گرایش به سمت استفاده ازگرایش های موج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کمل داده های اولیه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2"/>
          <p:cNvSpPr txBox="1"/>
          <p:nvPr/>
        </p:nvSpPr>
        <p:spPr>
          <a:xfrm>
            <a:off x="457200" y="838080"/>
            <a:ext cx="838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99cc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یست مورد از کارهایی که بعد از اتمام کار تحقیقی می توانید انجام دهید: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ccffcc"/>
                  </a:gs>
                  <a:gs pos="50000">
                    <a:srgbClr val="99cc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1066680" y="2666880"/>
            <a:ext cx="6934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ه تعطیلات برو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ه رختخواب برو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ه سونا برو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762120" y="1363680"/>
            <a:ext cx="73911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ا دوستان صمیمی جشن بگی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سمینارهایی برای اشاعه یافته هایتان ترتیب ده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کتاب جالب بخوان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رژیم بگیر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افته هایتان را تحقق بخش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9- 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8" dur="2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1" dur="2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4" dur="20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7" dur="20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0" dur="20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3" dur="20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6" dur="20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228600" y="99216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5334120" y="1676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04920" y="1447920"/>
            <a:ext cx="8413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مکان تایید،اصلاح یا نقض یافت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مکان تمرکز برتحلیل و تفس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مکان انجام یک مطالعه تحقیقی جدای ازآنچه قبلا صورت گرفت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دلیل استفاده داده های بیشتر از آنچه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7832880" y="992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152280" y="914400"/>
            <a:ext cx="86266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85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تکنیک های گوناگون مصاحب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رودررو یا درفاص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درخانه یا درمحل ک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ساختاریافته، بدون ساختار، نیمه ساختاریاف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براساس فرم های متن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4648320" y="1066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8610480" y="1525680"/>
            <a:ext cx="24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04920" y="1752480"/>
            <a:ext cx="8474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نفره یا گروه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با اطلاع یا بدون اطلاع قب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صاحبه ثبت یا ضبط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228600" y="10666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3733920" y="19810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52280" y="1144440"/>
            <a:ext cx="86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228600" y="1066680"/>
            <a:ext cx="86868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                      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مشاهده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هده ساختار یاف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هده بدون ساخت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هده ساختار یافت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لف:ضبط کردن وقایع به شیوه ای اصولی به همان صورتی که اتفاق افتا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533520" y="914400"/>
            <a:ext cx="8153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: کد گذاری این وقایع در دسته های ازپیش مشخص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: تحلیل بعدی وقایع برای ارائه توصیف رابطه معلم-شاگ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228600" y="1523880"/>
            <a:ext cx="8686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پرسش نامه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ین روش یکی ازمتداول ترین تکنیک های تحقیق اجتماعی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ک پرسش نامه کاملا ایده ال وجود ن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095880" y="1905120"/>
            <a:ext cx="228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8518680" y="1125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533520" y="1981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04920" y="685800"/>
            <a:ext cx="8381880" cy="58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1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انواع پرسش نامه های میدان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میت یا اطلاع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قوله(نو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هرست یا انتخاب چند گ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نجش(معیا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جه بن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دول یا چار خانه ترکی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ز(نا محدو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0" y="1049400"/>
            <a:ext cx="8854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228600" y="1125360"/>
            <a:ext cx="870264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2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کاتی راجع به تنظیم سوال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طرح سوالات م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وجه به سوالاتی که مستلزم به خاطر آوردن یااطلاعات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اکید بر سوالات ساده به جای پیچی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2280" y="1523880"/>
            <a:ext cx="8763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کار گیری تکنیک ها یی برای جمع آور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ناد ،مصاحبه ها، مشاهدا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سشنامه ها،مستند سازی پیشرفت ک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از و نشیب ها درجمع آور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80880" y="1219320"/>
            <a:ext cx="8474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طرح سوالاتی که جواب مشخصی را تداعی نک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سوالات من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سوالات فرضی مافوق تجربه پاسخگ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سوالاتی که حالت تدافعی ایجاد میک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جتناب از سوالاتی که حدی بر آنها نی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304920" y="838080"/>
            <a:ext cx="8610480" cy="58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ثبت پیشرفت ک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یادداشت بردا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ادداشت های روزانه تحقی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عبه ها و فایل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یان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228600" y="1353960"/>
            <a:ext cx="877896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ضمیمه های کارت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4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گهداری اسناد تحقی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گی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از و نشیب جمع آور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نهای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8959680" y="1219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28600" y="1201680"/>
            <a:ext cx="877896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وسواس و دل مشغولی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ه کار های اصلی که می توانند به شما کمک کن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طرح ریزی و زمان بندی تحقیق به طور م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موزش به یک دو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دا کردن و استفاده از شبکه ای از محقق های پیشی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228600" y="1353960"/>
            <a:ext cx="8702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0" lang="fa-IR" sz="4000" spc="-1" strike="noStrike">
                <a:solidFill>
                  <a:srgbClr val="ad1f1f"/>
                </a:solidFill>
                <a:latin typeface="Arial Black"/>
              </a:rPr>
              <a:t>فصل هف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تحلیل داده ها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این فصل با مباحث زیر سازماندهی شده است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04920" y="1278000"/>
            <a:ext cx="86263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کل داده های ش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اهیت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ازمانده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حلیل رایان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آیند تحلی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-304920" y="6858000"/>
            <a:ext cx="847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228600" y="1447920"/>
            <a:ext cx="8610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اسنا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مصاحب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مشاهد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حلیل پرسشنام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10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فسی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2803680" y="3411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581280" y="2895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5867280" y="2125800"/>
            <a:ext cx="243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5486400" y="220968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457200" y="1887480"/>
            <a:ext cx="8397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شکل داده ها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و جریان کلی که بر شیوه شما برای تحلیل داده هاتاثیر می گذارند در این بخش بررسی شده ا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وضعیت داده های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حل و امکانات تحلی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228600" y="1430280"/>
            <a:ext cx="855036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5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داده های منظم یا نا منظ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نمود نظم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فتر یادداشت های مرت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یش های بر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جموعه ای از پاسخ نام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وشه های رنگی که نام گذاری شد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304920" y="2209680"/>
            <a:ext cx="84135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وار های رونوشت شده یا نام گذا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صویر یا طرح واض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ایگاه اطلاعاتی کامپیو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1249200"/>
            <a:ext cx="824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228600" y="1143000"/>
            <a:ext cx="86104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دستیابی و شئون اخلاق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وضوع تحقیق شما ممکن است مستلزم دستیابی به یک یا چند مورد زیر باش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ناد نگهداری شده درکتابخانه یا موسس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فراد درمنزل، اجتماعات بزرگتر یا دراینترن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228600" y="1295280"/>
            <a:ext cx="84898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cc99ff"/>
                </a:solidFill>
                <a:latin typeface="Arial Black"/>
              </a:rPr>
              <a:t>نمود هرج و مرج یا بی نظم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ادداشت های متفرق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غذ پار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بدی از مطالب جمع آوری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وشه های خالی یا متور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228600" y="1582560"/>
            <a:ext cx="87789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قل قول های با شتاب نوشته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قل قول هایی که نصف آنها به خاطر سپرده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غذ پوشه های که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ادداشت های ناخوا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304920" y="1582560"/>
            <a:ext cx="84740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96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از بی نظمی تا نظم و برگشت دوبا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ad1f1f"/>
                </a:solidFill>
                <a:latin typeface="Arial Black"/>
              </a:rPr>
              <a:t>پیدایش بی نظمی         نبود کنترل               پیدایش 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fa-IR" sz="3200" spc="-1" strike="noStrike">
                <a:solidFill>
                  <a:srgbClr val="ad1f1f"/>
                </a:solidFill>
                <a:latin typeface="Arial Black"/>
              </a:rPr>
              <a:t>جستجوی ساخت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"/>
          <p:cNvSpPr/>
          <p:nvPr/>
        </p:nvSpPr>
        <p:spPr>
          <a:xfrm>
            <a:off x="327672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2666880" y="3124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57150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 flipH="1">
            <a:off x="1980720" y="411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 flipV="1">
            <a:off x="1981080" y="3428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76960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H="1">
            <a:off x="624852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212760" y="1523880"/>
            <a:ext cx="8931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مرین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49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تحلیل مکان،فضا و زم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قسیم کمی / کی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مرین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50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فکر کردن درباره اطلاعات جمع آوری شده کلمات به چه معنا هستند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28600" y="1828800"/>
            <a:ext cx="8489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600" spc="-1" strike="noStrike">
                <a:solidFill>
                  <a:srgbClr val="33cccc"/>
                </a:solidFill>
                <a:latin typeface="Arial Black"/>
              </a:rPr>
              <a:t>سازماندهی داد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99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: تکنیک هایی برای سازماندهی داد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مز گذاری 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حاشیه نویس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ام گذاری   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انتخ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خلاص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228600" y="1523880"/>
            <a:ext cx="8718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1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واردی در تحلیل مستند برای هر سندی که تحلیل میکنید سوالات زیر را از خود بپرسید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ؤلفین چه کسانی هست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وقعیت آنها چی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ویه و مشی آنها چیست؟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457200" y="1600200"/>
            <a:ext cx="8397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در کجا و چه زمانی این سند تهیه شده ا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چگونه و برای چه کسانی تهیه شده ا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فرضیه های اصلی آنها چی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تا چه حد مباحث آن قانع کننده است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8- 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9- 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304920" y="1658880"/>
            <a:ext cx="8474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تحلیل مصاحبه ها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3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مونه هایی از تحلیل مصاحب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بار: نخستین مرحله تحلی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محوری: یافتن ارتباط بین طبقه بندی های مشخص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28600" y="1582560"/>
            <a:ext cx="83977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نظری: تحول یک الگو و یک قالب شرط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4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ثال هایی از تحلیل شواه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5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ترکیب مشاهده با تکنیک های دیگ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8823240" y="1506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304920" y="1897200"/>
            <a:ext cx="84358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6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نمونه هایی از تحلیل پرسشنام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خی از ضوابط اصولی مر بوط به کد گذ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ها باید کاملا از هم متمایز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ها باید دقیق و جامع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ها باید در سرتاسر نوشته یک دست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380880" y="685800"/>
            <a:ext cx="847404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تمرین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40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واردی برای بررسی پیش از جستجوی دستیاب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باره چه کسی یا موضوعی تحقیق می کنید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فراد خاصی که نیازمند کسب اجازه از آنها هستید کدام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هدف شما معقولانه ا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می توانید مشکلات بالقوه مربوط به دستیابی را بشناسی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9051840" y="1295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828800"/>
            <a:ext cx="80010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مراحل پنجگانه کد گذا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شکیل چهار چوب برای سوال هایی که از قبل کد بندی شده یا نشده ا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اختن کتابچه کد و دستورات کد گذ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بندی پرسشنام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228600" y="1981080"/>
            <a:ext cx="84898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تقال اطلاعات به رای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رسی و پاکسازی اطلاع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”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تحلیل پرسشنامه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ین داده ها میتوانند کمی یا کیفی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1582560"/>
            <a:ext cx="8702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7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سطوح مختلف تجزیه و تحلیل های کی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مار توصیف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راوانی متغیرها،میانگین ها،دامنه تغیی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مار استنباط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 آورد کردن اهمیت یافته ها و نتایج به دست آم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304920" y="1582560"/>
            <a:ext cx="8397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ت های س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دول متقاطع یا روابط علت و معلولی بی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متغی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حلیل چند متغی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طالعه ارتباط بین چند متغ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28600" y="1735200"/>
            <a:ext cx="8702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08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)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آمار توصی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داده های اسمی و توصی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ت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 صد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قسمت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28600" y="150660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داده های فاصله ای و نس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دازه گیری گرایشات مرکز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یانگین                    - دامنه تغیی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یانه                       - انحراف معی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304920" y="1506600"/>
            <a:ext cx="8550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ثال هایی از آمار استنباط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لف- مربع خی(کای اسکوا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: برای مقایسه مجمو عه ای از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 پیش فرض نمونه گیری تصادفی و داده های اسم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228600" y="1506600"/>
            <a:ext cx="86263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کولومو گراو-اسمیر نو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: برای مقایسه دو دسته د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 پیش فرض نمونه گیری تصادفی و داده های ترتی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228600" y="1506600"/>
            <a:ext cx="86263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- </a:t>
            </a: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آزمون تی – استودن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: الف) مقایسه میانگین یک نمون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)   مقایسه نمونه های دو نمون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ا پیش فرض نمونه گیری تصادفی،داده های فاصله ای و توزیع طبیعی داد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304920" y="1658880"/>
            <a:ext cx="84740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هایی از داده های کم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م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رتی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اصل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533520" y="1220760"/>
            <a:ext cx="7711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4876920" y="2971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228600" y="1066680"/>
            <a:ext cx="8321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76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- چند راهبردمفید برای مواردی که موفق نمی شوید به افراد یا موسسات دست یابید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سراغ افراد دیگر برو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سراغ موسسات دیگر برو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ه سراغ فرد دیگری درهمان موسسه برو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380880" y="1430280"/>
            <a:ext cx="8398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می: در کد گذاری یک پرسشنامه در تحلیل کامپیوتری پاس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ذکر» به عنوان «یک» و «مونث» به عنوان «دو» ک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گذاری میشو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228600" y="1371600"/>
            <a:ext cx="86425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رتیبی: در کد گذاری یک پرسشنامه، پاسخ های «خیل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ضایت بخش» «رضایت بخش» و «نه رضایت بخش و نه غ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ضایت بخش» «خیلی رضایت بخش و قانع کننده» به ترتی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د گذاری شده ا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304920" y="1506600"/>
            <a:ext cx="86263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فاصله ای: اندازه گیری ها بر اساس معیار کمی صورت گرف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ت که در آن تفاوت های بین نقاط به طور دائم اندازه (سای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شابه ولی نقطه اصلی اختیاری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228600" y="1582560"/>
            <a:ext cx="8626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بی: مقیاس و اندازه گیری ها بر اساس معیار کمی صورت گرفته است که در آن تفاوت های بین نقاط به طور دائم به یک اندازه مشابه هست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ثال: سن افراد-جمعیت کشور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304920" y="1735200"/>
            <a:ext cx="86263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111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معنی داری،تعمیم پذی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روایی و اعتب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عنی داری: یک تعریف آماری خاص و یک تعریف عامیانه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قابلیت تعمیم پذیری: ارتباط خاصی با تحقیق در مقیاس کوچک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0" y="1506600"/>
            <a:ext cx="90075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وایی: روش و دیدگاه و تکنیک های شما واقعا با موضوعی که تحقیق میکنید ارتباط دار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عتبار: اگر یک محقق دیگر هم تحقیق شما را انجام بدهد به یک نتیجه مشابه می رس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3"/>
          <p:cNvSpPr/>
          <p:nvPr/>
        </p:nvSpPr>
        <p:spPr>
          <a:xfrm>
            <a:off x="457200" y="197316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 تحقیق بدون نگارش معنی ن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WordArt 4"/>
          <p:cNvSpPr txBox="1"/>
          <p:nvPr/>
        </p:nvSpPr>
        <p:spPr>
          <a:xfrm>
            <a:off x="1066680" y="4191120"/>
            <a:ext cx="480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این بخش شامل قسمت های زیر است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304920" y="838080"/>
            <a:ext cx="58672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هیه پیش نویس و طراحی مجدد آن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گونه بحث کنیم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گونه انتقاد کنیم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ای چه افرادی می نویسی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609480" y="990720"/>
            <a:ext cx="556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ستور ، نشانه گذاری ، ام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برد جدول ، نمودار و تصاویر دیگ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هراس ها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152280" y="1752480"/>
            <a:ext cx="8610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وقتی سرشان کمتر شلوغ است، دوباره تلاش کن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هکار های تحقیقتان راعوض کن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سود بردن از دستیابی به افراد یا موسسات، کاری یک مرحل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یست،یک فرایند مستمر و پر زحمت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274320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وشتن آیینه ای است که کل فلسفه تحقیق تا حدی در آن نمایان است . اساس این کار سازمان ، نظم و رعایت آداب است . نگارش تحقیق باید زود شروع شود و به شکل یک وظیفه مستمر در آ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838080" y="914400"/>
            <a:ext cx="571500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تهیه پیش نویس و باز نویسی آ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WordArt 2"/>
          <p:cNvSpPr txBox="1"/>
          <p:nvPr/>
        </p:nvSpPr>
        <p:spPr>
          <a:xfrm>
            <a:off x="1219320" y="1447920"/>
            <a:ext cx="5734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دو مهارت اصلی در این قسمت کدامند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1066680" y="3657600"/>
            <a:ext cx="60962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شخیص اینکه چه زمانی نیاز به باز نویسی گزارش یا پایان نامه و یا بخشی از آن داری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دانستن اینکه چه زمانی به اندازه کافی باز نویسی برنامه ریزی کرده اید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143000" y="3505320"/>
            <a:ext cx="548640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قط نمی توانم شروع کن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کلمات زیادی برای نوشتن ه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3"/>
          <p:cNvSpPr txBox="1"/>
          <p:nvPr/>
        </p:nvSpPr>
        <p:spPr>
          <a:xfrm rot="5400000">
            <a:off x="6281280" y="3776400"/>
            <a:ext cx="3733920" cy="600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خانه </a:t>
            </a: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12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108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8" name="WordArt 4"/>
          <p:cNvSpPr txBox="1"/>
          <p:nvPr/>
        </p:nvSpPr>
        <p:spPr>
          <a:xfrm>
            <a:off x="1066680" y="2438280"/>
            <a:ext cx="5334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66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یست نوع طفره روی معمو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66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066680" y="106668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طفره رفتن را بشناسیم و خود را از آن خلاص کنی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609480" y="1371600"/>
            <a:ext cx="56390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لفاظ کمی برای نوشتن به ذهنم می آ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قبلا هرگز رساله آموزشی ننوشته ا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 پیش از این هیچگاه گزارش کار ننوشته ا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ردا انجامش می ده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سر حال نیست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609480" y="1287360"/>
            <a:ext cx="5562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8-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وج سواری را ترجیح می ده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یلی شلوغ است ، تمرکز ندار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-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می توانم تایپ کن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پردازشگرم از کار افتاده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ین کار قبلا صورت گرفته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533520" y="1295280"/>
            <a:ext cx="5715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کته اصلی چیست ؟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اید بروم اجاق گاز را تمییز کن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یلی سخت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در نوشتن اصلا خوب نیست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قط نیم ساعت وقت دار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990720" y="1600200"/>
            <a:ext cx="5257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8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ی کاش هرگز شروع نمی کرد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حالم خوب نی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چه ها زودتر به خانه برمی گردن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3"/>
          <p:cNvSpPr/>
          <p:nvPr/>
        </p:nvSpPr>
        <p:spPr>
          <a:xfrm>
            <a:off x="762120" y="8380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یست توصیه برای غلبه کردن برطفره رفتن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914400" y="2209680"/>
            <a:ext cx="5410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برداری از آنچه خوانده ا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برداری از مصاحبه 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برداری از گفتگو با استاد راهنم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هیه پیش نویس صفحه فهر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609480" y="1440000"/>
            <a:ext cx="55627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یپ منابع یا کتابنام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هیه یک پیش نویس برای یک بخش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یپ نقل قول 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یادداشت نکاتی که ممکن است به آنها مراجعه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یزان معینی از نوشتن در هر روز ، ماه ، هفته ، سال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609480" y="1219320"/>
            <a:ext cx="56390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 –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ظریات خود را ضبط و توصیف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هر چه به ذهنتان می رسد بنویس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در نظر بگیرید چه تعداد کلمه می خواهید در هر فصل بنویس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ویرایش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28600" y="533520"/>
            <a:ext cx="86263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خانه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79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: ”نمونه گیری تصادفی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تصادفی س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اصو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خوش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دست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طبق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762120" y="1600200"/>
            <a:ext cx="5410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ز خودتان پذیرایی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ه تعلل های خودتان بیندیش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6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ا وقتی چیزی ننوشته اید به کار دیگری نپرداز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7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وشته خود را به دیگری بدهید تا بخوان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685800" y="1523880"/>
            <a:ext cx="5410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8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در مورد آن با دیگران گفت و گو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9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گارش را در وقت دیگری از روز یا هفته انجام ده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هر چیزی به نظرتان می رسد ، ننویس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838080" y="2201760"/>
            <a:ext cx="5562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ما به ویرایش به دلایل زیر نیازمند هست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گرد آوری مطالب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قلیل طول یا اندازه آنچه نوشته ا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صلاح بخش های قدیم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WordArt 3"/>
          <p:cNvSpPr txBox="1"/>
          <p:nvPr/>
        </p:nvSpPr>
        <p:spPr>
          <a:xfrm>
            <a:off x="1066680" y="838080"/>
            <a:ext cx="52578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</a:t>
            </a: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ویرایش و اصلاح نوشته ها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685800" y="2362320"/>
            <a:ext cx="5257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عویض ساختار آنچه نوشته ا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اسخ به توصیه های خوانندگا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حذف مکررات غیر عم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914400" y="982800"/>
            <a:ext cx="525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1523880" y="22096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1752480" y="212580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کوتاه کردن نوشت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762120" y="3429000"/>
            <a:ext cx="5257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حذف کلمات تکراری و غیر ضروری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لاصه کردن دو یا چند جمل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حذف ارجاعاتی که ربطی به بحث ندار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7"/>
          <p:cNvSpPr txBox="1"/>
          <p:nvPr/>
        </p:nvSpPr>
        <p:spPr>
          <a:xfrm>
            <a:off x="1295280" y="762120"/>
            <a:ext cx="5257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ندازه مناسب در نوشتن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457200" y="1981080"/>
            <a:ext cx="6248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دن جدول و نمودار به جای توصیفات طولان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داشتن کل بخش یا حتی فصل در جایی که به موضوع بحث لطمه نز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990720" y="2743200"/>
            <a:ext cx="556236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روش برنامه ریزی شده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روش بریدن و کاستن</a:t>
            </a: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WordArt 3"/>
          <p:cNvSpPr txBox="1"/>
          <p:nvPr/>
        </p:nvSpPr>
        <p:spPr>
          <a:xfrm>
            <a:off x="533520" y="1143000"/>
            <a:ext cx="606744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دو روش اساسی در تعیین اندازه نگار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3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335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609480" y="914400"/>
            <a:ext cx="5486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گونه نگارش خود را گسترش بدهید 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ه جستجوی مراجع و نقل قولهای بیشتر در ارتباط با موضوعات یا مطالبی که می نویسید ، بپرداز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ا بسط دادن موضوع مورد بحث ، جملات جدید در پاراگراف ها وارد ک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762120" y="1668600"/>
            <a:ext cx="54864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ها یا فصل های جدید مرتبط بیفزای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ضمائمی درون متن اصلی بگنجان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حث درباره روش خود و چگونگی عملکرد آن را گسترش دهی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685800" y="3429000"/>
            <a:ext cx="586728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سازمان دهی نوشت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گزارش یا رساله شما از لحاظ سازمان باید شامل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عناصر زیر باش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WordArt 3"/>
          <p:cNvSpPr txBox="1"/>
          <p:nvPr/>
        </p:nvSpPr>
        <p:spPr>
          <a:xfrm>
            <a:off x="1447920" y="533520"/>
            <a:ext cx="4572000" cy="12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قابله با وقفه ه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2209680" y="2133720"/>
            <a:ext cx="37339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c42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چگونه بحث کنیم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fc42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1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3352680" y="1066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04920" y="915840"/>
            <a:ext cx="847404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Arial Black"/>
              </a:rPr>
              <a:t>نمونه گیری غیر تصادف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راح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اختی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سهمی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هدفم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ابعا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685800" y="1905120"/>
            <a:ext cx="5562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قدمه در ابتدا و نتیجه گیری در انت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ها یا فصول متمایز که ممکن است به زیر بخش ها یا زیر فصل ها تقسیم شوند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پیشینه تحقیق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جدول ، نمودار ، نقش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بخش های پیش از متن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WordArt 2"/>
          <p:cNvSpPr txBox="1"/>
          <p:nvPr/>
        </p:nvSpPr>
        <p:spPr>
          <a:xfrm>
            <a:off x="2362320" y="1066680"/>
            <a:ext cx="2066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مباحث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914400" y="2438280"/>
            <a:ext cx="5638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زمین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یک یا چند درون مای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ظم و ترتیب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وستگ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833 -0.0111 L 0 1.21387E-006 E">
                                      <p:cBhvr>
                                        <p:cTn id="415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 rot="5400000">
            <a:off x="6129000" y="4462560"/>
            <a:ext cx="3352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خانه </a:t>
            </a: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16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007600"/>
                  </a:gs>
                  <a:gs pos="50000">
                    <a:srgbClr val="00ff00"/>
                  </a:gs>
                  <a:gs pos="100000">
                    <a:srgbClr val="007600"/>
                  </a:gs>
                </a:gsLst>
                <a:lin ang="108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533520" y="1135080"/>
            <a:ext cx="556236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رساله چیزی بیشتر از یک ثبت منفصل کار تحقیقی ا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ساختار رسمی رسال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فهرست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چکید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4"/>
          <p:cNvSpPr txBox="1"/>
          <p:nvPr/>
        </p:nvSpPr>
        <p:spPr>
          <a:xfrm>
            <a:off x="914400" y="685800"/>
            <a:ext cx="56959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شکل های ممکن برای رساله دانشگاه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762120" y="1744560"/>
            <a:ext cx="5410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قدمه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% حجم نوشته 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رور منابع پیشین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% 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طرح و روش تحقیق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جرای تحقیق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ارائه و تجزیه و تحلیل اطلاعات (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5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457200" y="1440000"/>
            <a:ext cx="5791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نظریه پردازی و نقد نتایج یافته ها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خلاصه و نتیجه گیری (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%)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منابع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کتابنامه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ضمائ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457200" y="1981080"/>
            <a:ext cx="5791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گیزه های حاکم بر نوشته های دانشگاهی عبارتند از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وافقت با نظریه ای خاص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یشنهاد یا ارائه یک نظریه جدی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صدیق اینکه نظریه حاضر امتیازهایی دارد اما نیاز به تقویت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3"/>
          <p:cNvSpPr txBox="1"/>
          <p:nvPr/>
        </p:nvSpPr>
        <p:spPr>
          <a:xfrm>
            <a:off x="1752480" y="762120"/>
            <a:ext cx="44960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چگونه نقد کنیم 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457200" y="1515960"/>
            <a:ext cx="62485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رائه مجدد یک نظریه یا اظهار آن برای یک توضیح بهت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د کردن یا نپذیرفتن یک نظریه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نطباق دو نظریه که ممکن است متفاوت باش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عتراف به نادرست بودن نظر قبلی ما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3"/>
          <p:cNvSpPr/>
          <p:nvPr/>
        </p:nvSpPr>
        <p:spPr>
          <a:xfrm>
            <a:off x="304920" y="2286000"/>
            <a:ext cx="670536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 Black"/>
              </a:rPr>
              <a:t>راهنمایی هایی درباره دستور و نشانه گذار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جتناب از جملات طولان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پاراگراف های یک جمل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جملات ربطی در ابتدای پاراگراف ها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4"/>
          <p:cNvSpPr txBox="1"/>
          <p:nvPr/>
        </p:nvSpPr>
        <p:spPr>
          <a:xfrm>
            <a:off x="685800" y="990720"/>
            <a:ext cx="5715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نتقاد به معنی مزخرف تلقی کردن نیست .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5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33520" y="1668600"/>
            <a:ext cx="5715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پرهیز از دادن مطالب به صورت فهرست های طولانی ضمیمه ا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تفاده از نشانه گذاری معیا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کار بستن درست علامت نقل قول و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3"/>
          <p:cNvSpPr txBox="1"/>
          <p:nvPr/>
        </p:nvSpPr>
        <p:spPr>
          <a:xfrm>
            <a:off x="1600200" y="533520"/>
            <a:ext cx="4572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وارد استفاده از تصویر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762120" y="1981080"/>
            <a:ext cx="5410080" cy="42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(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دول ، نمودار و تصاویر دیگ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جایی که می توان بجای متن تصویر گذاش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دم استفاده از تصاویری که حق انحصاری دار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2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228600" y="1219320"/>
            <a:ext cx="868680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cccc"/>
                </a:solidFill>
                <a:latin typeface="Arial Black"/>
              </a:rPr>
              <a:t>انواع دیگر نمونه گی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واقع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مونه گیری زم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اهبرد های نمونه گیری متنوعی برای استفاده در دسترس هست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533520" y="1523880"/>
            <a:ext cx="579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380880" y="1143000"/>
            <a:ext cx="57913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 متن به تک تک تصویر ها ارجاع دهی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ر اغلب موارد بهتر است تصاویر تفکیک شو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توجه به نقش خسته کنندگی تصویر در مت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ستفاده از تصاویر بدون ابها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0" dur="2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 rot="769800">
            <a:off x="3276360" y="0"/>
            <a:ext cx="145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هراس ها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838080" y="1905120"/>
            <a:ext cx="541044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علت متداول برای ترس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چیزی که برای من تازگی دارد ،اصیل هم هست 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همین اواخر متوجه شدم که شخص دیگری قبلا آن را نوشت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واقعا مزخرف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ظر مخالف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2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5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8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1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4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WordArt 3"/>
          <p:cNvSpPr txBox="1"/>
          <p:nvPr/>
        </p:nvSpPr>
        <p:spPr>
          <a:xfrm>
            <a:off x="2971800" y="1523880"/>
            <a:ext cx="2209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خاتمه دادن </a:t>
            </a:r>
            <a:endParaRPr b="0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609480" y="2514600"/>
            <a:ext cx="66294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ین فصل به موضوعات زیر می پرداز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آیا می خواهید کار را تمام کنید ؟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سخه ما قبل آخر و نسخه نهای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333 -0.00069 L -3.33333E-006 -3.75723E-006 E">
                                      <p:cBhvr>
                                        <p:cTn id="690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5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304920" y="1676520"/>
            <a:ext cx="58672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افزوده ها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حالا باید چکار کنم ؟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066680" y="365760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یست علت مناسب برای تحویل ندادن گزارش یا رساله در موعد مقرر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2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2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304920" y="144792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یسک سخت رایانه ام خراب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اشینم خراب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ادرم مریض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لیت بخت آزمایی برنده شده ا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ار های مهمتری دار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838080" y="182088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380880" y="1371600"/>
            <a:ext cx="5867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می خواهم ازدواج کن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حالم خوب نیس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ان را گم کرده ام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9- 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1295280" y="1143000"/>
            <a:ext cx="5867640" cy="51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حران های غیر قابل کنترل زندگ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خی علل قابل اجتناب هست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برخی نیز حالت بینابین دارند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3"/>
          <p:cNvSpPr txBox="1"/>
          <p:nvPr/>
        </p:nvSpPr>
        <p:spPr>
          <a:xfrm>
            <a:off x="1219320" y="838080"/>
            <a:ext cx="596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تعویق های اجتناب پذیر واجتناب ناپذی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6" dur="2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9" dur="2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2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828800" y="1219320"/>
            <a:ext cx="5943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نوشتن عنوان ، نام خودتان و ... روی صفحه عنوان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چک کردن تمام صفحا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ماره گذاری صفحات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شماره گذاری فصول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3"/>
          <p:cNvSpPr txBox="1"/>
          <p:nvPr/>
        </p:nvSpPr>
        <p:spPr>
          <a:xfrm>
            <a:off x="2666880" y="1143000"/>
            <a:ext cx="4572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کنترل نسخه ماقبل آخ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1371600" y="1219320"/>
            <a:ext cx="5715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5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کنترل غلط های املای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6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عایت حاشیه ها و فاصله ها بین سطر ها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7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عایت قید منابعی که در متن آمده اند در فهرست پایانی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8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دادن جزئیات هر منبع در فهرست منابع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9- 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رعایت ضوابط فنی نگارش</a:t>
            </a:r>
            <a:r>
              <a:rPr b="0" lang="fa-I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2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4" dur="2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7" dur="20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0" dur="2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762120" y="1066680"/>
            <a:ext cx="586728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پدر و مادر عزیز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خواهر فرهیخته ا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3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همسر و فرزندم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4- </a:t>
            </a:r>
            <a:r>
              <a:rPr b="0" lang="fa-IR" sz="2800" spc="-1" strike="noStrike">
                <a:solidFill>
                  <a:srgbClr val="000000"/>
                </a:solidFill>
                <a:latin typeface="Arial Black"/>
              </a:rPr>
              <a:t>تقدیم به دانشجویان محق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WordArt 3"/>
          <p:cNvSpPr txBox="1"/>
          <p:nvPr/>
        </p:nvSpPr>
        <p:spPr>
          <a:xfrm>
            <a:off x="2286000" y="1143000"/>
            <a:ext cx="51814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برخی تقدیم نامه های رایج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2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5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8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2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5:58:39Z</dcterms:created>
  <dc:creator>7613</dc:creator>
  <dc:description/>
  <dc:language>en-US</dc:language>
  <cp:lastModifiedBy>P.R.S</cp:lastModifiedBy>
  <dcterms:modified xsi:type="dcterms:W3CDTF">2014-12-08T05:00:37Z</dcterms:modified>
  <cp:revision>5</cp:revision>
  <dc:subject/>
  <dc:title>Slide 1</dc:title>
</cp:coreProperties>
</file>