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  <p:sldId id="325" r:id="rId80"/>
    <p:sldId id="326" r:id="rId81"/>
    <p:sldId id="327" r:id="rId82"/>
    <p:sldId id="328" r:id="rId83"/>
    <p:sldId id="329" r:id="rId84"/>
    <p:sldId id="330" r:id="rId85"/>
    <p:sldId id="331" r:id="rId86"/>
    <p:sldId id="332" r:id="rId87"/>
    <p:sldId id="333" r:id="rId88"/>
    <p:sldId id="334" r:id="rId89"/>
    <p:sldId id="335" r:id="rId90"/>
    <p:sldId id="336" r:id="rId91"/>
    <p:sldId id="337" r:id="rId92"/>
    <p:sldId id="338" r:id="rId93"/>
    <p:sldId id="339" r:id="rId94"/>
    <p:sldId id="340" r:id="rId95"/>
    <p:sldId id="341" r:id="rId96"/>
    <p:sldId id="342" r:id="rId97"/>
    <p:sldId id="343" r:id="rId98"/>
    <p:sldId id="344" r:id="rId99"/>
    <p:sldId id="345" r:id="rId100"/>
    <p:sldId id="346" r:id="rId101"/>
    <p:sldId id="347" r:id="rId102"/>
    <p:sldId id="348" r:id="rId103"/>
    <p:sldId id="349" r:id="rId104"/>
    <p:sldId id="350" r:id="rId105"/>
    <p:sldId id="351" r:id="rId106"/>
    <p:sldId id="352" r:id="rId107"/>
    <p:sldId id="353" r:id="rId108"/>
    <p:sldId id="354" r:id="rId109"/>
    <p:sldId id="355" r:id="rId110"/>
    <p:sldId id="356" r:id="rId111"/>
    <p:sldId id="357" r:id="rId112"/>
    <p:sldId id="358" r:id="rId113"/>
    <p:sldId id="359" r:id="rId114"/>
    <p:sldId id="360" r:id="rId115"/>
    <p:sldId id="361" r:id="rId116"/>
    <p:sldId id="362" r:id="rId117"/>
    <p:sldId id="363" r:id="rId118"/>
    <p:sldId id="364" r:id="rId119"/>
    <p:sldId id="365" r:id="rId120"/>
    <p:sldId id="366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slide" Target="slides/slide70.xml"/><Relationship Id="rId81" Type="http://schemas.openxmlformats.org/officeDocument/2006/relationships/slide" Target="slides/slide71.xml"/><Relationship Id="rId82" Type="http://schemas.openxmlformats.org/officeDocument/2006/relationships/slide" Target="slides/slide72.xml"/><Relationship Id="rId83" Type="http://schemas.openxmlformats.org/officeDocument/2006/relationships/slide" Target="slides/slide73.xml"/><Relationship Id="rId84" Type="http://schemas.openxmlformats.org/officeDocument/2006/relationships/slide" Target="slides/slide74.xml"/><Relationship Id="rId85" Type="http://schemas.openxmlformats.org/officeDocument/2006/relationships/slide" Target="slides/slide75.xml"/><Relationship Id="rId86" Type="http://schemas.openxmlformats.org/officeDocument/2006/relationships/slide" Target="slides/slide76.xml"/><Relationship Id="rId87" Type="http://schemas.openxmlformats.org/officeDocument/2006/relationships/slide" Target="slides/slide77.xml"/><Relationship Id="rId88" Type="http://schemas.openxmlformats.org/officeDocument/2006/relationships/slide" Target="slides/slide78.xml"/><Relationship Id="rId89" Type="http://schemas.openxmlformats.org/officeDocument/2006/relationships/slide" Target="slides/slide79.xml"/><Relationship Id="rId90" Type="http://schemas.openxmlformats.org/officeDocument/2006/relationships/slide" Target="slides/slide80.xml"/><Relationship Id="rId91" Type="http://schemas.openxmlformats.org/officeDocument/2006/relationships/slide" Target="slides/slide81.xml"/><Relationship Id="rId92" Type="http://schemas.openxmlformats.org/officeDocument/2006/relationships/slide" Target="slides/slide82.xml"/><Relationship Id="rId93" Type="http://schemas.openxmlformats.org/officeDocument/2006/relationships/slide" Target="slides/slide83.xml"/><Relationship Id="rId94" Type="http://schemas.openxmlformats.org/officeDocument/2006/relationships/slide" Target="slides/slide84.xml"/><Relationship Id="rId95" Type="http://schemas.openxmlformats.org/officeDocument/2006/relationships/slide" Target="slides/slide85.xml"/><Relationship Id="rId96" Type="http://schemas.openxmlformats.org/officeDocument/2006/relationships/slide" Target="slides/slide86.xml"/><Relationship Id="rId97" Type="http://schemas.openxmlformats.org/officeDocument/2006/relationships/slide" Target="slides/slide87.xml"/><Relationship Id="rId98" Type="http://schemas.openxmlformats.org/officeDocument/2006/relationships/slide" Target="slides/slide88.xml"/><Relationship Id="rId99" Type="http://schemas.openxmlformats.org/officeDocument/2006/relationships/slide" Target="slides/slide89.xml"/><Relationship Id="rId100" Type="http://schemas.openxmlformats.org/officeDocument/2006/relationships/slide" Target="slides/slide90.xml"/><Relationship Id="rId101" Type="http://schemas.openxmlformats.org/officeDocument/2006/relationships/slide" Target="slides/slide91.xml"/><Relationship Id="rId102" Type="http://schemas.openxmlformats.org/officeDocument/2006/relationships/slide" Target="slides/slide92.xml"/><Relationship Id="rId103" Type="http://schemas.openxmlformats.org/officeDocument/2006/relationships/slide" Target="slides/slide93.xml"/><Relationship Id="rId104" Type="http://schemas.openxmlformats.org/officeDocument/2006/relationships/slide" Target="slides/slide94.xml"/><Relationship Id="rId105" Type="http://schemas.openxmlformats.org/officeDocument/2006/relationships/slide" Target="slides/slide95.xml"/><Relationship Id="rId106" Type="http://schemas.openxmlformats.org/officeDocument/2006/relationships/slide" Target="slides/slide96.xml"/><Relationship Id="rId107" Type="http://schemas.openxmlformats.org/officeDocument/2006/relationships/slide" Target="slides/slide97.xml"/><Relationship Id="rId108" Type="http://schemas.openxmlformats.org/officeDocument/2006/relationships/slide" Target="slides/slide98.xml"/><Relationship Id="rId109" Type="http://schemas.openxmlformats.org/officeDocument/2006/relationships/slide" Target="slides/slide99.xml"/><Relationship Id="rId110" Type="http://schemas.openxmlformats.org/officeDocument/2006/relationships/slide" Target="slides/slide100.xml"/><Relationship Id="rId111" Type="http://schemas.openxmlformats.org/officeDocument/2006/relationships/slide" Target="slides/slide101.xml"/><Relationship Id="rId112" Type="http://schemas.openxmlformats.org/officeDocument/2006/relationships/slide" Target="slides/slide102.xml"/><Relationship Id="rId113" Type="http://schemas.openxmlformats.org/officeDocument/2006/relationships/slide" Target="slides/slide103.xml"/><Relationship Id="rId114" Type="http://schemas.openxmlformats.org/officeDocument/2006/relationships/slide" Target="slides/slide104.xml"/><Relationship Id="rId115" Type="http://schemas.openxmlformats.org/officeDocument/2006/relationships/slide" Target="slides/slide105.xml"/><Relationship Id="rId116" Type="http://schemas.openxmlformats.org/officeDocument/2006/relationships/slide" Target="slides/slide106.xml"/><Relationship Id="rId117" Type="http://schemas.openxmlformats.org/officeDocument/2006/relationships/slide" Target="slides/slide107.xml"/><Relationship Id="rId118" Type="http://schemas.openxmlformats.org/officeDocument/2006/relationships/slide" Target="slides/slide108.xml"/><Relationship Id="rId119" Type="http://schemas.openxmlformats.org/officeDocument/2006/relationships/slide" Target="slides/slide109.xml"/><Relationship Id="rId120" Type="http://schemas.openxmlformats.org/officeDocument/2006/relationships/slide" Target="slides/slide110.xml"/><Relationship Id="rId121" Type="http://schemas.openxmlformats.org/officeDocument/2006/relationships/slide" Target="slides/slide111.xml"/><Relationship Id="rId1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3649-B724-448D-9F38-D2F187C6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3543-A394-47D5-A0A5-08FDC5C1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04C21-2478-4B36-B6CD-40DB9DCF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D6907-3AE7-410B-9927-26F53FA6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F8DB8-367D-4A18-A307-01F009EB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0EB9E-7EF2-4C46-A0B1-65CD91C7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94A28-C990-44E1-B099-44ABD80A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6761E-C4EC-467A-9BC7-63B411EF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FC12A-425B-4B5A-8A14-6581E0DE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99E75-A2E1-443C-970B-8017111D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B7604-7CA7-434D-BC2F-7FF4739A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A900-81C3-4CA7-8BC2-6C764672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0CE2-E974-4D68-BE8E-BEEEBC35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3D24-DCB4-4AA0-9FDE-D8914072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45DC-C6D5-4B25-AB47-DF6B9612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53B6-7D9C-4477-BAFB-FE2442CA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B4BE-4221-48E9-B6FE-04D5B223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5064-DB53-4A6E-8173-43FE4E71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E795-57A4-4FB1-A625-1CB820C7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7300-EB28-4DAD-AD76-906FC9FA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D1CE-E38E-4DF7-96AC-9CFC8E52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2ED9-C149-4578-B019-DBA7F06D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5949-BC21-4B7D-AC83-FDB4E190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D0B7-88A4-46C9-AC86-5FDC3EC3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3293-E4F0-4BB2-9492-2CC9B25A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93B2-8F3A-49E3-B731-72436540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0C3DD-A59D-4C04-A890-8A937EA1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C5C69-2854-4B3F-9884-C392681D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4ACE8-6285-4173-ACEC-A73530BD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87A70-934C-41DE-B3C5-9483DC4D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85139-76CD-4592-9665-2B05A9C5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E066-CAD9-438B-BC99-8A6BBF4C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BE9C3-F3D4-4595-A7E4-4D342368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FE468-48E7-4B5A-AFE9-5791E6B3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80530-4D51-4A08-ABB0-4B537E6A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645DF-9698-4E3B-844D-8E396462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C7499-B489-4C76-A53B-A01064BD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42AEB-C7EA-4C15-9FF2-FCADBF92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9CB03-5E9B-4B57-9CB0-D76170BD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34011-34F6-4D27-BD6A-945FB090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CEC1A-D112-4423-85D1-FC5003FA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5B746-9BBF-4FB8-B1A6-BFDF7462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40B6-35AA-499E-B8C0-1D7C0F27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AF58D-1204-4EAB-AA43-32995ACC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2C916-69B1-405F-A2B3-C53E5A3A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65A77-FC53-411D-B2E9-B3B76871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0FCD3-367D-4D3D-B069-279F766D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4D416-BE76-4416-B787-2DBF50B7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C0DCA-143D-4F45-8EE5-1760E49D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C666F-2255-489F-AB0C-2150FECF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E175C-A1C1-4244-887B-BC85310A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F4B8E-88A9-4A8E-BA91-48B1748A2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AE58C-AF49-40B2-AC85-D4F720C3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4EBF-96D3-479B-9DE9-E4FEB688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49F3A-266F-428D-83FC-46DF069E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3EE19-A478-49E7-BC53-0516A213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9F9B5-8119-4202-992D-168D1CD0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51826-0A35-4329-9740-ADD4E5E5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3560F-BA1E-40E6-B985-7AFFB6D8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C9CDD-436D-460A-895E-080B25BD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34E19-51B3-4934-B033-DA169E7B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1AB28-4C4B-47C0-8215-1CA48881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F1E0D-7BA3-41EF-802F-D0EB175E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35A27-2345-43A5-B9AF-2EC554A4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09F3-C475-41B8-92F0-4CD4BF23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BCB56-6B9E-4FAA-B85A-302C24E2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6E99C-5218-4E7F-83AE-91919E74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1B0C9-237A-447D-8F85-B5036DA0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2C169-A028-4C1E-8F27-DC602E97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FB3C9-BE64-4484-8389-C81C491D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34A7B-2774-42BC-8207-9F807AE6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84E35-19C6-4812-BE42-B7ED305A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6A851-C7B9-48D1-8EC1-895620D9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1BD96-8630-4759-BFE0-D87AD05E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E1C10-F5A0-47A4-A5D3-B79578E9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56C3-8182-466E-836B-7E46E57A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05F9A-88EA-4627-8EFC-5D660EF5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FF2D9-1137-46A1-B0F4-EABB4A64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AB3B5-BEAB-4043-B34D-08B663E3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AB134-6228-436D-9A98-6F334E79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6ED3A-E015-46DA-AFFE-B68CED2C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D9E71-1D46-456C-88B7-5B99CC82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552CA-ECA1-48B4-96D9-8FF6D3B7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163CA-7F7E-4246-BDF3-B31216B2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6BBA1-4B8A-48A5-8613-5D8BF5C6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AD262-E920-4502-B8B7-733806B7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F229-77D8-479E-98AD-27C7E634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47CD1-0CEE-4AC2-AE79-121276DC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05AD9-70E5-4691-A03C-AE257E60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EB7E1-DB59-42F3-9FDC-0A6F5E3B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2A51E-DF06-46CC-B8AB-991CDFC4B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2ADB9-006F-4A86-9BF8-0E1ABC5B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EFC56-8151-46D4-AC81-113E2DC9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78C57-0204-4590-8F23-7E9899BD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BBEF6-A55A-4E0B-B949-DCE01A52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A1D32-2C8F-43E7-B4A2-A14335E1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D3414-3219-4F50-B770-C7242177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9A73-D121-4E8D-827F-19FF5E56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A8F0E-78A9-4166-832C-4AC796B7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32615-063D-4ECB-ADEA-939ABA89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B7A06-F315-4E59-8D25-630C5C27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ED3B9-887F-427E-85B1-6BBFCC1A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492CE-3D0D-4B0F-BBF6-323349E6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BBEC8-9487-40A6-A1D7-8C0E1E2B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9D5DC-9ACC-4A11-AF03-B95CC592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8677D-A090-4F4A-886A-88F2981B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84106-D583-4827-8784-1842FF35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C0CEC-D60D-4854-85EB-CB904D01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A30B-4B1C-4AEA-984B-97C47E131CC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FACB-6FFD-4C3F-8B3B-05139259764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688E-4ED0-4E78-84AC-9E539902D5C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54C3-6CD8-4D7E-BBCA-318199DF899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A8F2-ACF1-41FE-816E-CDB7F0E950B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FB8D-A28F-4F32-8007-00E66CD5108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0D07-9D5B-4A59-8B42-A3DF3E871E6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9CEA-EFF9-4F70-9B6B-0181680784C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3FCD-6FB4-4246-B7C1-46E7179A03C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228600" y="914400"/>
            <a:ext cx="87631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cc99ff"/>
                </a:solidFill>
                <a:latin typeface="Arial Black"/>
              </a:rPr>
              <a:t>جمع آوری داده 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ستیابی و شئونات اخلاق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و گزین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228600" y="685800"/>
            <a:ext cx="86104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ای برخی پروژه های تحقیق،تمرکز جمع آوری داده ها بر اسناد گوناگون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 مبنای کتابخا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مبنای رایا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اشتن یک کانون خط مش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اشتن یک جهت گیری تاریخ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WordArt 2"/>
          <p:cNvSpPr txBox="1"/>
          <p:nvPr/>
        </p:nvSpPr>
        <p:spPr>
          <a:xfrm>
            <a:off x="5638680" y="533520"/>
            <a:ext cx="2681280" cy="73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نوشتتن چکیده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380880" y="1905120"/>
            <a:ext cx="739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380880" y="2057400"/>
            <a:ext cx="7848720" cy="22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چکیده نباید بیش از بیست واژه باش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خلاصه ای از موضوع ، متن ، روش و نتایج کتاب یا مقاله و بیش از نیم ساعت نباید برای آن وقت صرف کرد.</a:t>
            </a:r>
            <a:r>
              <a:rPr b="0" lang="fa-I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2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5" dur="20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WordArt 2"/>
          <p:cNvSpPr txBox="1"/>
          <p:nvPr/>
        </p:nvSpPr>
        <p:spPr>
          <a:xfrm>
            <a:off x="3048120" y="685800"/>
            <a:ext cx="3047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مراحل ارزیاب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4" name="WordArt 3"/>
          <p:cNvSpPr txBox="1"/>
          <p:nvPr/>
        </p:nvSpPr>
        <p:spPr>
          <a:xfrm>
            <a:off x="2819520" y="2133720"/>
            <a:ext cx="3809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ff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مسائل عمومی این مرحله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50000">
                    <a:srgbClr val="ffffc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533520" y="3421080"/>
            <a:ext cx="73152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- کار در چه زمانی به دست طرف مقابل می رسد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- وظایف استاد راهنما ، ارزیاب ، سرپرست ، مشاور و... چیست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4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7" dur="5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5800" y="1600200"/>
            <a:ext cx="7086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- چه رویدادهای ویژه ای با مراحل ارزیابی مرتبط اند 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- با انتقاد،برگشت به منظور تجدید نظر یا رد شدن کارتان چگونه کنار می آیی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WordArt 3"/>
          <p:cNvSpPr txBox="1"/>
          <p:nvPr/>
        </p:nvSpPr>
        <p:spPr>
          <a:xfrm>
            <a:off x="2666880" y="4724280"/>
            <a:ext cx="3857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زمان و موقعیت دریافت کار </a:t>
            </a:r>
            <a:endParaRPr b="0" lang="en-US" sz="3200" spc="1" strike="noStrike">
              <a:ln w="0">
                <a:noFill/>
              </a:ln>
              <a:solidFill>
                <a:srgbClr val="00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4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7" dur="5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WordArt 3"/>
          <p:cNvSpPr txBox="1"/>
          <p:nvPr/>
        </p:nvSpPr>
        <p:spPr>
          <a:xfrm>
            <a:off x="1752480" y="685800"/>
            <a:ext cx="5334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ارزیابی های متداول دانشگاه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152280" y="2286000"/>
            <a:ext cx="73152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هرقدر سطح تعیین کیفیت بالاتر باشد احتمال بیشتری دارد که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- ارزشیابی شما توسط ارزشیابان خارجی انجام شو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- براساس کار خودتان ارزیابی می شو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8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1" dur="5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838080" y="1600200"/>
            <a:ext cx="69343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- در جریان ارزیابی مجبور به شرکت در جلسه ارائه باشی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- کارتان به منظور انجام برخی اصلاحات جزیی برگردانده شو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8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1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WordArt 3"/>
          <p:cNvSpPr txBox="1"/>
          <p:nvPr/>
        </p:nvSpPr>
        <p:spPr>
          <a:xfrm>
            <a:off x="838080" y="533520"/>
            <a:ext cx="613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کارهایی که قبل از ارائه تحقیق باید انجام داد :</a:t>
            </a:r>
            <a:endParaRPr b="0" lang="en-US" sz="32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762120" y="2590920"/>
            <a:ext cx="60958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پرس و جو کنید و ببینید چه کسانی در جلسه هستند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نحوه عرضه نتایج تحقیق خود را تمرین کن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5 -0.0222 L 5.55112E-017 8.09249E-007 E">
                                      <p:cBhvr>
                                        <p:cTn id="947" dur="2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2" dur="2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5" dur="20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2"/>
          <p:cNvSpPr/>
          <p:nvPr/>
        </p:nvSpPr>
        <p:spPr>
          <a:xfrm>
            <a:off x="914400" y="1440000"/>
            <a:ext cx="75438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سعی کنید اطلاعاتتان به روز باش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پاسخگویی به سوالات را تمرین کن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سوالاتی که مایلید از شما بپرسند ،تهیه کن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سعی کنید از جلسه ارائه لذت ببر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2" dur="2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5" dur="20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8" dur="20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1" dur="2000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914400" y="1828800"/>
            <a:ext cx="7010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بدانید که شما نیز خود مقیاسی برای کنترل دار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8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آماده دفاع از کار و پیشرفت آن باشید و در عین حال محدودیت ها ونواقص آن را نیز بشناس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WordArt 2"/>
          <p:cNvSpPr txBox="1"/>
          <p:nvPr/>
        </p:nvSpPr>
        <p:spPr>
          <a:xfrm>
            <a:off x="380880" y="838080"/>
            <a:ext cx="8515440" cy="5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با انتقاد ، برگشت به منظور تجدید نظر یا رد شدن کارتان چگونه کنار بیایید ؟</a:t>
            </a:r>
            <a:endParaRPr b="0" lang="en-US" sz="28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6" name="WordArt 3"/>
          <p:cNvSpPr txBox="1"/>
          <p:nvPr/>
        </p:nvSpPr>
        <p:spPr>
          <a:xfrm>
            <a:off x="2971800" y="2209680"/>
            <a:ext cx="31910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"</a:t>
            </a:r>
            <a:r>
              <a:rPr b="0" lang="hi-IN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واکنش نسبت به نقد</a:t>
            </a: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"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1295280" y="3429000"/>
            <a:ext cx="5791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نقد را با روی باز بپذیر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صحت و مفهوم ضمنی نقد را برای تحقیق خود ارزیابی کن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8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8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8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8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20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20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20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20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20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838080" y="1600200"/>
            <a:ext cx="67057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نقد را با واکنش های دیگری که کارتان بوجود آورده ، مقایسه کن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یافته ها و استراتژیهای تحقیق تان را در صورت لزوم اصلاح کن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پاسخی سنجیده به نقد بده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2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2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2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2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2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2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2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8670960" y="10684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304920" y="7621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0" y="3048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380880" y="228600"/>
            <a:ext cx="8458200" cy="9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84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دلایل استفاده ازداده های موجود(ثانویه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زمان بر و پر هزینه بودن جمع آوری داده های اولی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عدم امکان داده های کاف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گرایش به سمت استفاده ازگرایش های موجو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کمل داده های اولیه جمع آوری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WordArt 2"/>
          <p:cNvSpPr txBox="1"/>
          <p:nvPr/>
        </p:nvSpPr>
        <p:spPr>
          <a:xfrm>
            <a:off x="457200" y="838080"/>
            <a:ext cx="8381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gradFill rotWithShape="0">
                  <a:gsLst>
                    <a:gs pos="0">
                      <a:srgbClr val="ccffcc"/>
                    </a:gs>
                    <a:gs pos="50000">
                      <a:srgbClr val="99cc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یست مورد از کارهایی که بعد از اتمام کار تحقیقی می توانید انجام دهید: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ccffcc"/>
                  </a:gs>
                  <a:gs pos="50000">
                    <a:srgbClr val="99cc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1066680" y="2666880"/>
            <a:ext cx="69343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به تعطیلات برو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به رختخواب برو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به سونا برو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762120" y="1363680"/>
            <a:ext cx="739116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با دوستان صمیمی جشن بگیر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سمینارهایی برای اشاعه یافته هایتان ترتیب ده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کتاب جالب بخوان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رژیم بگیر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8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یافته هایتان را تحقق بخش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9- 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7" dur="20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0" dur="20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3" dur="20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6" dur="200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9" dur="200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2" dur="2000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5" dur="2000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2"/>
          <p:cNvSpPr/>
          <p:nvPr/>
        </p:nvSpPr>
        <p:spPr>
          <a:xfrm>
            <a:off x="228600" y="992160"/>
            <a:ext cx="8169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5334120" y="1676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304920" y="1447920"/>
            <a:ext cx="8413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مکان تایید،اصلاح یا نقض یافت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مکان تمرکز برتحلیل و تفسی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عدم امکان انجام یک مطالعه تحقیقی جدای ازآنچه قبلا صورت گرفته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8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ه دلیل استفاده داده های بیشتر از آنچه جمع آوری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7832880" y="992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152280" y="914400"/>
            <a:ext cx="862668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85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تکنیک های گوناگون مصاحب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صاحبه رودررو یا درفاصل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صاحبه درخانه یا درمحل ک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صاحبه ساختاریافته، بدون ساختار، نیمه ساختاریاف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صاحبه براساس فرم های متنو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4648320" y="10666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8610480" y="1525680"/>
            <a:ext cx="244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304920" y="1752480"/>
            <a:ext cx="8474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صاحبه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نفره یا گروه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صاحبه با اطلاع یا بدون اطلاع قبل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صاحبه ثبت یا ضبط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228600" y="10666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3733920" y="19810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152280" y="1144440"/>
            <a:ext cx="86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228600" y="1066680"/>
            <a:ext cx="8686800" cy="49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                         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مشاهده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شاهده ساختار یاف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شاهده بدون ساخت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شاهده ساختار یافته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لف:ضبط کردن وقایع به شیوه ای اصولی به همان صورتی که اتفاق افتاده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533520" y="914400"/>
            <a:ext cx="8153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: کد گذاری این وقایع در دسته های ازپیش مشخص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ج: تحلیل بعدی وقایع برای ارائه توصیف رابطه معلم-شاگ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228600" y="1523880"/>
            <a:ext cx="86868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                      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”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پرسش نامه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ین روش یکی ازمتداول ترین تکنیک های تحقیق اجتماعی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یک پرسش نامه کاملا ایده ال وجود ندار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095880" y="1905120"/>
            <a:ext cx="228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8518680" y="11253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533520" y="19810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304920" y="685800"/>
            <a:ext cx="8381880" cy="58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91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انواع پرسش نامه های میدان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میت یا اطلاع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قوله(نو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فهرست یا انتخاب چند گا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سنجش(معیا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رجه بند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جدول یا چار خانه ترکیب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از(نا محدود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2"/>
          <p:cNvSpPr/>
          <p:nvPr/>
        </p:nvSpPr>
        <p:spPr>
          <a:xfrm>
            <a:off x="0" y="1049400"/>
            <a:ext cx="8854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228600" y="1125360"/>
            <a:ext cx="870264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92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نکاتی راجع به تنظیم سوال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رهیز از طرح سوالات مب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وجه به سوالاتی که مستلزم به خاطر آوردن یااطلاعات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اکید بر سوالات ساده به جای پیچی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2280" y="1523880"/>
            <a:ext cx="8763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ه کار گیری تکنیک ها یی برای جمع آوری داد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سناد ،مصاحبه ها، مشاهدا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رسشنامه ها،مستند سازی پیشرفت ک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فراز و نشیب ها درجمع آوری داد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380880" y="1219320"/>
            <a:ext cx="84740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طرح سوالاتی که جواب مشخصی را تداعی نک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عدم استفاده از سوالات منف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عدم استفاده از سوالات فرضی مافوق تجربه پاسخگ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رهیز از سوالاتی که حالت تدافعی ایجاد میک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8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جتناب از سوالاتی که حدی بر آنها نی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2"/>
          <p:cNvSpPr/>
          <p:nvPr/>
        </p:nvSpPr>
        <p:spPr>
          <a:xfrm>
            <a:off x="304920" y="838080"/>
            <a:ext cx="8610480" cy="58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ثبت پیشرفت کا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یادداشت بردار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یادداشت های روزانه تحقی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جعبه ها و فایل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ایان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2"/>
          <p:cNvSpPr/>
          <p:nvPr/>
        </p:nvSpPr>
        <p:spPr>
          <a:xfrm>
            <a:off x="228600" y="1353960"/>
            <a:ext cx="8778960" cy="44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ضمیمه های کارت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94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نگهداری اسناد تحقی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یگی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فراز و نشیب جمع آوری داد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نهای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2"/>
          <p:cNvSpPr/>
          <p:nvPr/>
        </p:nvSpPr>
        <p:spPr>
          <a:xfrm>
            <a:off x="8959680" y="1219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228600" y="1201680"/>
            <a:ext cx="877896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0" lang="fa-IR" sz="4000" spc="-1" strike="noStrike">
                <a:solidFill>
                  <a:srgbClr val="cc99ff"/>
                </a:solidFill>
                <a:latin typeface="Arial Black"/>
              </a:rPr>
              <a:t>”</a:t>
            </a:r>
            <a:r>
              <a:rPr b="0" lang="fa-IR" sz="4000" spc="-1" strike="noStrike">
                <a:solidFill>
                  <a:srgbClr val="cc99ff"/>
                </a:solidFill>
                <a:latin typeface="Arial Black"/>
              </a:rPr>
              <a:t>وسواس و دل مشغولی</a:t>
            </a:r>
            <a:r>
              <a:rPr b="0" lang="fa-IR" sz="4000" spc="-1" strike="noStrike">
                <a:solidFill>
                  <a:srgbClr val="cc99ff"/>
                </a:solidFill>
                <a:latin typeface="Arial Black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اه کار های اصلی که می توانند به شما کمک کن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طرح ریزی و زمان بندی تحقیق به طور منظ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آموزش به یک دوس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یدا کردن و استفاده از شبکه ای از محقق های پیشین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228600" y="1353960"/>
            <a:ext cx="8702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                          </a:t>
            </a:r>
            <a:r>
              <a:rPr b="0" lang="fa-IR" sz="4000" spc="-1" strike="noStrike">
                <a:solidFill>
                  <a:srgbClr val="ad1f1f"/>
                </a:solidFill>
                <a:latin typeface="Arial Black"/>
              </a:rPr>
              <a:t>فصل هف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                      </a:t>
            </a:r>
            <a:r>
              <a:rPr b="0" lang="fa-IR" sz="4000" spc="-1" strike="noStrike">
                <a:solidFill>
                  <a:srgbClr val="cc99ff"/>
                </a:solidFill>
                <a:latin typeface="Arial Black"/>
              </a:rPr>
              <a:t>”</a:t>
            </a:r>
            <a:r>
              <a:rPr b="0" lang="fa-IR" sz="4000" spc="-1" strike="noStrike">
                <a:solidFill>
                  <a:srgbClr val="cc99ff"/>
                </a:solidFill>
                <a:latin typeface="Arial Black"/>
              </a:rPr>
              <a:t>تحلیل داده ها</a:t>
            </a:r>
            <a:r>
              <a:rPr b="0" lang="fa-IR" sz="4000" spc="-1" strike="noStrike">
                <a:solidFill>
                  <a:srgbClr val="cc99ff"/>
                </a:solidFill>
                <a:latin typeface="Arial Black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این فصل با مباحث زیر سازماندهی شده است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304920" y="1278000"/>
            <a:ext cx="862632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شکل داده های شم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اهیت داد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سازماندهی داد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حلیل رایانه ا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فرآیند تحلی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-304920" y="6858000"/>
            <a:ext cx="8474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228600" y="1447920"/>
            <a:ext cx="8610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تحلیل اسنا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تحلیل مصاحبه 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8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تحلیل مشاهد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9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تحلیل پرسشنامه 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10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تفسی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2803680" y="34113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3581280" y="28954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5867280" y="2125800"/>
            <a:ext cx="2438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"/>
          <p:cNvSpPr/>
          <p:nvPr/>
        </p:nvSpPr>
        <p:spPr>
          <a:xfrm>
            <a:off x="5486400" y="2209680"/>
            <a:ext cx="312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"/>
          <p:cNvSpPr/>
          <p:nvPr/>
        </p:nvSpPr>
        <p:spPr>
          <a:xfrm>
            <a:off x="457200" y="1887480"/>
            <a:ext cx="83977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”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شکل داده ها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و جریان کلی که بر شیوه شما برای تحلیل داده هاتاثیر می گذارند در این بخش بررسی شده ا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وضعیت داده های جمع آوری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حل و امکانات تحلی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2"/>
          <p:cNvSpPr/>
          <p:nvPr/>
        </p:nvSpPr>
        <p:spPr>
          <a:xfrm>
            <a:off x="228600" y="1430280"/>
            <a:ext cx="855036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95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داده های منظم یا نا منظ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”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نمود نظم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فتر یادداشت های مرت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فیش های بر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جموعه ای از پاسخ نام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وشه های رنگی که نام گذاری شده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2"/>
          <p:cNvSpPr/>
          <p:nvPr/>
        </p:nvSpPr>
        <p:spPr>
          <a:xfrm>
            <a:off x="304920" y="2209680"/>
            <a:ext cx="84135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وار های رونوشت شده یا نام گذاری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صویر یا طرح واض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ایگاه اطلاعاتی کامپیو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0" y="1249200"/>
            <a:ext cx="8245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228600" y="1143000"/>
            <a:ext cx="861048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دستیابی و شئون اخلاق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وضوع تحقیق شما ممکن است مستلزم دستیابی به یک یا چند مورد زیر باش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سناد نگهداری شده درکتابخانه یا موسس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فراد درمنزل، اجتماعات بزرگتر یا دراینترن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228600" y="1295280"/>
            <a:ext cx="848988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cc99ff"/>
                </a:solidFill>
                <a:latin typeface="Arial Black"/>
              </a:rPr>
              <a:t>نمود هرج و مرج یا بی نظم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یادداشت های متفرق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اغذ پار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سبدی از مطالب جمع آوری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وشه های خالی یا متور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2"/>
          <p:cNvSpPr/>
          <p:nvPr/>
        </p:nvSpPr>
        <p:spPr>
          <a:xfrm>
            <a:off x="228600" y="1582560"/>
            <a:ext cx="877896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قل قول های با شتاب نوشته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قل قول هایی که نصف آنها به خاطر سپرده شده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اغذ پوشه های که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8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یادداشت های ناخوا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304920" y="1582560"/>
            <a:ext cx="847404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96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از بی نظمی تا نظم و برگشت دوبا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ad1f1f"/>
                </a:solidFill>
                <a:latin typeface="Arial Black"/>
              </a:rPr>
              <a:t>پیدایش بی نظمی         نبود کنترل               پیدایش نظ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                   </a:t>
            </a:r>
            <a:r>
              <a:rPr b="0" lang="fa-IR" sz="3200" spc="-1" strike="noStrike">
                <a:solidFill>
                  <a:srgbClr val="ad1f1f"/>
                </a:solidFill>
                <a:latin typeface="Arial Black"/>
              </a:rPr>
              <a:t>جستجوی ساخت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3"/>
          <p:cNvSpPr/>
          <p:nvPr/>
        </p:nvSpPr>
        <p:spPr>
          <a:xfrm>
            <a:off x="3276720" y="3048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4"/>
          <p:cNvSpPr/>
          <p:nvPr/>
        </p:nvSpPr>
        <p:spPr>
          <a:xfrm>
            <a:off x="2666880" y="3124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5"/>
          <p:cNvSpPr/>
          <p:nvPr/>
        </p:nvSpPr>
        <p:spPr>
          <a:xfrm>
            <a:off x="571500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"/>
          <p:cNvSpPr/>
          <p:nvPr/>
        </p:nvSpPr>
        <p:spPr>
          <a:xfrm flipH="1">
            <a:off x="1980720" y="41148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7"/>
          <p:cNvSpPr/>
          <p:nvPr/>
        </p:nvSpPr>
        <p:spPr>
          <a:xfrm flipV="1">
            <a:off x="1981080" y="3428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8"/>
          <p:cNvSpPr/>
          <p:nvPr/>
        </p:nvSpPr>
        <p:spPr>
          <a:xfrm>
            <a:off x="7696080" y="3429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9"/>
          <p:cNvSpPr/>
          <p:nvPr/>
        </p:nvSpPr>
        <p:spPr>
          <a:xfrm flipH="1">
            <a:off x="6248520" y="4114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2"/>
          <p:cNvSpPr/>
          <p:nvPr/>
        </p:nvSpPr>
        <p:spPr>
          <a:xfrm>
            <a:off x="212760" y="1523880"/>
            <a:ext cx="8931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تمرین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49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تحلیل مکان،فضا و زم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تقسیم کمی / کیف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تمرین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50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فکر کردن درباره اطلاعات جمع آوری شده کلمات به چه معنا هستند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228600" y="1828800"/>
            <a:ext cx="8489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600" spc="-1" strike="noStrike">
                <a:solidFill>
                  <a:srgbClr val="33cccc"/>
                </a:solidFill>
                <a:latin typeface="Arial Black"/>
              </a:rPr>
              <a:t>سازماندهی داده 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99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: تکنیک هایی برای سازماندهی داده 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مز گذاری           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حاشیه نویس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ام گذاری             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انتخ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خلاص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228600" y="1523880"/>
            <a:ext cx="87184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101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مواردی در تحلیل مستند برای هر سندی که تحلیل میکنید سوالات زیر را از خود بپرسید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ؤلفین چه کسانی هستن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وقعیت آنها چیست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ویه و مشی آنها چیست؟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2"/>
          <p:cNvSpPr/>
          <p:nvPr/>
        </p:nvSpPr>
        <p:spPr>
          <a:xfrm>
            <a:off x="457200" y="1600200"/>
            <a:ext cx="8397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در کجا و چه زمانی این سند تهیه شده است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چگونه و برای چه کسانی تهیه شده است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فرضیه های اصلی آنها چیست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تا چه حد مباحث آن قانع کننده است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8- 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9- 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"/>
          <p:cNvSpPr/>
          <p:nvPr/>
        </p:nvSpPr>
        <p:spPr>
          <a:xfrm>
            <a:off x="304920" y="1658880"/>
            <a:ext cx="84740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”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تحلیل مصاحبه ها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103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نمونه هایی از تحلیل مصاحب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د گذاری بار: نخستین مرحله تحلی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د گذاری محوری: یافتن ارتباط بین طبقه بندی های مشخص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228600" y="1582560"/>
            <a:ext cx="839772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د گذاری نظری: تحول یک الگو و یک قالب شرط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104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مثال هایی از تحلیل شواه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105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ترکیب مشاهده با تکنیک های دیگ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8823240" y="15066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304920" y="1897200"/>
            <a:ext cx="843588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106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نمونه هایی از تحلیل پرسشنام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خی از ضوابط اصولی مر بوط به کد گذا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د ها باید کاملا از هم متمایز باش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دها باید دقیق و جامع باش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دها باید در سرتاسر نوشته یک دست باش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380880" y="685800"/>
            <a:ext cx="847404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تمرین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40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مواردی برای بررسی پیش از جستجوی دستیاب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رباره چه کسی یا موضوعی تحقیق می کنید؟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فراد خاصی که نیازمند کسب اجازه از آنها هستید کدامن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آیا هدف شما معقولانه است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آیا می توانید مشکلات بالقوه مربوط به دستیابی را بشناسی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9051840" y="12952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380880" y="1828800"/>
            <a:ext cx="800100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مراحل پنجگانه کد گذار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شکیل چهار چوب برای سوال هایی که از قبل کد بندی شده یا نشده ا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ساختن کتابچه کد و دستورات کد گذا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د بندی پرسشنامه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228600" y="1981080"/>
            <a:ext cx="848988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نتقال اطلاعات به رایا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رسی و پاکسازی اطلاع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”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تحلیل پرسشنامه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ین داده ها میتوانند کمی یا کیفی باش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228600" y="1582560"/>
            <a:ext cx="8702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107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سطوح مختلف تجزیه و تحلیل های کیف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آمار توصیف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فراوانی متغیرها،میانگین ها،دامنه تغییر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آمار استنباط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 آورد کردن اهمیت یافته ها و نتایج به دست آم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304920" y="1582560"/>
            <a:ext cx="839772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سبت های سا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جدول متقاطع یا روابط علت و معلولی بین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متغیی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حلیل چند متغی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طالعه ارتباط بین چند متغی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228600" y="1735200"/>
            <a:ext cx="870264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108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)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آمار توصیف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ای داده های اسمی و توصیف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سبت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ر صد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قسمت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228600" y="150660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ای داده های فاصله ای و نسب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ندازه گیری گرایشات مرکز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یانگین                    - دامنه تغییر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یانه                       - انحراف معی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2"/>
          <p:cNvSpPr/>
          <p:nvPr/>
        </p:nvSpPr>
        <p:spPr>
          <a:xfrm>
            <a:off x="304920" y="1506600"/>
            <a:ext cx="85500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ثال هایی از آمار استنباط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لف- مربع خی(کای اسکوا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اربرد: برای مقایسه مجمو عه ای از داد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ا پیش فرض نمونه گیری تصادفی و داده های اسم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228600" y="1506600"/>
            <a:ext cx="862632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کولومو گراو-اسمیر نو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اربرد: برای مقایسه دو دسته دا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ا پیش فرض نمونه گیری تصادفی و داده های ترتیب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228600" y="1506600"/>
            <a:ext cx="86263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- 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آزمون تی – استودن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اربرد: الف) مقایسه میانگین یک نمونه ا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         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)   مقایسه نمونه های دو نمونه ا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ا پیش فرض نمونه گیری تصادفی،داده های فاصله ای و توزیع طبیعی داد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304920" y="1658880"/>
            <a:ext cx="84740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هایی از داده های کم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سم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رتیب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فاصله ا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سب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2"/>
          <p:cNvSpPr/>
          <p:nvPr/>
        </p:nvSpPr>
        <p:spPr>
          <a:xfrm>
            <a:off x="533520" y="1220760"/>
            <a:ext cx="7711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4876920" y="2971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228600" y="1066680"/>
            <a:ext cx="83217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76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- چند راهبردمفید برای مواردی که موفق نمی شوید به افراد یا موسسات دست یابید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ه سراغ افراد دیگر برو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ه سراغ موسسات دیگر برو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ه سراغ فرد دیگری درهمان موسسه برو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380880" y="1430280"/>
            <a:ext cx="8398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سمی: در کد گذاری یک پرسشنامه در تحلیل کامپیوتری پاس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«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ذکر» به عنوان «یک» و «مونث» به عنوان «دو» ک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گذاری میشو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2"/>
          <p:cNvSpPr/>
          <p:nvPr/>
        </p:nvSpPr>
        <p:spPr>
          <a:xfrm>
            <a:off x="228600" y="1371600"/>
            <a:ext cx="864252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رتیبی: در کد گذاری یک پرسشنامه، پاسخ های «خیل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ضایت بخش» «رضایت بخش» و «نه رضایت بخش و نه غی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ضایت بخش» «خیلی رضایت بخش و قانع کننده» به ترتی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د گذاری شده ا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2"/>
          <p:cNvSpPr/>
          <p:nvPr/>
        </p:nvSpPr>
        <p:spPr>
          <a:xfrm>
            <a:off x="304920" y="1506600"/>
            <a:ext cx="86263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فاصله ای: اندازه گیری ها بر اساس معیار کمی صورت گرف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ست که در آن تفاوت های بین نقاط به طور دائم اندازه (سای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شابه ولی نقطه اصلی اختیاری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228600" y="1582560"/>
            <a:ext cx="86263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سبی: مقیاس و اندازه گیری ها بر اساس معیار کمی صورت گرفته است که در آن تفاوت های بین نقاط به طور دائم به یک اندازه مشابه هست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ثال: سن افراد-جمعیت کشور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2"/>
          <p:cNvSpPr/>
          <p:nvPr/>
        </p:nvSpPr>
        <p:spPr>
          <a:xfrm>
            <a:off x="304920" y="1735200"/>
            <a:ext cx="862632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111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معنی داری،تعمیم پذیر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روایی و اعتبا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عنی داری: یک تعریف آماری خاص و یک تعریف عامیانه دار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قابلیت تعمیم پذیری: ارتباط خاصی با تحقیق در مقیاس کوچک دار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2"/>
          <p:cNvSpPr/>
          <p:nvPr/>
        </p:nvSpPr>
        <p:spPr>
          <a:xfrm>
            <a:off x="0" y="1506600"/>
            <a:ext cx="900756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وایی: روش و دیدگاه و تکنیک های شما واقعا با موضوعی که تحقیق میکنید ارتباط دار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عتبار: اگر یک محقق دیگر هم تحقیق شما را انجام بدهد به یک نتیجه مشابه می رس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3"/>
          <p:cNvSpPr/>
          <p:nvPr/>
        </p:nvSpPr>
        <p:spPr>
          <a:xfrm>
            <a:off x="457200" y="1973160"/>
            <a:ext cx="533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ار تحقیق بدون نگارش معنی ندار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WordArt 4"/>
          <p:cNvSpPr txBox="1"/>
          <p:nvPr/>
        </p:nvSpPr>
        <p:spPr>
          <a:xfrm>
            <a:off x="1066680" y="4191120"/>
            <a:ext cx="4800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این بخش شامل قسمت های زیر است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2"/>
          <p:cNvSpPr/>
          <p:nvPr/>
        </p:nvSpPr>
        <p:spPr>
          <a:xfrm>
            <a:off x="304920" y="838080"/>
            <a:ext cx="58672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هیه پیش نویس و طراحی مجدد آن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چگونه بحث کنیم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چگونه انتقاد کنیم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ای چه افرادی می نویسیم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2"/>
          <p:cNvSpPr/>
          <p:nvPr/>
        </p:nvSpPr>
        <p:spPr>
          <a:xfrm>
            <a:off x="609480" y="990720"/>
            <a:ext cx="5562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ستور ، نشانه گذاری ، امل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اربرد جدول ، نمودار و تصاویر دیگر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هراس ها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152280" y="1752480"/>
            <a:ext cx="8610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وقتی سرشان کمتر شلوغ است، دوباره تلاش کن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اهکار های تحقیقتان راعوض کن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سود بردن از دستیابی به افراد یا موسسات، کاری یک مرحله ا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یست،یک فرایند مستمر و پر زحمت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838080" y="2743200"/>
            <a:ext cx="6629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وشتن آیینه ای است که کل فلسفه تحقیق تا حدی در آن نمایان است . اساس این کار سازمان ، نظم و رعایت آداب است . نگارش تحقیق باید زود شروع شود و به شکل یک وظیفه مستمر در آ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WordArt 3"/>
          <p:cNvSpPr txBox="1"/>
          <p:nvPr/>
        </p:nvSpPr>
        <p:spPr>
          <a:xfrm>
            <a:off x="838080" y="914400"/>
            <a:ext cx="5715000" cy="10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تهیه پیش نویس و باز نویسی آن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WordArt 2"/>
          <p:cNvSpPr txBox="1"/>
          <p:nvPr/>
        </p:nvSpPr>
        <p:spPr>
          <a:xfrm>
            <a:off x="1219320" y="1447920"/>
            <a:ext cx="5734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دو مهارت اصلی در این قسمت کدامند ؟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1066680" y="3657600"/>
            <a:ext cx="609624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تشخیص اینکه چه زمانی نیاز به باز نویسی گزارش یا پایان نامه و یا بخشی از آن دارید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دانستن اینکه چه زمانی به اندازه کافی باز نویسی برنامه ریزی کرده اید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1143000" y="3505320"/>
            <a:ext cx="548640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فقط نمی توانم شروع کن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کلمات زیادی برای نوشتن هست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WordArt 3"/>
          <p:cNvSpPr txBox="1"/>
          <p:nvPr/>
        </p:nvSpPr>
        <p:spPr>
          <a:xfrm rot="5400000">
            <a:off x="6281280" y="3776400"/>
            <a:ext cx="3733920" cy="600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خانه </a:t>
            </a: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112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108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8" name="WordArt 4"/>
          <p:cNvSpPr txBox="1"/>
          <p:nvPr/>
        </p:nvSpPr>
        <p:spPr>
          <a:xfrm>
            <a:off x="1066680" y="2438280"/>
            <a:ext cx="5334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66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یست نوع طفره روی معمو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66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1066680" y="1066680"/>
            <a:ext cx="563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طفره رفتن را بشناسیم و خود را از آن خلاص کنی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20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609480" y="1371600"/>
            <a:ext cx="563904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الفاظ کمی برای نوشتن به ذهنم می آ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قبلا هرگز رساله آموزشی ننوشته ا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ا پیش از این هیچگاه گزارش کار ننوشته ا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فردا انجامش می ده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سر حال نیست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609480" y="1287360"/>
            <a:ext cx="5562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8-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موج سواری را ترجیح می ده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9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خیلی شلوغ است ، تمرکز ندار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0-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نمی توانم تایپ کن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پردازشگرم از کار افتاده است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این کار قبلا صورت گرفته است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533520" y="1295280"/>
            <a:ext cx="5715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3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نکته اصلی چیست ؟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4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اید بروم اجاق گاز را تمییز کن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5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خیلی سخت است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6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در نوشتن اصلا خوب نیست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7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فقط نیم ساعت وقت دار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990720" y="1600200"/>
            <a:ext cx="52578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8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ای کاش هرگز شروع نمی کرد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9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حالم خوب نیست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0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چه ها زودتر به خانه برمی گردن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3"/>
          <p:cNvSpPr/>
          <p:nvPr/>
        </p:nvSpPr>
        <p:spPr>
          <a:xfrm>
            <a:off x="762120" y="8380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یست توصیه برای غلبه کردن برطفره رفتن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914400" y="2209680"/>
            <a:ext cx="5410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یادداشت برداری از آنچه خوانده ا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یادداشت برداری از مصاحبه ها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یادداشت برداری از گفتگو با استاد راهنم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هیه پیش نویس صفحه فهرست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609480" y="1440000"/>
            <a:ext cx="556272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ایپ منابع یا کتابنامه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هیه یک پیش نویس برای یک بخش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ایپ نقل قول ها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8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یادداشت نکاتی که ممکن است به آنها مراجعه کن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9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میزان معینی از نوشتن در هر روز ، ماه ، هفته ، سال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609480" y="1219320"/>
            <a:ext cx="563904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0 –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نظریات خود را ضبط و توصیف کن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هر چه به ذهنتان می رسد بنویس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در نظر بگیرید چه تعداد کلمه می خواهید در هر فصل بنویس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3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ویرایش کن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228600" y="533520"/>
            <a:ext cx="8626320" cy="60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79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”نمونه گیری تصادفی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تصادفی سا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اصول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خوشه ا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دسته ا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طبقه ا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762120" y="1600200"/>
            <a:ext cx="5410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4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از خودتان پذیرایی کن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5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ه تعلل های خودتان بیندیش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6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ا وقتی چیزی ننوشته اید به کار دیگری نپرداز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7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نوشته خود را به دیگری بدهید تا بخوان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2"/>
          <p:cNvSpPr/>
          <p:nvPr/>
        </p:nvSpPr>
        <p:spPr>
          <a:xfrm>
            <a:off x="685800" y="1523880"/>
            <a:ext cx="54100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8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در مورد آن با دیگران گفت و گو کن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9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نگارش را در وقت دیگری از روز یا هفته انجام ده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0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هر چیزی به نظرتان می رسد ، ننویس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838080" y="2201760"/>
            <a:ext cx="55627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شما به ویرایش به دلایل زیر نیازمند هست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گرد آوری مطالب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قلیل طول یا اندازه آنچه نوشته ا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صلاح بخش های قدیم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WordArt 3"/>
          <p:cNvSpPr txBox="1"/>
          <p:nvPr/>
        </p:nvSpPr>
        <p:spPr>
          <a:xfrm>
            <a:off x="1066680" y="838080"/>
            <a:ext cx="52578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</a:t>
            </a: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ویرایش و اصلاح نوشته ها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8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20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2"/>
          <p:cNvSpPr/>
          <p:nvPr/>
        </p:nvSpPr>
        <p:spPr>
          <a:xfrm>
            <a:off x="685800" y="2362320"/>
            <a:ext cx="52578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عویض ساختار آنچه نوشته ا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اسخ به توصیه های خوانندگان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حذف مکررات غیر عم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20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914400" y="982800"/>
            <a:ext cx="5257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1523880" y="2209680"/>
            <a:ext cx="44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"/>
          <p:cNvSpPr/>
          <p:nvPr/>
        </p:nvSpPr>
        <p:spPr>
          <a:xfrm>
            <a:off x="1752480" y="212580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کوتاه کردن نوشته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762120" y="3429000"/>
            <a:ext cx="52578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حذف کلمات تکراری و غیر ضروری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خلاصه کردن دو یا چند جمله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حذف ارجاعاتی که ربطی به بحث ندار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WordArt 7"/>
          <p:cNvSpPr txBox="1"/>
          <p:nvPr/>
        </p:nvSpPr>
        <p:spPr>
          <a:xfrm>
            <a:off x="1295280" y="762120"/>
            <a:ext cx="52578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اندازه مناسب در نوشتن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457200" y="1981080"/>
            <a:ext cx="62485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ادن جدول و نمودار به جای توصیفات طولان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داشتن کل بخش یا حتی فصل در جایی که به موضوع بحث لطمه نز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2"/>
          <p:cNvSpPr/>
          <p:nvPr/>
        </p:nvSpPr>
        <p:spPr>
          <a:xfrm>
            <a:off x="990720" y="2743200"/>
            <a:ext cx="5562360" cy="22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روش برنامه ریزی شده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روش بریدن و کاستن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WordArt 3"/>
          <p:cNvSpPr txBox="1"/>
          <p:nvPr/>
        </p:nvSpPr>
        <p:spPr>
          <a:xfrm>
            <a:off x="533520" y="1143000"/>
            <a:ext cx="6067440" cy="10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دو روش اساسی در تعیین اندازه نگارش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animClr clrSpc="rgb">
                                      <p:cBhvr>
                                        <p:cTn id="33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set>
                                      <p:cBhvr>
                                        <p:cTn id="334" dur="3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3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609480" y="914400"/>
            <a:ext cx="54864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چگونه نگارش خود را گسترش بدهید ؟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ه جستجوی مراجع و نقل قولهای بیشتر در ارتباط با موضوعات یا مطالبی که می نویسید ، بپرداز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ا بسط دادن موضوع مورد بحث ، جملات جدید در پاراگراف ها وارد کن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762120" y="1668600"/>
            <a:ext cx="54864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خش ها یا فصل های جدید مرتبط بیفزای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ضمائمی درون متن اصلی بگنجان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حث درباره روش خود و چگونگی عملکرد آن را گسترش ده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685800" y="3429000"/>
            <a:ext cx="5867280" cy="30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سازمان دهی نوشته 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گزارش یا رساله شما از لحاظ سازمان باید شامل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عناصر زیر باش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WordArt 3"/>
          <p:cNvSpPr txBox="1"/>
          <p:nvPr/>
        </p:nvSpPr>
        <p:spPr>
          <a:xfrm>
            <a:off x="1447920" y="533520"/>
            <a:ext cx="4572000" cy="12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مقابله با وقفه ها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5" name="WordArt 4"/>
          <p:cNvSpPr txBox="1"/>
          <p:nvPr/>
        </p:nvSpPr>
        <p:spPr>
          <a:xfrm>
            <a:off x="2209680" y="2133720"/>
            <a:ext cx="37339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c42f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چگونه بحث کنیم ؟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ffc42f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0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8" dur="5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3352680" y="1066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304920" y="915840"/>
            <a:ext cx="847404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نمونه گیری غیر تصادف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راح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اختیا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سهمیه ا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هدفمن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ابعاد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685800" y="1905120"/>
            <a:ext cx="556272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مقدمه در ابتدا و نتیجه گیری در انتها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خش ها یا فصول متمایز که ممکن است به زیر بخش ها یا زیر فصل ها تقسیم شون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خش پیشینه تحقیق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جدول ، نمودار ، نقشه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خش های پیش از متن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WordArt 2"/>
          <p:cNvSpPr txBox="1"/>
          <p:nvPr/>
        </p:nvSpPr>
        <p:spPr>
          <a:xfrm>
            <a:off x="2362320" y="1066680"/>
            <a:ext cx="2066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مباحثه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914400" y="2438280"/>
            <a:ext cx="56386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زمینه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یک یا چند درون مایه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ظم و ترتیب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یوستگ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833 -0.0111 L 0 1.21387E-006 E">
                                      <p:cBhvr>
                                        <p:cTn id="414" dur="2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WordArt 2"/>
          <p:cNvSpPr txBox="1"/>
          <p:nvPr/>
        </p:nvSpPr>
        <p:spPr>
          <a:xfrm rot="5400000">
            <a:off x="6129000" y="4462560"/>
            <a:ext cx="33526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007600"/>
                    </a:gs>
                    <a:gs pos="50000">
                      <a:srgbClr val="00ff00"/>
                    </a:gs>
                    <a:gs pos="100000">
                      <a:srgbClr val="00760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خانه </a:t>
            </a: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007600"/>
                    </a:gs>
                    <a:gs pos="50000">
                      <a:srgbClr val="00ff00"/>
                    </a:gs>
                    <a:gs pos="100000">
                      <a:srgbClr val="00760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116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007600"/>
                  </a:gs>
                  <a:gs pos="50000">
                    <a:srgbClr val="00ff00"/>
                  </a:gs>
                  <a:gs pos="100000">
                    <a:srgbClr val="007600"/>
                  </a:gs>
                </a:gsLst>
                <a:lin ang="108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533520" y="1135080"/>
            <a:ext cx="556236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رساله چیزی بیشتر از یک ثبت منفصل کار تحقیقی است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ساختار رسمی رساله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فهرست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چکیده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WordArt 4"/>
          <p:cNvSpPr txBox="1"/>
          <p:nvPr/>
        </p:nvSpPr>
        <p:spPr>
          <a:xfrm>
            <a:off x="914400" y="685800"/>
            <a:ext cx="56959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شکل های ممکن برای رساله دانشگاه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762120" y="1744560"/>
            <a:ext cx="5410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مقدمه (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% حجم نوشته )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مرور منابع پیشین (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0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% )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طرح و روش تحقیق (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%)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اجرای تحقیق (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5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%)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ارائه و تجزیه و تحلیل اطلاعات (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5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457200" y="1440000"/>
            <a:ext cx="57913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نظریه پردازی و نقد نتایج یافته ها (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0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خلاصه و نتیجه گیری (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%)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منابع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کتابنامه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ضمائ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457200" y="1981080"/>
            <a:ext cx="57913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نگیزه های حاکم بر نوشته های دانشگاهی عبارتند از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وافقت با نظریه ای خاص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یشنهاد یا ارائه یک نظریه جد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صدیق اینکه نظریه حاضر امتیازهایی دارد اما نیاز به تقویت دار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WordArt 3"/>
          <p:cNvSpPr txBox="1"/>
          <p:nvPr/>
        </p:nvSpPr>
        <p:spPr>
          <a:xfrm>
            <a:off x="1752480" y="762120"/>
            <a:ext cx="449604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چگونه نقد کنیم ؟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457200" y="1515960"/>
            <a:ext cx="62485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رائه مجدد یک نظریه یا اظهار آن برای یک توضیح بهتر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د کردن یا نپذیرفتن یک نظریه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نطباق دو نظریه که ممکن است متفاوت باش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عتراف به نادرست بودن نظر قبلی مان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3"/>
          <p:cNvSpPr/>
          <p:nvPr/>
        </p:nvSpPr>
        <p:spPr>
          <a:xfrm>
            <a:off x="304920" y="2286000"/>
            <a:ext cx="6705360" cy="38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راهنمایی هایی درباره دستور و نشانه گذار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جتناب از جملات طولان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رهیز از پاراگراف های یک جمله ا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عدم استفاده از جملات ربطی در ابتدای پاراگراف ها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WordArt 4"/>
          <p:cNvSpPr txBox="1"/>
          <p:nvPr/>
        </p:nvSpPr>
        <p:spPr>
          <a:xfrm>
            <a:off x="685800" y="990720"/>
            <a:ext cx="5715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انتقاد به معنی مزخرف تلقی کردن نیست .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4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533520" y="1668600"/>
            <a:ext cx="5715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رهیز از دادن مطالب به صورت فهرست های طولانی ضمیمه ا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ستفاده از نشانه گذاری معیار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کار بستن درست علامت نقل قول و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WordArt 3"/>
          <p:cNvSpPr txBox="1"/>
          <p:nvPr/>
        </p:nvSpPr>
        <p:spPr>
          <a:xfrm>
            <a:off x="1600200" y="533520"/>
            <a:ext cx="45720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موارد استفاده از تصویر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762120" y="1981080"/>
            <a:ext cx="5410080" cy="42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(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جدول ، نمودار و تصاویر دیگر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جایی که می توان بجای متن تصویر گذاش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عدم استفاده از تصاویری که حق انحصاری دار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2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7" dur="20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0" dur="20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3" dur="200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228600" y="1219320"/>
            <a:ext cx="868680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انواع دیگر نمونه گیر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واقعه ا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زما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اهبرد های نمونه گیری متنوعی برای استفاده در دسترس هست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533520" y="1523880"/>
            <a:ext cx="579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380880" y="1143000"/>
            <a:ext cx="57913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ر متن به تک تک تصویر ها ارجاع دهیم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ر اغلب موارد بهتر است تصاویر تفکیک شو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وجه به نقش خسته کنندگی تصویر در متن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ستفاده از تصاویر بدون ابهام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0" dur="2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3" dur="20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6" dur="20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9" dur="20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WordArt 2"/>
          <p:cNvSpPr txBox="1"/>
          <p:nvPr/>
        </p:nvSpPr>
        <p:spPr>
          <a:xfrm rot="769800">
            <a:off x="3276360" y="0"/>
            <a:ext cx="1457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هراس ها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838080" y="1905120"/>
            <a:ext cx="5410440" cy="49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علت متداول برای ترس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آیا چیزی که برای من تازگی دارد ،اصیل هم هست ؟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همین اواخر متوجه شدم که شخص دیگری قبلا آن را نوشته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واقعا مزخرف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ظر مخالف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6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1" dur="2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4" dur="2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7" dur="2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0" dur="2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3" dur="20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WordArt 3"/>
          <p:cNvSpPr txBox="1"/>
          <p:nvPr/>
        </p:nvSpPr>
        <p:spPr>
          <a:xfrm>
            <a:off x="2971800" y="1523880"/>
            <a:ext cx="2209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خاتمه دادن </a:t>
            </a:r>
            <a:endParaRPr b="0" lang="en-US" sz="1800" spc="1" strike="noStrike">
              <a:ln w="0">
                <a:noFill/>
              </a:ln>
              <a:solidFill>
                <a:srgbClr val="00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609480" y="2514600"/>
            <a:ext cx="66294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ین فصل به موضوعات زیر می پرداز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آیا می خواهید کار را تمام کنید ؟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سخه ما قبل آخر و نسخه نهای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333 -0.00069 L -3.33333E-006 -3.75723E-006 E">
                                      <p:cBhvr>
                                        <p:cTn id="689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4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7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0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304920" y="1676520"/>
            <a:ext cx="586728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فزوده ها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حالا باید چکار کنم ؟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1066680" y="3657600"/>
            <a:ext cx="541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یست علت مناسب برای تحویل ندادن گزارش یا رساله در موعد مقرر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7" dur="2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0" dur="20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304920" y="1447920"/>
            <a:ext cx="59436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یسک سخت رایانه ام خراب شده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اشینم خراب شده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ادرم مریض شده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لیت بخت آزمایی برنده شده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ار های مهمتری دارم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838080" y="182088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380880" y="1371600"/>
            <a:ext cx="58676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ی خواهم ازدواج کنم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حالم خوب نی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8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ان را گم کرده ام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9- 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1295280" y="1143000"/>
            <a:ext cx="5867640" cy="51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حران های غیر قابل کنترل زندگ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خی علل قابل اجتناب هست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خی نیز حالت بینابین دار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WordArt 3"/>
          <p:cNvSpPr txBox="1"/>
          <p:nvPr/>
        </p:nvSpPr>
        <p:spPr>
          <a:xfrm>
            <a:off x="1219320" y="838080"/>
            <a:ext cx="5962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تعویق های اجتناب پذیر واجتناب ناپذیر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5" dur="20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8" dur="20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1" dur="20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1828800" y="1219320"/>
            <a:ext cx="59436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وشتن عنوان ، نام خودتان و ... روی صفحه عنوان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چک کردن تمام صفحا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شماره گذاری صفحا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شماره گذاری فصول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WordArt 3"/>
          <p:cNvSpPr txBox="1"/>
          <p:nvPr/>
        </p:nvSpPr>
        <p:spPr>
          <a:xfrm>
            <a:off x="2666880" y="1143000"/>
            <a:ext cx="45720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کنترل نسخه ماقبل آخر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1371600" y="1219320"/>
            <a:ext cx="571500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نترل غلط های املای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عایت حاشیه ها و فاصله ها بین سطر ها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عایت قید منابعی که در متن آمده اند در فهرست پایان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8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ادن جزئیات هر منبع در فهرست منابع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9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عایت ضوابط فنی نگارش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7" dur="2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0" dur="20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3" dur="20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6" dur="20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9" dur="20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762120" y="1066680"/>
            <a:ext cx="586728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قدیم به پدر و مادر عزیز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قدیم به خواهر فرهیخته ا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قدیم به همسر و فرزند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قدیم به دانشجویان محق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WordArt 3"/>
          <p:cNvSpPr txBox="1"/>
          <p:nvPr/>
        </p:nvSpPr>
        <p:spPr>
          <a:xfrm>
            <a:off x="2286000" y="1143000"/>
            <a:ext cx="518148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برخی تقدیم نامه های رایج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6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1" dur="20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4" dur="2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7" dur="2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0" dur="2000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05:58:39Z</dcterms:created>
  <dc:creator>7613</dc:creator>
  <dc:description/>
  <dc:language>en-US</dc:language>
  <cp:lastModifiedBy>P.R.S</cp:lastModifiedBy>
  <dcterms:modified xsi:type="dcterms:W3CDTF">2014-12-08T05:00:37Z</dcterms:modified>
  <cp:revision>5</cp:revision>
  <dc:subject/>
  <dc:title>Slide 1</dc:title>
</cp:coreProperties>
</file>