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  <p:sldId id="357" r:id="rId112"/>
    <p:sldId id="358" r:id="rId113"/>
    <p:sldId id="359" r:id="rId114"/>
    <p:sldId id="360" r:id="rId115"/>
    <p:sldId id="361" r:id="rId116"/>
    <p:sldId id="362" r:id="rId117"/>
    <p:sldId id="363" r:id="rId118"/>
    <p:sldId id="364" r:id="rId119"/>
    <p:sldId id="365" r:id="rId120"/>
    <p:sldId id="366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slide" Target="slides/slide102.xml"/><Relationship Id="rId113" Type="http://schemas.openxmlformats.org/officeDocument/2006/relationships/slide" Target="slides/slide103.xml"/><Relationship Id="rId114" Type="http://schemas.openxmlformats.org/officeDocument/2006/relationships/slide" Target="slides/slide104.xml"/><Relationship Id="rId115" Type="http://schemas.openxmlformats.org/officeDocument/2006/relationships/slide" Target="slides/slide105.xml"/><Relationship Id="rId116" Type="http://schemas.openxmlformats.org/officeDocument/2006/relationships/slide" Target="slides/slide106.xml"/><Relationship Id="rId117" Type="http://schemas.openxmlformats.org/officeDocument/2006/relationships/slide" Target="slides/slide107.xml"/><Relationship Id="rId118" Type="http://schemas.openxmlformats.org/officeDocument/2006/relationships/slide" Target="slides/slide108.xml"/><Relationship Id="rId119" Type="http://schemas.openxmlformats.org/officeDocument/2006/relationships/slide" Target="slides/slide109.xml"/><Relationship Id="rId120" Type="http://schemas.openxmlformats.org/officeDocument/2006/relationships/slide" Target="slides/slide110.xml"/><Relationship Id="rId121" Type="http://schemas.openxmlformats.org/officeDocument/2006/relationships/slide" Target="slides/slide111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6ED-6A79-44D7-83F3-6A74AEE9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C18-EE93-4C39-AEC3-DF21D717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BC059-3E3D-4C71-A659-2BC66BF6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8B6C2-3A95-459D-A275-D4110E1F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6BBEE-39E4-4165-A5A9-833E87F7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FB1A5-0CE5-4A3B-A615-741D44C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50F70-8E36-4F49-BD82-5EF8C400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CCF3A-129E-4F4F-BCF4-C74DFA38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850F4-29D1-44F4-AE24-F68A2EEE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88A0B-2CC3-4B17-8470-23558C0D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DFF97-85C1-437E-8D4E-E2AD1241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65C-4496-4DA1-986C-5C55FB2E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FA2-EF66-4921-A1C7-CAFF09CD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F600-6FCC-4B18-B2C4-164D658D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3DE9-D06C-41F8-90E5-C25A886A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0098-D553-4E85-B031-30A4507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F30E-C4F6-41FF-9E14-C8A2C083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DEE4-3892-4434-AEE8-03E75171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CFF-B9A8-4A07-A358-FC67A85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2B7B-025A-417E-886C-8A2D54A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6DB-8216-4F0B-9BD9-54E6175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3A2F-F50F-4701-9121-D73388BE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880-7D3C-4AC4-8344-1A44BAF2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17E3-D3B1-433F-914A-E42CFD30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4132-E7EB-4CF1-A33E-1AC8D732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7854-126F-49E4-898C-082C84DB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7F49-A298-46B1-B20D-148231C0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973B-71E2-4630-9921-5749EF77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763B-E834-44A4-B4F5-FB65CF8F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571D-F37F-4D6B-9D39-4112378E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87FB-C206-487D-A65F-ADA5CA14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7CB-A80E-49A1-942C-B4220139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3085-A992-4E51-9471-E963F754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2ACE-B0FB-4443-8696-E550EB7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9681-4435-484B-B43B-D688BFD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749A-EADD-4F4D-8A01-D78EDA26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E3A6-8720-4469-A6AC-BCD045F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8EE0-B39F-4096-B421-40293DFB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31C0-96DE-4092-923B-B8829D49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2C39-339A-4277-9323-78798147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B560-BA08-4160-8813-62896A80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513E0-ADCE-47DA-95E7-210200DC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101-315F-47DC-ADB4-6C68CCA7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15F1-D6D8-44C1-A397-8CC3A83D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DDA28-9A80-47E5-AA72-2D7AC163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0228-9538-4568-B3F6-30DA6EE4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3FAE-4840-4A34-8C2F-4E8E29B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D6E5-A7A4-43E6-951C-7AA2092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6421-B352-4312-8685-F082136F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08B6-1944-425C-8998-E48E0DE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9E98-F195-49ED-B259-212D6695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B472-199E-4A75-9D15-446EE366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58018-CD18-4A47-84B6-88E062E8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825-0A8C-4D97-A931-B05B33F9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DBE1-5AFE-457C-B727-520453E7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3A925-F873-4921-B082-E67D167B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CBF9F-5CF8-4ECE-8076-80308F7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D8507-CDD5-4047-86D9-FE9B6C89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51028-4CBB-4097-ACE8-4881CA5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9B487-EC80-4B82-8C4A-FC2D0ADC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5ED1C-BF03-420E-9F6C-C2E6B95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46478-E6A5-4965-8703-6964DB29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4B12-F930-4489-9903-88651E7A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CD9D-0C62-4CD2-90FE-89FACBD5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283-1A10-45F1-BFB4-72D2C2B0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C832-E5A2-4E64-B523-6A44E8C8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1A63-0BCD-4B09-A295-227D4DD3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A8D0-E869-4A04-A271-376F2D42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DD55B-4D9E-4AF3-A6FD-0FFBD93A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775A-8A7A-4BD0-9690-5FD52BDD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A6CD6-42FA-4EAB-8130-5AC334D4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B7359-DDB2-42E5-8DE3-59070885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9C951-B87A-4FC0-A65F-7C88EB7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741FD-425E-4D6F-A2B4-FDE0E32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C38D4-32D2-4B10-B8F6-FE4E3662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7B7-71A1-4AEA-9D6E-78AC517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B087E-E0B0-4FE3-9698-9B1C5E40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2DA98-F0A9-4AE8-9FD2-FCB75930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FBEE-96F5-4900-89B9-1FBEFBE4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43A49-2851-4171-81D2-D0F2DE8B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794D1-38F8-4BA8-AC93-790F0DF7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27B0C-BE35-4E91-9426-676EE6D5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2790F-BC6F-4467-A142-FB9BBDFC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261C5-2C54-4B4E-8BB4-431EAAC0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9DD44-2F06-4932-8DAD-ECD78ADC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1260-6FCA-4CAD-B64D-AC79BD3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3EA-61CC-4118-8DB2-1FD22C3A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7C267-ED23-49F1-ABAB-D35ECADA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5B725-32B9-4B09-A9A5-D5598DD4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382FA-E2F7-479F-A103-C885638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8DDEA-96F9-45A8-A778-48CB788D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1F14B-AF12-4394-A418-98893863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1EBDD-EAD9-470F-94A8-3D9384E1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B0E35-A64D-4E8F-B93D-D656E7D4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E8522-9163-466B-A91D-CB4FDA8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86932-B156-4E1C-9FA8-C8436EBA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8867F-8D5B-4A1A-9D2B-0C475FC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E0C-6400-4688-9EEC-19C8E22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25BD3-DA18-4496-9353-2B7E2032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25D9E-A088-475C-B9C8-6FDD58F6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D8EF-31BA-41AF-8A4D-6854AA3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A6F30-E411-4126-82FF-5D43B6C0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65526-4EE3-488C-8373-DFC0AC8E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6AAD2-F642-48DE-AE0F-57057120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F4FB1-8D19-44CF-9049-A0E24567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6BF7F-4251-4F20-8D06-1029B5E3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EDF29-E6D4-4C50-91DA-9BC4A48B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226D9-E3D0-4702-8890-DD1377AD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EBB0-0667-4C09-859A-6DB0F11BD82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1A57-9100-420A-87B0-729B0F596E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906D-CDB8-4695-AD45-F8717E6FEDD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C1B6-02F6-481D-9376-B5884E0F2ED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0245-8BBC-48EC-B9D3-685B5F08952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E5F3-A9AA-4749-A724-9B1963CF8EF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1F43-4ED1-4908-BAC9-A0B7C3A71C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87CB-F025-421F-BB61-32C8BC7C8D1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4DD0-F389-4B81-BDCF-A6B09B5AB1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914400"/>
            <a:ext cx="8763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جمع آوری داده 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ستیابی و شئونات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و گزین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" y="685800"/>
            <a:ext cx="8610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برخی پروژه های تحقیق،تمرکز جمع آوری داده ها بر اسناد گوناگون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 مبنای کتابخ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مبنای رای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شتن یک کانون خط مش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شتن یک جهت گیری تاریخ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2"/>
          <p:cNvSpPr txBox="1"/>
          <p:nvPr/>
        </p:nvSpPr>
        <p:spPr>
          <a:xfrm>
            <a:off x="5638680" y="533520"/>
            <a:ext cx="268128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نوشتتن چکید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80880" y="1905120"/>
            <a:ext cx="739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80880" y="2057400"/>
            <a:ext cx="784872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چکیده نباید بیش از بیست واژه باش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خلاصه ای از موضوع ، متن ، روش و نتایج کتاب یا مقاله و بیش از نیم ساعت نباید برای آن وقت صرف کرد.</a:t>
            </a:r>
            <a:r>
              <a:rPr b="0" lang="fa-I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2"/>
          <p:cNvSpPr txBox="1"/>
          <p:nvPr/>
        </p:nvSpPr>
        <p:spPr>
          <a:xfrm>
            <a:off x="3048120" y="68580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راحل ارزیاب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4" name="WordArt 3"/>
          <p:cNvSpPr txBox="1"/>
          <p:nvPr/>
        </p:nvSpPr>
        <p:spPr>
          <a:xfrm>
            <a:off x="2819520" y="21337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مسائل عمومی این مرحله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533520" y="3421080"/>
            <a:ext cx="7315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کار در چه زمانی به دست طرف مقابل می رس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وظایف استاد راهنما ، ارزیاب ، سرپرست ، مشاور و... چیس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0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3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5800" y="1600200"/>
            <a:ext cx="7086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چه رویدادهای ویژه ای با مراحل ارزیابی مرتبط اند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با انتقاد،برگشت به منظور تجدید نظر یا رد شدن کارتان چگونه کنار می آی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3"/>
          <p:cNvSpPr txBox="1"/>
          <p:nvPr/>
        </p:nvSpPr>
        <p:spPr>
          <a:xfrm>
            <a:off x="2666880" y="4724280"/>
            <a:ext cx="385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زمان و موقعیت دریافت کار </a:t>
            </a:r>
            <a:endParaRPr b="0" lang="en-US" sz="32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WordArt 3"/>
          <p:cNvSpPr txBox="1"/>
          <p:nvPr/>
        </p:nvSpPr>
        <p:spPr>
          <a:xfrm>
            <a:off x="1752480" y="68580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رزیابی های متداول دانشگاه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152280" y="2286000"/>
            <a:ext cx="7315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هرقدر سطح تعیین کیفیت بالاتر باشد احتمال بیشتری دارد که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ارزشیابی شما توسط ارزشیابان خارجی انجام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براساس کار خودتان ارزیابی می شو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838080" y="1600200"/>
            <a:ext cx="6934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در جریان ارزیابی مجبور به شرکت در جلسه ارائه باش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کارتان به منظور انجام برخی اصلاحات جزیی برگردانده شو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3"/>
          <p:cNvSpPr txBox="1"/>
          <p:nvPr/>
        </p:nvSpPr>
        <p:spPr>
          <a:xfrm>
            <a:off x="838080" y="533520"/>
            <a:ext cx="613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کارهایی که قبل از ارائه تحقیق باید انجام داد :</a:t>
            </a:r>
            <a:endParaRPr b="0" lang="en-US" sz="32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762120" y="2590920"/>
            <a:ext cx="6095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رس و جو کنید و ببینید چه کسانی در جلسه هستن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حوه عرضه نتایج تحقیق خود را تمرین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5 -0.0222 L 5.55112E-017 8.09249E-007 E">
                                      <p:cBhvr>
                                        <p:cTn id="953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8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1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914400" y="1440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عی کنید اطلاعاتتان به روز باش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اسخگویی به سوالات را تمرین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والاتی که مایلید از شما بپرسند ،تهیه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عی کنید از جلسه ارائه لذت بب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8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1" dur="2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4" dur="2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7" dur="20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914400" y="1828800"/>
            <a:ext cx="7010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دانید که شما نیز خود مقیاسی برای کنترل دا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آماده دفاع از کار و پیشرفت آن باشید و در عین حال محدودیت ها ونواقص آن را نیز بشناس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>
            <a:off x="380880" y="838080"/>
            <a:ext cx="851544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با انتقاد ، برگشت به منظور تجدید نظر یا رد شدن کارتان چگونه کنار بیایید ؟</a:t>
            </a:r>
            <a:endParaRPr b="0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6" name="WordArt 3"/>
          <p:cNvSpPr txBox="1"/>
          <p:nvPr/>
        </p:nvSpPr>
        <p:spPr>
          <a:xfrm>
            <a:off x="2971800" y="2209680"/>
            <a:ext cx="3191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</a:t>
            </a:r>
            <a:r>
              <a:rPr b="0" lang="hi-I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واکنش نسبت به نقد</a:t>
            </a: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295280" y="3429000"/>
            <a:ext cx="5791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قد را با روی باز بپذ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صحت و مفهوم ضمنی نقد را برای تحقیق خود ارزیابی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838080" y="1600200"/>
            <a:ext cx="6705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قد را با واکنش های دیگری که کارتان بوجود آورده ، مقایسه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افته ها و استراتژیهای تحقیق تان را در صورت لزوم اصلاح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اسخی سنجیده به نقد ب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8670960" y="106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0492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0" y="3048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80880" y="228600"/>
            <a:ext cx="8458200" cy="9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8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دلایل استفاده ازداده های موجود(ثانوی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زمان بر و پر هزینه بودن جمع آوری داده های اولی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مکان داده های کا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رایش به سمت استفاده ازگرایش های موج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کمل داده های اولیه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2"/>
          <p:cNvSpPr txBox="1"/>
          <p:nvPr/>
        </p:nvSpPr>
        <p:spPr>
          <a:xfrm>
            <a:off x="457200" y="838080"/>
            <a:ext cx="838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99cc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یست مورد از کارهایی که بعد از اتمام کار تحقیقی می توانید انجام دهید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cffcc"/>
                  </a:gs>
                  <a:gs pos="50000">
                    <a:srgbClr val="99cc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1066680" y="2666880"/>
            <a:ext cx="6934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تعطیلات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رختخواب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سونا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762120" y="1363680"/>
            <a:ext cx="7391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ا دوستان صمیمی جشن بگ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مینارهایی برای اشاعه یافته هایتان ترتیب 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کتاب جالب بخوا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ژیم بگ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افته هایتان را تحقق بخش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9- 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3" dur="2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6" dur="2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9" dur="2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2" dur="20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5" dur="2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8" dur="20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1" dur="20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228600" y="99216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5334120" y="1676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04920" y="1447920"/>
            <a:ext cx="8413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مکان تایید،اصلاح یا نقض یافت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مکان تمرکز برتحلیل و تفس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مکان انجام یک مطالعه تحقیقی جدای ازآنچه قبلا صورت گرفت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دلیل استفاده داده های بیشتر از آنچه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7832880" y="992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52280" y="914400"/>
            <a:ext cx="86266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8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کنیک های گوناگون مصاحب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رودررو یا درفاص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درخانه یا درمحل ک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ساختاریافته، بدون ساختار، نیمه ساختاریا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براساس فرم های متن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4648320" y="1066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8610480" y="1525680"/>
            <a:ext cx="2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04920" y="1752480"/>
            <a:ext cx="8474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نفره یا گروه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با اطلاع یا بدون اطلاع قب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ثبت یا ضبط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228600" y="10666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733920" y="19810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52280" y="1144440"/>
            <a:ext cx="86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228600" y="1066680"/>
            <a:ext cx="86868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         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مشاهد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ساختار یا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بدون ساخت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ساختار یافت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لف:ضبط کردن وقایع به شیوه ای اصولی به همان صورتی که اتفاق افتا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533520" y="91440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: کد گذاری این وقایع در دسته های ازپیش مشخص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: تحلیل بعدی وقایع برای ارائه توصیف رابطه معلم-شاگ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228600" y="1523880"/>
            <a:ext cx="8686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پرسش نام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روش یکی ازمتداول ترین تکنیک های تحقیق اجتماعی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ک پرسش نامه کاملا ایده ال وجود ن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095880" y="1905120"/>
            <a:ext cx="22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8518680" y="1125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533520" y="1981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04920" y="685800"/>
            <a:ext cx="838188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انواع پرسش نامه های مید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میت یا اطل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قوله(نو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هرست یا انتخاب چند گ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نجش(معی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جه بن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یا چار خانه ترک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ز(نا محدو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0" y="1049400"/>
            <a:ext cx="885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228600" y="1125360"/>
            <a:ext cx="87026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2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کاتی راجع به تنظیم سوال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طرح سوالات م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وجه به سوالاتی که مستلزم به خاطر آوردن یااطلاعات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اکید بر سوالات ساده به جای پیچی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2280" y="152388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کار گیری تکنیک ها یی برای 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ناد ،مصاحبه ها، مشاهد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سشنامه ها،مستند سازی پیشرفت ک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ز و نشیب ها در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80880" y="1219320"/>
            <a:ext cx="8474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طرح سوالاتی که جواب مشخصی را تداعی نک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سوالات م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سوالات فرضی مافوق تجربه پاسخگ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سوالاتی که حالت تدافعی ایجاد میک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جتناب از سوالاتی که حدی بر آنها نی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304920" y="838080"/>
            <a:ext cx="8610480" cy="58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ثبت پیشرفت ک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یادداشت بردا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روزانه تحقی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عبه ها و فایل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یان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228600" y="1353960"/>
            <a:ext cx="877896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ضمیمه های کارت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گهداری اسناد تحقی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گی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ز و نشیب 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نها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8959680" y="1219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28600" y="1201680"/>
            <a:ext cx="877896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وسواس و دل مشغولی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 کار های اصلی که می توانند به شما کمک کن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طرح ریزی و زمان بندی تحقیق به طور م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وزش به یک دو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دا کردن و استفاده از شبکه ای از محقق های پیشی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228600" y="1353960"/>
            <a:ext cx="870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fa-IR" sz="4000" spc="-1" strike="noStrike">
                <a:solidFill>
                  <a:srgbClr val="ad1f1f"/>
                </a:solidFill>
                <a:latin typeface="Arial Black"/>
              </a:rPr>
              <a:t>فصل هف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تحلیل داده ها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این فصل با مباحث زیر سازماندهی شده است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04920" y="1278000"/>
            <a:ext cx="86263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کل داده های ش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هیت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ازمانده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حلیل رایا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آیند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-304920" y="6858000"/>
            <a:ext cx="847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228600" y="144792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اسنا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مصاحب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مشاهد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پرسش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10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فس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2803680" y="3411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581280" y="2895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867280" y="2125800"/>
            <a:ext cx="24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5486400" y="220968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887480"/>
            <a:ext cx="8397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شکل داده ها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و جریان کلی که بر شیوه شما برای تحلیل داده هاتاثیر می گذارند در این بخش بررسی 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ضعیت داده های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حل و امکانات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228600" y="1430280"/>
            <a:ext cx="855036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داده های منظم یا نا منظ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نمود نظم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فتر یادداشت های مرت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یش های بر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جموعه ای از پاسخ نام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وشه های رنگی که نام گذاری شد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304920" y="2209680"/>
            <a:ext cx="84135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ار های رونوشت شده یا نام گذا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صویر یا طرح واض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ایگاه اطلاعاتی کامپیو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1249200"/>
            <a:ext cx="82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228600" y="1143000"/>
            <a:ext cx="86104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دستیابی و شئون اخلاق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ضوع تحقیق شما ممکن است مستلزم دستیابی به یک یا چند مورد زیر باش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ناد نگهداری شده درکتابخانه یا موسس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راد درمنزل، اجتماعات بزرگتر یا دراینتر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228600" y="1295280"/>
            <a:ext cx="84898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نمود هرج و مرج یا بی نظم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متفرق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غذ پار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بدی از مطالب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وشه های خالی یا متور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28600" y="1582560"/>
            <a:ext cx="87789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قل قول های با شتاب نوشته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قل قول هایی که نصف آنها به خاطر سپرده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غذ پوشه های که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ناخوا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304920" y="1582560"/>
            <a:ext cx="84740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از بی نظمی تا نظم و برگشت دوبا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d1f1f"/>
                </a:solidFill>
                <a:latin typeface="Arial Black"/>
              </a:rPr>
              <a:t>پیدایش بی نظمی         نبود کنترل               پیدایش 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fa-IR" sz="3200" spc="-1" strike="noStrike">
                <a:solidFill>
                  <a:srgbClr val="ad1f1f"/>
                </a:solidFill>
                <a:latin typeface="Arial Black"/>
              </a:rPr>
              <a:t>جستجوی ساخت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"/>
          <p:cNvSpPr/>
          <p:nvPr/>
        </p:nvSpPr>
        <p:spPr>
          <a:xfrm>
            <a:off x="32767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2666880" y="3124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7150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 flipH="1">
            <a:off x="1980720" y="411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 flipV="1">
            <a:off x="1981080" y="3428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76960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H="1">
            <a:off x="62485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212760" y="1523880"/>
            <a:ext cx="8931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49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حلیل مکان،فضا و ز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قسیم کمی / ک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50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فکر کردن درباره اطلاعات جمع آوری شده کلمات به چه معنا هستند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28600" y="1828800"/>
            <a:ext cx="848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600" spc="-1" strike="noStrike">
                <a:solidFill>
                  <a:srgbClr val="33cccc"/>
                </a:solidFill>
                <a:latin typeface="Arial Black"/>
              </a:rPr>
              <a:t>سازماندهی داد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9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: تکنیک هایی برای سازماندهی داد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مز گذاری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حاشیه نویس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ام گذاری  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انتخ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خلاص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228600" y="1523880"/>
            <a:ext cx="871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واردی در تحلیل مستند برای هر سندی که تحلیل میکنید سوالات زیر را از خود بپرسید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ؤلفین چه کسانی هست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قعیت آنها چی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ویه و مشی آنها چیست؟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457200" y="1600200"/>
            <a:ext cx="839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در کجا و چه زمانی این سند تهیه ش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چگونه و برای چه کسانی تهیه ش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فرضیه های اصلی آنها چی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ا چه حد مباحث آن قانع کنن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8-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-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304920" y="1658880"/>
            <a:ext cx="8474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تحلیل مصاحبه ها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3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مونه هایی از تحلیل مصاحب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بار: نخستین مرحله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محوری: یافتن ارتباط بین طبقه بندی های مشخص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28600" y="1582560"/>
            <a:ext cx="8397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نظری: تحول یک الگو و یک قالب شر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ثال هایی از تحلیل شواه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رکیب مشاهده با تکنیک های دیگ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823240" y="1506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04920" y="1897200"/>
            <a:ext cx="84358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مونه هایی از تحلیل پرسشنام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از ضوابط اصولی مر بوط به کد گذ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ها باید کاملا از هم متمایز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ها باید دقیق و جامع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ها باید در سرتاسر نوشته یک دست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380880" y="685800"/>
            <a:ext cx="84740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40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واردی برای بررسی پیش از جستجوی دستیاب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باره چه کسی یا موضوعی تحقیق می کنید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راد خاصی که نیازمند کسب اجازه از آنها هستید کدام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هدف شما معقولانه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می توانید مشکلات بالقوه مربوط به دستیابی را بشناسی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9051840" y="1295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828800"/>
            <a:ext cx="80010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مراحل پنجگانه کد گذا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شکیل چهار چوب برای سوال هایی که از قبل کد بندی شده یا ن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اختن کتابچه کد و دستورات کد گذ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بندی پرسشنام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228600" y="1981080"/>
            <a:ext cx="84898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تقال اطلاعات به رای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رسی و پاکسازی اطل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تحلیل پرسشنام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داده ها میتوانند کمی یا کیفی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1582560"/>
            <a:ext cx="8702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7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سطوح مختلف تجزیه و تحلیل های ک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ار توصیف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وانی متغیرها،میانگین ها،دامنه تغیی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ار استنبا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 آورد کردن اهمیت یافته ها و نتایج به دست آم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304920" y="1582560"/>
            <a:ext cx="8397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ت های س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متقاطع یا روابط علت و معلولی بی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متغی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حلیل چند متغی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طالعه ارتباط بین چند متغ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28600" y="1735200"/>
            <a:ext cx="8702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8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)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آمار توص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داده های اسمی و توصی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ت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صد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قسمت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28600" y="150660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داده های فاصله ای و نس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دازه گیری گرایشات مرکز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انگین                    - دامنه تغیی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انه                       - انحراف معی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304920" y="1506600"/>
            <a:ext cx="8550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ثال هایی از آمار استنبا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لف- مربع خی(کای اسکو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برای مقایسه مجمو عه ای از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 و داده های اس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28600" y="1506600"/>
            <a:ext cx="86263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کولومو گراو-اسمیر نو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برای مقایسه دو دسته د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 و داده های ترت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228600" y="1506600"/>
            <a:ext cx="86263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-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آزمون تی – استودن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الف) مقایسه میانگین یک نمو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)   مقایسه نمونه های دو نمو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،داده های فاصله ای و توزیع طبیع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04920" y="1658880"/>
            <a:ext cx="84740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هایی از داده های ک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رت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اصل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533520" y="1220760"/>
            <a:ext cx="771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4876920" y="2971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228600" y="1066680"/>
            <a:ext cx="8321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7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- چند راهبردمفید برای مواردی که موفق نمی شوید به افراد یا موسسات دست یابید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افراد دیگر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موسسات دیگر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فرد دیگری درهمان موسسه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380880" y="1430280"/>
            <a:ext cx="8398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می: در کد گذاری یک پرسشنامه در تحلیل کامپیوتری پاس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ذکر» به عنوان «یک» و «مونث» به عنوان «دو» ک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ذاری میشو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228600" y="1371600"/>
            <a:ext cx="86425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رتیبی: در کد گذاری یک پرسشنامه، پاسخ های «خیل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ضایت بخش» «رضایت بخش» و «نه رضایت بخش و نه غ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ضایت بخش» «خیلی رضایت بخش و قانع کننده» به ترت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304920" y="1506600"/>
            <a:ext cx="86263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اصله ای: اندازه گیری ها بر اساس معیار کمی صورت گر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 که در آن تفاوت های بین نقاط به طور دائم اندازه (سای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به ولی نقطه اصلی اختیاری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228600" y="1582560"/>
            <a:ext cx="8626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ی: مقیاس و اندازه گیری ها بر اساس معیار کمی صورت گرفته است که در آن تفاوت های بین نقاط به طور دائم به یک اندازه مشابه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ثال: سن افراد-جمعیت کشور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304920" y="1735200"/>
            <a:ext cx="86263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1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عنی داری،تعمیم پذ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روایی و اعتب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عنی داری: یک تعریف آماری خاص و یک تعریف عامیانه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قابلیت تعمیم پذیری: ارتباط خاصی با تحقیق در مقیاس کوچک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0" y="1506600"/>
            <a:ext cx="90075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وایی: روش و دیدگاه و تکنیک های شما واقعا با موضوعی که تحقیق میکنید ارتباط دار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عتبار: اگر یک محقق دیگر هم تحقیق شما را انجام بدهد به یک نتیجه مشابه می رس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3"/>
          <p:cNvSpPr/>
          <p:nvPr/>
        </p:nvSpPr>
        <p:spPr>
          <a:xfrm>
            <a:off x="457200" y="197316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 تحقیق بدون نگارش معنی ن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4"/>
          <p:cNvSpPr txBox="1"/>
          <p:nvPr/>
        </p:nvSpPr>
        <p:spPr>
          <a:xfrm>
            <a:off x="1066680" y="4191120"/>
            <a:ext cx="480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ین بخش شامل قسمت های زیر است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304920" y="838080"/>
            <a:ext cx="58672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هیه پیش نویس و طراحی مجدد آ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بحث کنی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انتقاد کنی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چه افرادی می نویسی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609480" y="990720"/>
            <a:ext cx="556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ستور ، نشانه گذاری ، 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 جدول ، نمودار و تصاویر دیگ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هراس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152280" y="1752480"/>
            <a:ext cx="8610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قتی سرشان کمتر شلوغ است، دوباره تلاش کن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کار های تحقیقتان راعوض کن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ود بردن از دستیابی به افراد یا موسسات، کاری یک مرحل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یست،یک فرایند مستمر و پر زحمت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274320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شتن آیینه ای است که کل فلسفه تحقیق تا حدی در آن نمایان است . اساس این کار سازمان ، نظم و رعایت آداب است . نگارش تحقیق باید زود شروع شود و به شکل یک وظیفه مستمر در آ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838080" y="914400"/>
            <a:ext cx="57150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تهیه پیش نویس و باز نویسی آ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WordArt 2"/>
          <p:cNvSpPr txBox="1"/>
          <p:nvPr/>
        </p:nvSpPr>
        <p:spPr>
          <a:xfrm>
            <a:off x="1219320" y="1447920"/>
            <a:ext cx="5734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دو مهارت اصلی در این قسمت کدامند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066680" y="3657600"/>
            <a:ext cx="60962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شخیص اینکه چه زمانی نیاز به باز نویسی گزارش یا پایان نامه و یا بخشی از آن داری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انستن اینکه چه زمانی به اندازه کافی باز نویسی برنامه ریزی کرده ای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143000" y="3505320"/>
            <a:ext cx="54864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قط نمی توانم شروع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کلمات زیادی برای نوشتن ه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3"/>
          <p:cNvSpPr txBox="1"/>
          <p:nvPr/>
        </p:nvSpPr>
        <p:spPr>
          <a:xfrm rot="5400000">
            <a:off x="6281280" y="3776400"/>
            <a:ext cx="3733920" cy="6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خانه </a:t>
            </a: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12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108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8" name="WordArt 4"/>
          <p:cNvSpPr txBox="1"/>
          <p:nvPr/>
        </p:nvSpPr>
        <p:spPr>
          <a:xfrm>
            <a:off x="1066680" y="2438280"/>
            <a:ext cx="5334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66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یست نوع طفره روی معمو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66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066680" y="106668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طفره رفتن را بشناسیم و خود را از آن خلاص کنی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609480" y="1371600"/>
            <a:ext cx="5639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لفاظ کمی برای نوشتن به ذهنم می آ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قبلا هرگز رساله آموزشی ننوش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 پیش از این هیچگاه گزارش کار ننوش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ردا انجامش می ده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سر حال نیست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09480" y="1287360"/>
            <a:ext cx="5562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8-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وج سواری را ترجیح می ده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یلی شلوغ است ، تمرکز ندار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-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می توانم تایپ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پردازشگرم از کار افتاده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ین کار قبلا صورت گرفته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533520" y="1295280"/>
            <a:ext cx="5715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کته اصلی چیست ؟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اید بروم اجاق گاز را تمییز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یلی سخت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نوشتن اصلا خوب نیست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قط نیم ساعت وقت دار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990720" y="1600200"/>
            <a:ext cx="5257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ی کاش هرگز شروع نمی کرد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الم خوب نی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چه ها زودتر به خانه برمی گرد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3"/>
          <p:cNvSpPr/>
          <p:nvPr/>
        </p:nvSpPr>
        <p:spPr>
          <a:xfrm>
            <a:off x="762120" y="8380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یست توصیه برای غلبه کردن برطفره رفت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14400" y="2209680"/>
            <a:ext cx="5410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آنچه خوانده ا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مصاحبه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گفتگو با استاد راهن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هیه پیش نویس صفحه فهر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609480" y="1440000"/>
            <a:ext cx="55627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یپ منابع یا کتابنام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هیه یک پیش نویس برای یک بخش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یپ نقل قول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نکاتی که ممکن است به آنها مراجعه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یزان معینی از نوشتن در هر روز ، ماه ، هفته ، سال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609480" y="1219320"/>
            <a:ext cx="5639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 –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ظریات خود را ضبط و توصیف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هر چه به ذهنتان می رسد ب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نظر بگیرید چه تعداد کلمه می خواهید در هر فصل ب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ویرایش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28600" y="533520"/>
            <a:ext cx="86263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79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”نمونه گیری تصادفی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تصادفی س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صو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خوش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دست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طبق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762120" y="1600200"/>
            <a:ext cx="5410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ز خودتان پذیرایی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ه تعلل های خودتان بیندیش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 وقتی چیزی ننوشته اید به کار دیگری نپرداز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وشته خود را به دیگری بدهید تا بخوا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685800" y="1523880"/>
            <a:ext cx="5410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مورد آن با دیگران گفت و گو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گارش را در وقت دیگری از روز یا هفته انجام ده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هر چیزی به نظرتان می رسد ، ن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838080" y="2201760"/>
            <a:ext cx="5562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 به ویرایش به دلایل زیر نیازمند هست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رد آوری مطالب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قلیل طول یا اندازه آنچه نوشته ا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صلاح بخش های قدیم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3"/>
          <p:cNvSpPr txBox="1"/>
          <p:nvPr/>
        </p:nvSpPr>
        <p:spPr>
          <a:xfrm>
            <a:off x="1066680" y="838080"/>
            <a:ext cx="5257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</a:t>
            </a: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ویرایش و اصلاح نوشته ها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685800" y="2362320"/>
            <a:ext cx="5257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عویض ساختار آنچه نوشته ا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اسخ به توصیه های خوانندگ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ذف مکررات غیر عم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914400" y="982800"/>
            <a:ext cx="525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523880" y="22096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752480" y="212580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کوتاه کردن نوشت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762120" y="3429000"/>
            <a:ext cx="5257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ذف کلمات تکراری و غیر ضروری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لاصه کردن دو یا چند جمل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ذف ارجاعاتی که ربطی به بحث ندار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7"/>
          <p:cNvSpPr txBox="1"/>
          <p:nvPr/>
        </p:nvSpPr>
        <p:spPr>
          <a:xfrm>
            <a:off x="1295280" y="762120"/>
            <a:ext cx="5257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ندازه مناسب در نوشتن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457200" y="1981080"/>
            <a:ext cx="6248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دن جدول و نمودار به جای توصیفات طول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داشتن کل بخش یا حتی فصل در جایی که به موضوع بحث لطمه نز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990720" y="2743200"/>
            <a:ext cx="556236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وش برنامه ریزی شده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وش بریدن و کاستن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3"/>
          <p:cNvSpPr txBox="1"/>
          <p:nvPr/>
        </p:nvSpPr>
        <p:spPr>
          <a:xfrm>
            <a:off x="533520" y="1143000"/>
            <a:ext cx="606744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دو روش اساسی در تعیین اندازه نگار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3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340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609480" y="914400"/>
            <a:ext cx="5486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نگارش خود را گسترش بدهید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ه جستجوی مراجع و نقل قولهای بیشتر در ارتباط با موضوعات یا مطالبی که می نویسید ، بپرداز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ا بسط دادن موضوع مورد بحث ، جملات جدید در پاراگراف ها وارد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762120" y="1668600"/>
            <a:ext cx="54864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 یا فصل های جدید مرتبط بیفزای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ضمائمی درون متن اصلی بگنجا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حث درباره روش خود و چگونگی عملکرد آن را گسترش ده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685800" y="3429000"/>
            <a:ext cx="586728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سازمان دهی نوشت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گزارش یا رساله شما از لحاظ سازمان باید شامل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عناصر زیر باش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3"/>
          <p:cNvSpPr txBox="1"/>
          <p:nvPr/>
        </p:nvSpPr>
        <p:spPr>
          <a:xfrm>
            <a:off x="1447920" y="533520"/>
            <a:ext cx="4572000" cy="12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قابله با وقفه ه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2209680" y="2133720"/>
            <a:ext cx="37339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42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چگونه بحث کنیم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c42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352680" y="1066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04920" y="915840"/>
            <a:ext cx="84740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نمونه گیری غیر تصاد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ختی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سهمی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هدفم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بعا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685800" y="1905120"/>
            <a:ext cx="5562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قدمه در ابتدا و نتیجه گیری در انت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 یا فصول متمایز که ممکن است به زیر بخش ها یا زیر فصل ها تقسیم شو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پیشینه تحقیق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جدول ، نمودار ، نقش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ی پیش از مت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2"/>
          <p:cNvSpPr txBox="1"/>
          <p:nvPr/>
        </p:nvSpPr>
        <p:spPr>
          <a:xfrm>
            <a:off x="2362320" y="1066680"/>
            <a:ext cx="2066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مباحث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914400" y="2438280"/>
            <a:ext cx="563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زمین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ک یا چند درون مای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ظم و ترتیب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وستگ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833 -0.0111 L 0 1.21387E-006 E">
                                      <p:cBhvr>
                                        <p:cTn id="420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 rot="5400000">
            <a:off x="6129000" y="446256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خانه </a:t>
            </a: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16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108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533520" y="1135080"/>
            <a:ext cx="556236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رساله چیزی بیشتر از یک ثبت منفصل کار تحقیقی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ساختار رسمی رسال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هر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چکید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4"/>
          <p:cNvSpPr txBox="1"/>
          <p:nvPr/>
        </p:nvSpPr>
        <p:spPr>
          <a:xfrm>
            <a:off x="914400" y="685800"/>
            <a:ext cx="56959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شکل های ممکن برای رساله دانشگاه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762120" y="1744560"/>
            <a:ext cx="5410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قدمه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% حجم نوشته 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رور منابع پیشین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% 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طرح و روش تحقیق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جرای تحقیق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رائه و تجزیه و تحلیل اطلاعات (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457200" y="1440000"/>
            <a:ext cx="5791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ظریه پردازی و نقد نتایج یافته ها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لاصه و نتیجه گیری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نابع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کتابنام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ضمائ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457200" y="1981080"/>
            <a:ext cx="5791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گیزه های حاکم بر نوشته های دانشگاهی عبارتند از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افقت با نظریه ای خاص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شنهاد یا ارائه یک نظریه جد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صدیق اینکه نظریه حاضر امتیازهایی دارد اما نیاز به تقویت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3"/>
          <p:cNvSpPr txBox="1"/>
          <p:nvPr/>
        </p:nvSpPr>
        <p:spPr>
          <a:xfrm>
            <a:off x="1752480" y="762120"/>
            <a:ext cx="44960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چگونه نقد کنیم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457200" y="1515960"/>
            <a:ext cx="6248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رائه مجدد یک نظریه یا اظهار آن برای یک توضیح بهت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د کردن یا نپذیرفتن یک نظری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طباق دو نظریه که ممکن است متفاوت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عتراف به نادرست بودن نظر قبلی م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3"/>
          <p:cNvSpPr/>
          <p:nvPr/>
        </p:nvSpPr>
        <p:spPr>
          <a:xfrm>
            <a:off x="304920" y="2286000"/>
            <a:ext cx="670536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اهنمایی هایی درباره دستور و نشانه گذار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جتناب از جملات طول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پاراگراف های یک جمل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جملات ربطی در ابتدای پاراگراف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685800" y="99072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نتقاد به معنی مزخرف تلقی کردن نیست 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3520" y="1668600"/>
            <a:ext cx="5715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دادن مطالب به صورت فهرست های طولانی ضمیم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فاده از نشانه گذاری معیا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کار بستن درست علامت نقل قول و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3"/>
          <p:cNvSpPr txBox="1"/>
          <p:nvPr/>
        </p:nvSpPr>
        <p:spPr>
          <a:xfrm>
            <a:off x="1600200" y="533520"/>
            <a:ext cx="4572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وارد استفاده از تصویر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762120" y="1981080"/>
            <a:ext cx="5410080" cy="42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(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، نمودار و تصاویر دیگ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ایی که می توان بجای متن تصویر گذاش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تصاویری که حق انحصاری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2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228600" y="1219320"/>
            <a:ext cx="86868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انواع دیگر نمونه گ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واقع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برد های نمونه گیری متنوعی برای استفاده در دسترس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533520" y="1523880"/>
            <a:ext cx="579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380880" y="1143000"/>
            <a:ext cx="57913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متن به تک تک تصویر ها ارجاع دهی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اغلب موارد بهتر است تصاویر تفکیک شو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وجه به نقش خسته کنندگی تصویر در مت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فاده از تصاویر بدون ابها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2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 rot="769800">
            <a:off x="3276360" y="0"/>
            <a:ext cx="145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هراس ها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838080" y="1905120"/>
            <a:ext cx="541044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لت متداول برای ترس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چیزی که برای من تازگی دارد ،اصیل هم هست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همین اواخر متوجه شدم که شخص دیگری قبلا آن را نوشت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اقعا مزخرف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ظر مخالف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7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0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3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6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3"/>
          <p:cNvSpPr txBox="1"/>
          <p:nvPr/>
        </p:nvSpPr>
        <p:spPr>
          <a:xfrm>
            <a:off x="2971800" y="1523880"/>
            <a:ext cx="2209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خاتمه دادن 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609480" y="2514600"/>
            <a:ext cx="66294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فصل به موضوعات زیر می پرداز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می خواهید کار را تمام کنید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خه ما قبل آخر و نسخه نهای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333 -0.00069 L -3.33333E-006 -3.75723E-006 E">
                                      <p:cBhvr>
                                        <p:cTn id="695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304920" y="1676520"/>
            <a:ext cx="5867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زوده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الا باید چکار کنم ؟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066680" y="365760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یست علت مناسب برای تحویل ندادن گزارش یا رساله در موعد مقر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3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04920" y="144792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یسک سخت رایانه ام خراب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شینم خراب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درم مریض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لیت بخت آزمایی برنده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 های مهمتری دار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838080" y="182088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380880" y="1371600"/>
            <a:ext cx="58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 خواهم ازدواج کن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الم خوب نی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ان را گم کرده ا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9-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295280" y="1143000"/>
            <a:ext cx="586764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حران های غیر قابل کنترل زندگ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علل قابل اجتناب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نیز حالت بینابین دار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3"/>
          <p:cNvSpPr txBox="1"/>
          <p:nvPr/>
        </p:nvSpPr>
        <p:spPr>
          <a:xfrm>
            <a:off x="1219320" y="838080"/>
            <a:ext cx="596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تعویق های اجتناب پذیر واجتناب ناپذی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2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2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828800" y="1219320"/>
            <a:ext cx="5943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شتن عنوان ، نام خودتان و ... روی صفحه عنو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ک کردن تمام صفح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ره گذاری صفح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ره گذاری فصول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3"/>
          <p:cNvSpPr txBox="1"/>
          <p:nvPr/>
        </p:nvSpPr>
        <p:spPr>
          <a:xfrm>
            <a:off x="2666880" y="1143000"/>
            <a:ext cx="4572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کنترل نسخه ماقبل آخ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371600" y="1219320"/>
            <a:ext cx="5715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نترل غلط های املای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حاشیه ها و فاصله ها بین سطر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قید منابعی که در متن آمده اند در فهرست پای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دن جزئیات هر منبع در فهرست منابع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ضوابط فنی نگارش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3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2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2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5" dur="2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762120" y="1066680"/>
            <a:ext cx="586728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پدر و مادر عزیز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خواهر فرهیخ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همسر و فرزند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دانشجویان محق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3"/>
          <p:cNvSpPr txBox="1"/>
          <p:nvPr/>
        </p:nvSpPr>
        <p:spPr>
          <a:xfrm>
            <a:off x="2286000" y="1143000"/>
            <a:ext cx="51814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برخی تقدیم نامه های رایج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2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5:58:39Z</dcterms:created>
  <dc:creator>7613</dc:creator>
  <dc:description/>
  <dc:language>en-US</dc:language>
  <cp:lastModifiedBy>P.R.S</cp:lastModifiedBy>
  <dcterms:modified xsi:type="dcterms:W3CDTF">2014-12-08T05:00:37Z</dcterms:modified>
  <cp:revision>5</cp:revision>
  <dc:subject/>
  <dc:title>Slide 1</dc:title>
</cp:coreProperties>
</file>