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9360-8D9C-4A42-8419-E62A6A18D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«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عجز جاافتاده -نهادينه شده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killed incompe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نسان هايي با اين ويژگي، به طر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گفت انگيزي در دور نگه داشتن خود از فرصت هاي يادگيري، ورزيده ا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ناتواني در يادگيري يا امتناع از يادگيري از ديرباز و براي دوره ها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اني گريبان آدمي را گرفته است و آموزش هاي رسمي نيز معمولا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ر تغيير اين وضع ناكام بوده اند. درس پژوهي تا حدود زيادي مي توا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ه مؤسسات آموزشي كمك كند تا خود را متحول سازند و ب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ارگزاران آموزشي ياري رساند تا بر احساس ناتواني سازماندهي تغي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يا امتناع از يادگيري، ترس از دانستن و فرار از آگاهي فائق آي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C7F6-1CFA-42B6-ACFF-0E22F28E01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F2A4-6596-44E4-A839-26F1A2FD6A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F217-0249-4716-A501-C01E56EDF1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ea typeface="B Titr"/>
              </a:rPr>
              <a:t>"چگونه موج رفتار موجی نشان می دهد"،"چگونه نویسنده های معروف خوانندگانشان را روی داستان میخکوب می کنند"،"چه مدلی چرخه اقتصادی را بهتر نشان می دهد؟"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cs typeface="B Titr"/>
              </a:rPr>
              <a:t>در محاسبات: چه خطاهایی اجتناب نا پذیراست؟-چند درصد خطا قابل قبول است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1416-EDFE-400A-87D5-2928FA11B6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91D5-DADD-4A94-A6F3-A0ED4F83FD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E466-9361-4177-8965-2B32A551DA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حقيقي: شامل دانش و مهارت مورد نياز براي موفق شدن در خارج از مدرسه استاك هاي شناخته شده در سطح پيشرفته اي اس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از: مبتني بر استاندارد و ملاك هاي معلوم با ظرفيت هاي خاص براي دانش آموزان، معلمان و اوليا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دون جهت گيري: اجازه استفاده از فرآيندي تبعيض آميز و غير عادلانه نمي شود را نمي دهد و براي سبك هاي يادگيري و پيشينه و فرهنگ دانش آموزان احترام قائل مي شود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مستلزم استفاده از دانش توليد شده است: نياز مند آ است كه دانش آموزان دانش جديدي را توليد كنند و آن را براي حل مسئله بكار مي گير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فرآيند- شفاف كننده است: مستلزم آن است كه دانش آموزان چيزي را توليدي/ اجرايي كنند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فاف كننده دانش آموز است: دانش آموزان را درگير خود ارزشيابي و توسعه ابزار هاي سنجش مي‌كن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ي: سنجش دانش آموزان در طول زمان بسط داده مي‌شو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736-F4B9-4E7A-96DD-2A885B37E3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298-49F5-4344-A8F2-9B235A96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C0C-9889-4235-8807-B12397A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FA0-AF5F-4D9E-9852-E81344BC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74F-BFA8-49C6-90A7-0F043DF0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8B2-4342-4DE2-B1FF-6CA44621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B01D-BC83-4E5C-9527-DB9C5B51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4DE7-D1D8-4369-A902-8D95EA22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4D40-C0BA-4943-8148-35353FF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0D59-07AC-4B17-8F16-36B78887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C1C3-9DA6-4251-8A9D-AA1DC472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61EB-0C0D-4E0C-A16B-6B8F628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1FB-F1B3-4A21-9EC8-898F32E4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E659-ECAD-4433-9AF1-7E85E42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CBD8-F067-4C62-BE81-FF3C93A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CD6B-4A05-485E-98B6-076D79CC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62E9-C8B7-4C50-8559-D4092191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D0FD-070A-4ECD-94E0-885051D4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020E-667D-44A1-BDFD-B429652E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B1C6-50A2-4D80-87CD-6341442C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83E8-4F01-4048-A5EE-730F25D2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4238-2134-4365-937C-EEEDFD2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4BF6-CAF3-41A9-8EE5-743D8C1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1AB-DED7-4B06-9795-C3A0DD0F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EA9A-09A8-49E4-806E-F7691D10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F553-26A2-4FC0-8B6E-E541195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D0D6-AAE1-489B-BA10-DEADA97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92F5-3354-4CBA-8CF6-5646C34B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C354-B20F-4B66-9520-3037C5FB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9490-F435-48D4-BF1B-070946E9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557B-1BDF-4617-83F8-351087A0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61614-104F-41A4-8508-6B859AB2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8044-5058-4173-9501-7046CF73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96EBB-A5E8-425C-81FA-254F2C2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814-E962-4508-AD93-7444A877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EF6A-1D05-4469-90D4-AF4FA1FB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69D3-AB1E-4A27-9660-294238B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7A5C-1558-42D2-B3E5-94959882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E275F-6698-4425-8318-8CA58F2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FDD9-6C37-4720-A03C-264F7F2E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6636F-18AA-4664-8068-8103B8C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1FC6-2004-4FE2-BF46-699E12FD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C8B6-8B20-4D6E-A368-4B01C563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A41A-70D8-4528-AF0B-4E173E20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7114-1C91-4AD3-B496-5E6699DB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43B-2562-4779-80BA-263B96DA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D463-6A1E-4B6C-A303-4CCBF63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5E449-6BD0-4FE8-BC6E-A49D57C2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9067-D552-4E52-A728-C1B0B72F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D04D-D051-40B6-9E57-00A78AC1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F3E0-9937-4F75-B066-088637AE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29BB-D896-4DCC-A0DB-1AD7407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6093-C2E0-49BF-9FF4-79BB178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7F14-3F45-4A83-9669-14967E6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E4CE-4B95-4075-B391-AE925296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FBCCD-BA71-483C-B78C-D3779901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05D-826F-4942-A9C7-6E178EC8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C5954-E7D3-4392-8D7F-BE467004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36E-DBCC-4F1B-9D99-C610DE7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397-D960-460F-9323-4DFC313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D5-37E8-46E9-A41C-C6D1A6C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3D9-4735-474A-B0F0-868A5F4271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A8CB-60F0-48D0-9F6B-1B1B00E7D2E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6301-C253-4525-81BD-0D2BB0816B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9540-6214-4F22-9FA7-1DF381EB3A7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4933-106B-43AD-99B6-C7BA6041D6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28600" y="32000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c6a52"/>
                </a:solidFill>
                <a:latin typeface="Perpetua"/>
                <a:cs typeface="B Titr"/>
              </a:rPr>
              <a:t>با سپاس از همراهی و همدلی همه شما بزرگواران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آموزشی کارورزی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4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بسم الله الرحمن الرحیم</a:t>
            </a:r>
            <a:endParaRPr b="0" lang="en-US" sz="5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Content Placeholder 2" descr=""/>
          <p:cNvPicPr/>
          <p:nvPr/>
        </p:nvPicPr>
        <p:blipFill>
          <a:blip r:embed="rId1"/>
          <a:stretch/>
        </p:blipFill>
        <p:spPr>
          <a:xfrm>
            <a:off x="133200" y="3151080"/>
            <a:ext cx="8871120" cy="29577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تحلیل متن آموزش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077320" cy="2438280"/>
          </a:xfrm>
          <a:prstGeom prst="rect">
            <a:avLst/>
          </a:prstGeom>
          <a:solidFill>
            <a:srgbClr val="0082a5"/>
          </a:solidFill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ایده های کلیدی/ مفاهیم و مهارت های اساس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قوانین/ قواعد/ اصول/ تعمیم ها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حقایق و اطلاعات جزئ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حتوا در برنامه درسی(کتاب درسی)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Diagram 1" descr=""/>
          <p:cNvPicPr/>
          <p:nvPr/>
        </p:nvPicPr>
        <p:blipFill>
          <a:blip r:embed="rId1"/>
          <a:stretch/>
        </p:blipFill>
        <p:spPr>
          <a:xfrm>
            <a:off x="689040" y="1805040"/>
            <a:ext cx="81500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نقشه های ذه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54" name="Subtitle 2"/>
          <p:cNvGrpSpPr/>
          <p:nvPr/>
        </p:nvGrpSpPr>
        <p:grpSpPr>
          <a:xfrm>
            <a:off x="23760" y="3114720"/>
            <a:ext cx="9101160" cy="2152440"/>
            <a:chOff x="23760" y="3114720"/>
            <a:chExt cx="9101160" cy="2152440"/>
          </a:xfrm>
        </p:grpSpPr>
        <p:pic>
          <p:nvPicPr>
            <p:cNvPr id="255" name="Subtitle 2" descr=""/>
            <p:cNvPicPr/>
            <p:nvPr/>
          </p:nvPicPr>
          <p:blipFill>
            <a:blip r:embed="rId1"/>
            <a:stretch/>
          </p:blipFill>
          <p:spPr>
            <a:xfrm>
              <a:off x="23760" y="3114720"/>
              <a:ext cx="910116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28600" y="3200400"/>
              <a:ext cx="87631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نقشه هاي ذهنی روشي براي بازنمايي بصري اطلاعات هستند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تهیه نقشه ي ذهنی به ما كمك مي كند تا اطلاعاتي را كه از قبل درباره ي يك موضوع مي دانيم روي هم بگذاريم و مطلب جديد را، همچنان كه آن را ياد مي گيريم، درک کنیم.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نقشه ذه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2547720"/>
            <a:ext cx="861048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2060"/>
                </a:solidFill>
                <a:latin typeface="Perpetua"/>
                <a:cs typeface="Times New Roman"/>
              </a:rPr>
              <a:t>نقشه های ذهنی را بر حسب کتاب گوناگون، می توان  بصورت های مختلفی چید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2060"/>
                </a:solidFill>
                <a:latin typeface="Perpetua"/>
                <a:ea typeface="Times New Roman"/>
              </a:rPr>
              <a:t> نقشه ذهنی یک کانون مرکزی دارد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2060"/>
                </a:solidFill>
                <a:latin typeface="Perpetua"/>
                <a:cs typeface="Times New Roman"/>
              </a:rPr>
              <a:t>کلیه ی داده ها(محتواها ) را بیرون می کشیم و سپس در یک شبکه ی ارتباطی با هم قرار می دهیم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Users\Marziyeh\Desktop\mm_health.jpg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4920" y="30481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8e3054"/>
                </a:solidFill>
                <a:latin typeface="Perpetua"/>
                <a:cs typeface="Times New Roman"/>
              </a:rPr>
              <a:t>در نقشه ی مفهمومی رابطه ی مفهومی مد نظر است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8e3054"/>
                </a:solidFill>
                <a:latin typeface="Perpetua"/>
                <a:cs typeface="Times New Roman"/>
              </a:rPr>
              <a:t>بطور معمول کتاب هاب درسی بر اساس نقشه ی مفهومی شکل نگرفته ام.یعنی مطالبی یا موضوعاتی وجود دارد که به راحتی به آنها اشاره نشده است و ما باید آنها را از کتاب بیرون بکشیم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00"/>
                </a:solidFill>
                <a:latin typeface="Franklin Gothic Book"/>
                <a:cs typeface="Tahoma"/>
              </a:rPr>
              <a:t>نقشه مفهوم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10"/>
          <p:cNvSpPr/>
          <p:nvPr/>
        </p:nvSpPr>
        <p:spPr>
          <a:xfrm>
            <a:off x="1981080" y="1219320"/>
            <a:ext cx="1981440" cy="160020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3623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موجود زن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4876920" y="2666880"/>
            <a:ext cx="838080" cy="83844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4952880" y="2895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گی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Straight Arrow Connector 15"/>
          <p:cNvCxnSpPr>
            <a:stCxn id="262" idx="5"/>
          </p:cNvCxnSpPr>
          <p:nvPr/>
        </p:nvCxnSpPr>
        <p:spPr>
          <a:xfrm>
            <a:off x="3671640" y="2584440"/>
            <a:ext cx="1129320" cy="3880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  <p:sp>
        <p:nvSpPr>
          <p:cNvPr id="267" name="Oval 16"/>
          <p:cNvSpPr/>
          <p:nvPr/>
        </p:nvSpPr>
        <p:spPr>
          <a:xfrm>
            <a:off x="2514600" y="3429000"/>
            <a:ext cx="838080" cy="83808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Straight Arrow Connector 17"/>
          <p:cNvCxnSpPr>
            <a:stCxn id="262" idx="3"/>
            <a:endCxn id="267" idx="0"/>
          </p:cNvCxnSpPr>
          <p:nvPr/>
        </p:nvCxnSpPr>
        <p:spPr>
          <a:xfrm>
            <a:off x="2271240" y="2584440"/>
            <a:ext cx="662760" cy="8452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  <p:sp>
        <p:nvSpPr>
          <p:cNvPr id="269" name="Subtitle 1"/>
          <p:cNvSpPr/>
          <p:nvPr/>
        </p:nvSpPr>
        <p:spPr>
          <a:xfrm>
            <a:off x="609480" y="304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در نقشه ی مفهمومی رابطه ی مفهومی مد نظر اس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واحد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3200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یک واحد یادگیری، عبارت است از چند رویداد یادگیری به هم مرتبط و معنادار ،که با ارایه‌ی آن ،دانش آموز می‌تواند به شایستگی مهمی دست یابد</a:t>
            </a:r>
            <a:r>
              <a:rPr b="0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2060"/>
                </a:solidFill>
                <a:latin typeface="Perpetua"/>
                <a:cs typeface="B Titr"/>
              </a:rPr>
              <a:t>هدف از طراحی یک واحد یادگیری آن است که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یادگیرنده بتواند از آنچه یاد می‌گیرد معنای تازه‏ای بسازد و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99"/>
                </a:solidFill>
                <a:latin typeface="Perpetua"/>
                <a:ea typeface="B Titr"/>
              </a:rPr>
              <a:t> آنچه آموخته است را با استقلال و اثربخشی روز افزون در موقعیت های پیچیده ی جهان واقعی به کار ببرد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e5b6f"/>
                </a:solidFill>
                <a:latin typeface="Franklin Gothic Book"/>
                <a:cs typeface="Tahoma"/>
              </a:rPr>
              <a:t>واحد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2548080"/>
            <a:ext cx="8458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Perpetua"/>
                <a:cs typeface="Times New Roman"/>
              </a:rPr>
              <a:t>هدف از طراحی یک واحد یادگیری آن است که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Perpetua"/>
                <a:ea typeface="Times New Roman"/>
              </a:rPr>
              <a:t> یادگیرنده بتواند از آنچه یاد می گیرد معنایی تازه بسازد و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Perpetua"/>
                <a:ea typeface="Times New Roman"/>
              </a:rPr>
              <a:t> آنچه آموخته را با استقلال و اثربخشی روز افزون در موقعیت های پیچیده ی جهان واقعی بکار ببرد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Perpetua"/>
                <a:cs typeface="Times New Roman"/>
              </a:rPr>
              <a:t>واحد یادگیری از نقشه کتاب درسی بیرون کشیده می شود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7030a0"/>
                </a:solidFill>
                <a:latin typeface="Perpetua"/>
                <a:ea typeface="Times New Roman"/>
              </a:rPr>
              <a:t> دانشجو-معلم ، در کارورزی </a:t>
            </a:r>
            <a:r>
              <a:rPr b="0" lang="fa-IR" sz="2800" spc="-1" strike="noStrike">
                <a:solidFill>
                  <a:srgbClr val="7030a0"/>
                </a:solidFill>
                <a:latin typeface="Perpetua"/>
                <a:ea typeface="Times New Roman"/>
              </a:rPr>
              <a:t>4</a:t>
            </a:r>
            <a:r>
              <a:rPr b="0" lang="fa-IR" sz="2800" spc="-1" strike="noStrike">
                <a:solidFill>
                  <a:srgbClr val="7030a0"/>
                </a:solidFill>
                <a:latin typeface="Perpetua"/>
                <a:ea typeface="Times New Roman"/>
              </a:rPr>
              <a:t> از طریق طراحی و تدوین یک واحد یادگیری ، عمل حرفه ای خود را امتحان می کند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228600" y="685800"/>
            <a:ext cx="86104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b0f0"/>
                </a:solidFill>
                <a:latin typeface="Arial"/>
                <a:cs typeface="Arial"/>
              </a:rPr>
              <a:t>معلم برای آنکه رسالت معلمی خود را به خوبی ایفا کند، باید یک پژوهشگر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معلم پژوهنده، معلمی فکور است که مسائل حوزه تدریس و کلاس را با پژوهش مورد مطالعه و بررسی قرار می‌دهد و از بین این مطالعات، راه حل‌های مطلوب را کسب می‌ک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با اضافه شدن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Arial"/>
              </a:rPr>
              <a:t> واحد پژوهشی در برنامه‌های درسی جدید دانشگاه فرهنگيان، این برنامه‌های درسی به تدریج به دانشجویان ارائه می‌ش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Arial"/>
                <a:cs typeface="Arial"/>
              </a:rPr>
              <a:t>این دروس شام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Arial"/>
                <a:ea typeface="Arial"/>
              </a:rPr>
              <a:t> درس پژوهی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Arial"/>
              </a:rPr>
              <a:t>اقدام پژوهی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Arial"/>
                <a:ea typeface="Arial"/>
              </a:rPr>
              <a:t> روایت تحقیقی 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Arial"/>
              </a:rPr>
              <a:t>روش تحقیق تخصص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در پایان تحصیل دانشجویان دانشگاه فرهنگيان باید یک پروژه پژوهشی ارائه کن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Franklin Gothic Book"/>
                <a:cs typeface="Tahoma"/>
              </a:rPr>
              <a:t>مراحل تهیه واحد یاد 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228600" y="838080"/>
            <a:ext cx="86868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انتحاب کتا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انتحاب یک موضوع یا درس که به آن علاقه مندتر و مسلط تر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تمام اطلاعات را فهرست می کنی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نکات اصلی یا کانونی موضوع  را پیدا می کنی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بقیه ی اطلاعات را پیرامون آن نکات اصلی می چینی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این اطلاعات باید با هم ارتباط داسته باش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این کار به فرد کمک می کند تا انسجام مطالب حفظ شود و به مطالب اصلی برگر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انتخاب ایده ی کلی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ایده ی کلیدی برانگیزاننده هست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انتخاب هدف (تعیین شایستگ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Arial"/>
              </a:rPr>
              <a:t>و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  <a:cs typeface="Arial"/>
              </a:rPr>
              <a:t>از مطالب ورد استفاده ش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Subtitle 4" descr=""/>
          <p:cNvPicPr/>
          <p:nvPr/>
        </p:nvPicPr>
        <p:blipFill>
          <a:blip r:embed="rId1"/>
          <a:stretch/>
        </p:blipFill>
        <p:spPr>
          <a:xfrm>
            <a:off x="1359000" y="3097080"/>
            <a:ext cx="6426000" cy="3316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آشنایی با اصطلاحات در طراحی واحد یادگیری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ویژگی های شایستگی ها</a:t>
            </a: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ea typeface="B Titr"/>
              </a:rPr>
              <a:t> 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79" name="Content Placeholder 2"/>
          <p:cNvGrpSpPr/>
          <p:nvPr/>
        </p:nvGrpSpPr>
        <p:grpSpPr>
          <a:xfrm>
            <a:off x="-590400" y="1554120"/>
            <a:ext cx="9545400" cy="5505480"/>
            <a:chOff x="-590400" y="1554120"/>
            <a:chExt cx="9545400" cy="5505480"/>
          </a:xfrm>
        </p:grpSpPr>
        <p:pic>
          <p:nvPicPr>
            <p:cNvPr id="28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590400" y="1554120"/>
              <a:ext cx="954540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28600" y="1600200"/>
              <a:ext cx="86104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8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تلفیق پذیر: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شایستگی، تلفیق منسجمی از عناصر مورد نیاز برای حل مساله های تربیتی است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8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پایدار: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ویژگی شایستگی ، تداوم، پایداری و قابلیت توسعه آن در گذر زمان است. اهداف متکی بر محتوا (برای مثال دانش و مهارت ) با گذشت زمان تغییر      می کند( مانند رانندگی که با گذشت زمان مهارت بیشتر می شود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8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خاص بودن:</a:t>
              </a:r>
              <a:r>
                <a:rPr b="1" lang="fa-IR" sz="2000" spc="-1" strike="noStrike">
                  <a:solidFill>
                    <a:srgbClr val="ff0000"/>
                  </a:solidFill>
                  <a:latin typeface="Perpetua"/>
                  <a:ea typeface="B Titr"/>
                </a:rPr>
                <a:t>(مربوط به  خود فرد است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ea typeface="B Titr"/>
                </a:rPr>
                <a:t> 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شایستگی ها ، 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ترکیبی از مهارت های شناختی و 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فراشناختی، 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مهارت ها، دانش (دانش 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آشکار و دانش 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ضمنی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) 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نگیزش، ارزش ها، نگرش ها، هیجا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ن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ت و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    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 رفتار های اجتماعی که برای انجام یک عمل 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حرفه‏ای 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در زمینه</a:t>
              </a:r>
              <a:r>
                <a:rPr b="1" lang="fa-IR" sz="24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‏ای</a:t>
              </a:r>
              <a:r>
                <a:rPr b="1" lang="ar-SA" sz="24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 خاصی بسیج می شوند</a:t>
              </a:r>
              <a:r>
                <a:rPr b="1" lang="fa-IR" sz="2400" spc="-1" strike="noStrike">
                  <a:solidFill>
                    <a:srgbClr val="ffff00"/>
                  </a:solidFill>
                  <a:latin typeface="Perpetua"/>
                  <a:ea typeface="B Titr"/>
                </a:rPr>
                <a:t>(مثال : با وجود اینکه مواد اولیه دو مغازه یکی است ، ولی مزه ی آش دو مغازه با هم فرق دارد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3399"/>
                </a:solidFill>
                <a:latin typeface="Franklin Gothic Book"/>
                <a:cs typeface="Tahoma"/>
              </a:rPr>
              <a:t>در تعیین شایستگی باید به این نکات توجه کرد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371600"/>
            <a:ext cx="830592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شایستگی نوعی هدف است اما هدفی که در عین  قابل گسترش بودن ، قابل سنجش و اندازه گیری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99"/>
                </a:solidFill>
                <a:latin typeface="Arial"/>
                <a:cs typeface="Arial"/>
              </a:rPr>
              <a:t>چگونه شایستگی را بنویسی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مساله محور/موقعیت واقعی( وقتی تمام مطالب را دانش آموز  یاد گرفت،  چه کار یا قابلیتی می خواهد انجام دهد یا داشته باش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ملاک پذی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Arial"/>
              </a:rPr>
              <a:t>تولید محص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c00000"/>
                </a:solidFill>
                <a:latin typeface="Arial"/>
                <a:cs typeface="Arial"/>
              </a:rPr>
              <a:t>در پاسخ به شایستگی باید بپرسیم که این کار را می داند یا بداند یا بخواند که چه ب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c00000"/>
                </a:solidFill>
                <a:latin typeface="Arial"/>
                <a:cs typeface="Arial"/>
              </a:rPr>
              <a:t>چرا این کار را بکن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669960" y="262080"/>
            <a:ext cx="7804080" cy="1170000"/>
          </a:xfrm>
          <a:prstGeom prst="rect">
            <a:avLst/>
          </a:prstGeom>
          <a:ln w="0">
            <a:noFill/>
          </a:ln>
        </p:spPr>
      </p:pic>
      <p:grpSp>
        <p:nvGrpSpPr>
          <p:cNvPr id="285" name="Content Placeholder 2"/>
          <p:cNvGrpSpPr/>
          <p:nvPr/>
        </p:nvGrpSpPr>
        <p:grpSpPr>
          <a:xfrm>
            <a:off x="566640" y="1504800"/>
            <a:ext cx="8199360" cy="4956480"/>
            <a:chOff x="566640" y="1504800"/>
            <a:chExt cx="8199360" cy="4956480"/>
          </a:xfrm>
        </p:grpSpPr>
        <p:pic>
          <p:nvPicPr>
            <p:cNvPr id="28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66640" y="1504800"/>
              <a:ext cx="8199360" cy="49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85800" y="1752480"/>
              <a:ext cx="77724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6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شایستگی</a:t>
              </a:r>
              <a:r>
                <a:rPr b="0" lang="ar-SA" sz="36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یادگیری باید شامل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0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وقعیت/ مسئله‏ای که</a:t>
              </a:r>
              <a:r>
                <a:rPr b="0" lang="fa-IR" sz="30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منجر به ساخت معنی </a:t>
              </a:r>
              <a:r>
                <a:rPr b="0" lang="ar-SA" sz="30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</a:t>
              </a:r>
              <a:r>
                <a:rPr b="0" lang="fa-IR" sz="30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از سوی </a:t>
              </a:r>
              <a:r>
                <a:rPr b="0" lang="ar-SA" sz="30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دانش آموز می شود</a:t>
              </a:r>
              <a:r>
                <a:rPr b="0" lang="fa-IR" sz="30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و می تواند یادگیری رابه موقعیت جدید انتقال دهد (مساله محوری)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0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توانایی ها/ قابلیت های یادگیرنده</a:t>
              </a:r>
              <a:r>
                <a:rPr b="0" lang="fa-IR" sz="30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0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لاک های ارزیابی عملکرد (شواهد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0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سطح عملکرد (کیفت/ کمیت)/ تولید مورد انتظار</a:t>
              </a:r>
              <a:r>
                <a:rPr b="0" lang="fa-IR" sz="30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(آنچه پیش بینی شده و آن برآمده از موقعیت است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>
                <a:lnSpc>
                  <a:spcPct val="90000"/>
                </a:lnSpc>
                <a:spcBef>
                  <a:spcPts val="575"/>
                </a:spcBef>
                <a:buClr>
                  <a:srgbClr val="7fd13b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b050"/>
                </a:solidFill>
                <a:latin typeface="Franklin Gothic Book"/>
                <a:cs typeface="Tahoma"/>
              </a:rPr>
              <a:t>تفاوت شایستگی باواژه هایی چون هدف های رفتاری و</a:t>
            </a:r>
            <a:r>
              <a:rPr b="0" lang="fa-IR" sz="2800" spc="-1" strike="noStrike">
                <a:solidFill>
                  <a:srgbClr val="00b050"/>
                </a:solidFill>
                <a:latin typeface="Franklin Gothic Book"/>
                <a:ea typeface="Tahoma"/>
              </a:rPr>
              <a:t>....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51920" y="1447560"/>
            <a:ext cx="451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Perpetua"/>
                <a:cs typeface="Times New Roman"/>
              </a:rPr>
              <a:t>هدف رفتاری 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Perpetua"/>
                <a:cs typeface="Times New Roman"/>
              </a:rPr>
              <a:t>تنها بحش محدودی از شاخصه ها و عناصر وجود دارد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Perpetua"/>
                <a:cs typeface="Times New Roman"/>
              </a:rPr>
              <a:t>جزیی و کمی هستن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Perpetua"/>
                <a:cs typeface="Times New Roman"/>
              </a:rPr>
              <a:t>در شرایط بسته و مشخص اتفاق می افتن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Perpetua"/>
                <a:cs typeface="Times New Roman"/>
              </a:rPr>
              <a:t>ملاک ارزیابی کلی است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Perpetua"/>
                <a:cs typeface="Times New Roman"/>
              </a:rPr>
              <a:t>مرش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e3054"/>
                </a:solidFill>
                <a:latin typeface="Perpetua"/>
                <a:cs typeface="Times New Roman"/>
              </a:rPr>
              <a:t>مخاطب باید مشحص باش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e3054"/>
                </a:solidFill>
                <a:latin typeface="Perpetua"/>
                <a:cs typeface="Times New Roman"/>
              </a:rPr>
              <a:t>رفتار باید مشخص شو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e3054"/>
                </a:solidFill>
                <a:latin typeface="Perpetua"/>
                <a:ea typeface="Times New Roman"/>
              </a:rPr>
              <a:t> با چه شرایط و امکانات اتفاق بیفت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e3054"/>
                </a:solidFill>
                <a:latin typeface="Perpetua"/>
                <a:cs typeface="Times New Roman"/>
              </a:rPr>
              <a:t>درجه و معیار ارزیابی هم مشخ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933800" y="1447560"/>
            <a:ext cx="4057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شایستگی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در شایستگی تمام شاخصه ها و عناصر وجود دارد(مثال پرتقال ، درخت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کلی و کیفی هستن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شرایط باز و گسترده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ملاک های کلان و زمینه ی یاد گیری وسیع است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792000" y="347760"/>
            <a:ext cx="8017200" cy="13888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با درک مسئولیت ها در قبال سلامت و بهداشت جامعه، در برنامه های ارتقای سلامت/ تفریحات سالم/ سالم سازی محیط زیست مشارکت ‏کند و بر اساس نتایج آن برای حفظ/ارتقاء سلامت در زندگی خود تصمیم گیری نماید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Title 3"/>
          <p:cNvGrpSpPr/>
          <p:nvPr/>
        </p:nvGrpSpPr>
        <p:grpSpPr>
          <a:xfrm>
            <a:off x="-49320" y="201600"/>
            <a:ext cx="9229680" cy="2859120"/>
            <a:chOff x="-49320" y="201600"/>
            <a:chExt cx="9229680" cy="2859120"/>
          </a:xfrm>
        </p:grpSpPr>
        <p:pic>
          <p:nvPicPr>
            <p:cNvPr id="294" name="Title 3" descr=""/>
            <p:cNvPicPr/>
            <p:nvPr/>
          </p:nvPicPr>
          <p:blipFill>
            <a:blip r:embed="rId1"/>
            <a:stretch/>
          </p:blipFill>
          <p:spPr>
            <a:xfrm>
              <a:off x="-49320" y="201600"/>
              <a:ext cx="922968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6320" y="228600"/>
              <a:ext cx="8991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چه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آ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موزش و فعالیت های یادگیری شایستگی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های او 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را رشد می دهد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Subtitle 4" descr=""/>
          <p:cNvPicPr/>
          <p:nvPr/>
        </p:nvPicPr>
        <p:blipFill>
          <a:blip r:embed="rId2"/>
          <a:stretch/>
        </p:blipFill>
        <p:spPr>
          <a:xfrm>
            <a:off x="822240" y="3333600"/>
            <a:ext cx="68896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792000" y="165240"/>
            <a:ext cx="8017200" cy="1620720"/>
          </a:xfrm>
          <a:prstGeom prst="rect">
            <a:avLst/>
          </a:prstGeom>
          <a:ln w="0">
            <a:noFill/>
          </a:ln>
        </p:spPr>
      </p:pic>
      <p:pic>
        <p:nvPicPr>
          <p:cNvPr id="298" name="TextBox 3" descr=""/>
          <p:cNvPicPr/>
          <p:nvPr/>
        </p:nvPicPr>
        <p:blipFill>
          <a:blip r:embed="rId2"/>
          <a:stretch/>
        </p:blipFill>
        <p:spPr>
          <a:xfrm>
            <a:off x="-36360" y="1432080"/>
            <a:ext cx="90471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792000" y="165240"/>
            <a:ext cx="8017200" cy="1620720"/>
          </a:xfrm>
          <a:prstGeom prst="rect">
            <a:avLst/>
          </a:prstGeom>
          <a:ln w="0">
            <a:noFill/>
          </a:ln>
        </p:spPr>
      </p:pic>
      <p:pic>
        <p:nvPicPr>
          <p:cNvPr id="300" name="TextBox 3" descr=""/>
          <p:cNvPicPr/>
          <p:nvPr/>
        </p:nvPicPr>
        <p:blipFill>
          <a:blip r:embed="rId2"/>
          <a:stretch/>
        </p:blipFill>
        <p:spPr>
          <a:xfrm>
            <a:off x="-396720" y="1859040"/>
            <a:ext cx="94374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roup 3" descr=""/>
          <p:cNvPicPr/>
          <p:nvPr/>
        </p:nvPicPr>
        <p:blipFill>
          <a:blip r:embed="rId1"/>
          <a:stretch/>
        </p:blipFill>
        <p:spPr>
          <a:xfrm>
            <a:off x="755640" y="438120"/>
            <a:ext cx="7602480" cy="63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792000" y="652320"/>
            <a:ext cx="8017200" cy="13892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«چگونه موج رفتار موجی نشان می دهد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ea typeface="B Titr"/>
              </a:rPr>
              <a:t>«چگونه نویسنده های معروف خوانندگانشان را روی داستان میخکوب می کنن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ea typeface="B Titr"/>
              </a:rPr>
              <a:t>«چه مدلی ،چرخه اقتصادی را بهتر نشان می ده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ntent Placeholder 2" descr=""/>
          <p:cNvPicPr/>
          <p:nvPr/>
        </p:nvPicPr>
        <p:blipFill>
          <a:blip r:embed="rId1"/>
          <a:stretch/>
        </p:blipFill>
        <p:spPr>
          <a:xfrm>
            <a:off x="658800" y="3048120"/>
            <a:ext cx="7650000" cy="37796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یده کلی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Subtitle 1" descr=""/>
          <p:cNvPicPr/>
          <p:nvPr/>
        </p:nvPicPr>
        <p:blipFill>
          <a:blip r:embed="rId1"/>
          <a:stretch/>
        </p:blipFill>
        <p:spPr>
          <a:xfrm>
            <a:off x="23760" y="639720"/>
            <a:ext cx="8766360" cy="61452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نکاتی در باره ایده کلی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792000" y="347760"/>
            <a:ext cx="8017200" cy="13888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ساختار و عملکرد  </a:t>
            </a:r>
            <a:r>
              <a:rPr b="1" lang="fa-IR" sz="2800" spc="-1" strike="noStrike">
                <a:solidFill>
                  <a:srgbClr val="ff3399"/>
                </a:solidFill>
                <a:latin typeface="Perpetua"/>
                <a:ea typeface="B Titr"/>
              </a:rPr>
              <a:t>( یکی از ایده های کلیدی درس علوم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سیستم         </a:t>
            </a:r>
            <a:r>
              <a:rPr b="1" lang="fa-IR" sz="2400" spc="-1" strike="noStrike">
                <a:solidFill>
                  <a:srgbClr val="002060"/>
                </a:solidFill>
                <a:latin typeface="Perpetua"/>
                <a:ea typeface="B Titr"/>
              </a:rPr>
              <a:t>(در درس مطالعات اجتماعی ،تاریخ و جامعه شناسی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لگو ها و روابط    </a:t>
            </a:r>
            <a:r>
              <a:rPr b="1" lang="fa-IR" sz="2400" spc="-1" strike="noStrike">
                <a:solidFill>
                  <a:srgbClr val="ff3399"/>
                </a:solidFill>
                <a:latin typeface="Perpetua"/>
                <a:ea typeface="B Titr"/>
              </a:rPr>
              <a:t>(در درس  ریاضی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سلامت                   </a:t>
            </a:r>
            <a:r>
              <a:rPr b="1" lang="fa-IR" sz="2400" spc="-1" strike="noStrike">
                <a:solidFill>
                  <a:srgbClr val="ff3399"/>
                </a:solidFill>
                <a:latin typeface="Perpetua"/>
                <a:ea typeface="B Titr"/>
              </a:rPr>
              <a:t>( در درس تربیت بدنی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Content Placeholder 2" descr=""/>
          <p:cNvPicPr/>
          <p:nvPr/>
        </p:nvPicPr>
        <p:blipFill>
          <a:blip r:embed="rId1"/>
          <a:stretch/>
        </p:blipFill>
        <p:spPr>
          <a:xfrm>
            <a:off x="1054080" y="3492360"/>
            <a:ext cx="6626160" cy="29210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فاهیم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792000" y="347760"/>
            <a:ext cx="8017200" cy="13888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و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cce0c"/>
                </a:solidFill>
                <a:latin typeface="Perpetua"/>
                <a:cs typeface="B Titr"/>
              </a:rPr>
              <a:t>ناحی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عد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تورّ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1daff"/>
                </a:solidFill>
                <a:latin typeface="Perpetua"/>
                <a:cs typeface="B Titr"/>
              </a:rPr>
              <a:t>اکوسیست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ae2c83"/>
                </a:solidFill>
                <a:latin typeface="Perpetua"/>
                <a:cs typeface="B Titr"/>
              </a:rPr>
              <a:t>جنب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Content Placeholder 2" descr=""/>
          <p:cNvPicPr/>
          <p:nvPr/>
        </p:nvPicPr>
        <p:blipFill>
          <a:blip r:embed="rId1"/>
          <a:stretch/>
        </p:blipFill>
        <p:spPr>
          <a:xfrm>
            <a:off x="792000" y="3187800"/>
            <a:ext cx="7139160" cy="27684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هارت های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792000" y="347760"/>
            <a:ext cx="8017200" cy="1388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حاسب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رسیم نقش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تصمیم گیر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گوش دادن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792000" y="347760"/>
            <a:ext cx="8017200" cy="1388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اصل: انبساط و انقباض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عمیم: فلزات در اثر حرات منبسط می شون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طلاعات جزئی: فاصله زمین تا خورشید 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یک واحد نجومی اس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قاعده: ساخت فعل مضارع از بن فعل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cs typeface="B Titr"/>
              </a:rPr>
              <a:t>شواهد یادگیری مطلوب کدامند؟</a:t>
            </a:r>
            <a:br>
              <a:rPr sz="3600"/>
            </a:b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ea typeface="B Titr"/>
              </a:rPr>
              <a:t> 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طور خاص چه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شواهد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ی حاکی از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درک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عمیق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است؟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80520" y="30477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b050"/>
                </a:solidFill>
                <a:latin typeface="Perpetua"/>
                <a:cs typeface="B Titr"/>
              </a:rPr>
              <a:t>چگونه می توان فهمید که دانش آموز به نتایج مطلوب و استانداردها در برنامه درسی دست یافته اند؟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4e5b6f"/>
                </a:solidFill>
                <a:latin typeface="Perpetua"/>
                <a:ea typeface="B Titr"/>
              </a:rPr>
              <a:t> </a:t>
            </a:r>
            <a:r>
              <a:rPr b="0" lang="fa-IR" sz="3500" spc="-1" strike="noStrike">
                <a:solidFill>
                  <a:srgbClr val="ff0000"/>
                </a:solidFill>
                <a:latin typeface="Perpetua"/>
                <a:cs typeface="B Titr"/>
              </a:rPr>
              <a:t>چگونه می توان دریافت که دانش آموز "ایده کلید" را به درستی درک کرده ا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70c0"/>
                </a:solidFill>
                <a:latin typeface="Perpetua"/>
                <a:cs typeface="B Titr"/>
              </a:rPr>
              <a:t>چه شواهدی دست یابی دانش آموز به تمام شایستگی ها را تایید می ک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32004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e3054"/>
                </a:solidFill>
                <a:latin typeface="Perpetua"/>
                <a:cs typeface="Times New Roman"/>
              </a:rPr>
              <a:t>فرایند کارورزی در دانشگاه فرهنگیان به 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 دوره ی اصلی در مدت زمان دوسال تقسیم میشود که هر دوره به صورت 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 واحد ارائه میگردد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1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-معلم یار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 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-مشارکت در تدریس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 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-تدریس آزمایش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 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-تدریس مستقل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e3054"/>
                </a:solidFill>
                <a:latin typeface="Perpetu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8e3054"/>
                </a:solidFill>
                <a:latin typeface="Franklin Gothic Book"/>
                <a:cs typeface="Tahoma"/>
              </a:rPr>
              <a:t>فرایند کارورزی در دانشگاه فرهنگیان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320" y="1371240"/>
            <a:ext cx="8991360" cy="160020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35faa"/>
                </a:solidFill>
                <a:latin typeface="Franklin Gothic Book"/>
                <a:cs typeface="B Titr"/>
              </a:rPr>
              <a:t>ويژگي هاي تکالیف عملكر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22" name="Diagram 4" descr=""/>
          <p:cNvPicPr/>
          <p:nvPr/>
        </p:nvPicPr>
        <p:blipFill>
          <a:blip r:embed="rId1"/>
          <a:stretch/>
        </p:blipFill>
        <p:spPr>
          <a:xfrm>
            <a:off x="603360" y="2968560"/>
            <a:ext cx="79009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تکالیف عملکردی</a:t>
            </a:r>
            <a:br>
              <a:rPr sz="3600"/>
            </a:br>
            <a:r>
              <a:rPr b="0" lang="fa-IR" sz="3600" spc="-1" strike="noStrike">
                <a:solidFill>
                  <a:srgbClr val="ff0000"/>
                </a:solidFill>
                <a:latin typeface="Franklin Gothic Book"/>
                <a:ea typeface="Tahoma"/>
              </a:rPr>
              <a:t>-</a:t>
            </a:r>
            <a:r>
              <a:rPr b="0" lang="fa-IR" sz="3600" spc="-1" strike="noStrike">
                <a:solidFill>
                  <a:srgbClr val="4e5b6f"/>
                </a:solidFill>
                <a:latin typeface="Franklin Gothic Book"/>
                <a:cs typeface="Tahoma"/>
              </a:rPr>
              <a:t>چند مرحله ای هستند نه در یک مرحله.</a:t>
            </a:r>
            <a:br>
              <a:rPr sz="3600"/>
            </a:br>
            <a:r>
              <a:rPr b="0" lang="fa-IR" sz="36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-می تواند از بافت واقعی سرچشمه بگیرد.</a:t>
            </a:r>
            <a:br>
              <a:rPr sz="3600"/>
            </a:br>
            <a:r>
              <a:rPr b="0" lang="fa-IR" sz="36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-به کمک تکلیف عملکردی باید نشان داد که یادگیرنده تا چه حد بر اساس طراحی به اهداف بسیده یا نه.</a:t>
            </a:r>
            <a:br>
              <a:rPr sz="3600"/>
            </a:br>
            <a:r>
              <a:rPr b="0" lang="fa-IR" sz="36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-متمرکز بر ارزشیابی هستند</a:t>
            </a:r>
            <a:br>
              <a:rPr sz="3600"/>
            </a:br>
            <a:r>
              <a:rPr b="0" lang="fa-IR" sz="36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-موقعیت جدید را در بر می گیرد.</a:t>
            </a:r>
            <a:br>
              <a:rPr sz="3600"/>
            </a:br>
            <a:r>
              <a:rPr b="0" lang="fa-IR" sz="36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-مجموعه فعالیت پیوسته به هم.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e5b6f"/>
                </a:solidFill>
                <a:latin typeface="Franklin Gothic Book"/>
                <a:cs typeface="Tahoma"/>
              </a:rPr>
              <a:t>تفاوت بین تکالیف یادگیری و عملکردی</a:t>
            </a:r>
            <a:r>
              <a:rPr b="0" lang="fa-IR" sz="40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: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560" y="1447560"/>
            <a:ext cx="435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0000"/>
                </a:solidFill>
                <a:latin typeface="Perpetua"/>
                <a:cs typeface="Times New Roman"/>
              </a:rPr>
              <a:t>تکالیف عملکردی</a:t>
            </a:r>
            <a:br>
              <a:rPr sz="2400"/>
            </a:br>
            <a:r>
              <a:rPr b="0" lang="fa-IR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یاد گرفته ها را در کلاس پیاده می کنیم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تمرکز روی ارزشیاب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متمرکز روی ملاک ها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933800" y="1447560"/>
            <a:ext cx="3981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b0f0"/>
                </a:solidFill>
                <a:latin typeface="Perpetua"/>
                <a:cs typeface="Times New Roman"/>
              </a:rPr>
              <a:t>تکالیف یادگیری</a:t>
            </a:r>
            <a:br>
              <a:rPr sz="1800"/>
            </a:br>
            <a:r>
              <a:rPr b="0" lang="fa-IR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چیزهایی که ما یاد می گیریم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تمرکز روی فرایند یادگیر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طراحی می کنیم تا چیزی یاد بگیریم</a:t>
            </a:r>
            <a:br>
              <a:rPr sz="2400"/>
            </a:br>
            <a:br>
              <a:rPr sz="2600"/>
            </a:br>
            <a:r>
              <a:rPr b="0" lang="fa-IR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4ddd4"/>
                </a:solidFill>
                <a:latin typeface="Franklin Gothic Book"/>
                <a:cs typeface="B Titr"/>
              </a:rPr>
              <a:t>انواع فعالیت های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28" name="Subtitle 4" descr=""/>
          <p:cNvPicPr/>
          <p:nvPr/>
        </p:nvPicPr>
        <p:blipFill>
          <a:blip r:embed="rId1"/>
          <a:stretch/>
        </p:blipFill>
        <p:spPr>
          <a:xfrm>
            <a:off x="212760" y="3181320"/>
            <a:ext cx="8566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رقراری ارتباط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تجربه کرد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کاربستن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ه اشتراک گذاشت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انتقال به موقعیت جدید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راحل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66294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سنج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5335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آموز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2362320" y="1295280"/>
            <a:ext cx="4495680" cy="4114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dae6"/>
              </a:gs>
              <a:gs pos="100000">
                <a:srgbClr val="06acb0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581280" y="914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برنامه درس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3278160" y="3954240"/>
            <a:ext cx="2665440" cy="649800"/>
          </a:xfrm>
          <a:prstGeom prst="ellipse">
            <a:avLst/>
          </a:prstGeom>
          <a:solidFill>
            <a:srgbClr val="d4e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شایس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 flipH="1">
            <a:off x="2057040" y="1447920"/>
            <a:ext cx="213372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2286000" y="5638680"/>
            <a:ext cx="46483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 flipH="1" flipV="1">
            <a:off x="5028840" y="1447920"/>
            <a:ext cx="205740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457200" y="1828800"/>
            <a:ext cx="8153280" cy="2322360"/>
            <a:chOff x="457200" y="1828800"/>
            <a:chExt cx="8153280" cy="2322360"/>
          </a:xfrm>
        </p:grpSpPr>
        <p:sp>
          <p:nvSpPr>
            <p:cNvPr id="340" name="Text Box 3"/>
            <p:cNvSpPr/>
            <p:nvPr/>
          </p:nvSpPr>
          <p:spPr>
            <a:xfrm>
              <a:off x="6310080" y="1833480"/>
              <a:ext cx="1555920" cy="804960"/>
            </a:xfrm>
            <a:prstGeom prst="rect">
              <a:avLst/>
            </a:prstGeom>
            <a:solidFill>
              <a:srgbClr val="b2e3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کن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4365720" y="1828800"/>
              <a:ext cx="1555920" cy="803160"/>
            </a:xfrm>
            <a:prstGeom prst="rect">
              <a:avLst/>
            </a:prstGeom>
            <a:solidFill>
              <a:srgbClr val="f27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تأم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"/>
            <p:cNvSpPr/>
            <p:nvPr/>
          </p:nvSpPr>
          <p:spPr>
            <a:xfrm>
              <a:off x="2299680" y="1869840"/>
              <a:ext cx="1715040" cy="8038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چال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"/>
            <p:cNvSpPr/>
            <p:nvPr/>
          </p:nvSpPr>
          <p:spPr>
            <a:xfrm>
              <a:off x="457200" y="1841400"/>
              <a:ext cx="1555920" cy="803160"/>
            </a:xfrm>
            <a:prstGeom prst="rect">
              <a:avLst/>
            </a:prstGeom>
            <a:solidFill>
              <a:srgbClr val="5fe8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احساس امنیت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7"/>
            <p:cNvSpPr/>
            <p:nvPr/>
          </p:nvSpPr>
          <p:spPr>
            <a:xfrm>
              <a:off x="2040840" y="225900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"/>
            <p:cNvSpPr/>
            <p:nvPr/>
          </p:nvSpPr>
          <p:spPr>
            <a:xfrm>
              <a:off x="4075920" y="225900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977440" y="22122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"/>
            <p:cNvSpPr/>
            <p:nvPr/>
          </p:nvSpPr>
          <p:spPr>
            <a:xfrm>
              <a:off x="5153040" y="2259000"/>
              <a:ext cx="3191040" cy="1166760"/>
            </a:xfrm>
            <a:custGeom>
              <a:avLst/>
              <a:gdLst>
                <a:gd name="textAreaLeft" fmla="*/ 0 w 3191040"/>
                <a:gd name="textAreaRight" fmla="*/ 3191400 w 3191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5958" h="1838">
                  <a:moveTo>
                    <a:pt x="5189" y="0"/>
                  </a:moveTo>
                  <a:lnTo>
                    <a:pt x="5958" y="0"/>
                  </a:lnTo>
                  <a:lnTo>
                    <a:pt x="5958" y="1838"/>
                  </a:lnTo>
                  <a:lnTo>
                    <a:pt x="0" y="1838"/>
                  </a:lnTo>
                  <a:lnTo>
                    <a:pt x="0" y="8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1"/>
            <p:cNvSpPr/>
            <p:nvPr/>
          </p:nvSpPr>
          <p:spPr>
            <a:xfrm>
              <a:off x="3065040" y="2149200"/>
              <a:ext cx="5425200" cy="1512720"/>
            </a:xfrm>
            <a:custGeom>
              <a:avLst/>
              <a:gdLst>
                <a:gd name="textAreaLeft" fmla="*/ 0 w 5425200"/>
                <a:gd name="textAreaRight" fmla="*/ 5425560 w 5425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129" h="2383">
                  <a:moveTo>
                    <a:pt x="9087" y="0"/>
                  </a:moveTo>
                  <a:lnTo>
                    <a:pt x="10129" y="0"/>
                  </a:lnTo>
                  <a:lnTo>
                    <a:pt x="10129" y="2383"/>
                  </a:lnTo>
                  <a:lnTo>
                    <a:pt x="0" y="2383"/>
                  </a:lnTo>
                  <a:lnTo>
                    <a:pt x="0" y="11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"/>
            <p:cNvSpPr/>
            <p:nvPr/>
          </p:nvSpPr>
          <p:spPr>
            <a:xfrm>
              <a:off x="1070280" y="2022840"/>
              <a:ext cx="7540200" cy="2128320"/>
            </a:xfrm>
            <a:custGeom>
              <a:avLst/>
              <a:gdLst>
                <a:gd name="textAreaLeft" fmla="*/ 0 w 7540200"/>
                <a:gd name="textAreaRight" fmla="*/ 7540560 w 7540200"/>
                <a:gd name="textAreaTop" fmla="*/ 0 h 2128320"/>
                <a:gd name="textAreaBottom" fmla="*/ 2128680 h 2128320"/>
              </a:gdLst>
              <a:ahLst/>
              <a:rect l="textAreaLeft" t="textAreaTop" r="textAreaRight" b="textAreaBottom"/>
              <a:pathLst>
                <a:path w="14077" h="3352">
                  <a:moveTo>
                    <a:pt x="12811" y="0"/>
                  </a:moveTo>
                  <a:lnTo>
                    <a:pt x="14077" y="0"/>
                  </a:lnTo>
                  <a:lnTo>
                    <a:pt x="14077" y="3352"/>
                  </a:lnTo>
                  <a:lnTo>
                    <a:pt x="0" y="3352"/>
                  </a:lnTo>
                  <a:lnTo>
                    <a:pt x="0" y="1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0000"/>
                </a:solidFill>
                <a:latin typeface="Perpetua"/>
                <a:cs typeface="B Titr"/>
              </a:rPr>
              <a:t>با سپاس از همراهی شما بزرگوارا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e5b6f"/>
                </a:solidFill>
                <a:latin typeface="Franklin Gothic Book"/>
                <a:cs typeface="Tahoma"/>
              </a:rPr>
              <a:t>مقایسه کارورزی ها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228600" y="533520"/>
            <a:ext cx="876312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8e3054"/>
                </a:solidFill>
                <a:latin typeface="Arial"/>
                <a:cs typeface="B Nazanin"/>
              </a:rPr>
              <a:t>کارورزی </a:t>
            </a:r>
            <a:r>
              <a:rPr b="0" lang="fa-IR" sz="2800" spc="-1" strike="noStrike">
                <a:solidFill>
                  <a:srgbClr val="8e3054"/>
                </a:solidFill>
                <a:latin typeface="Arial"/>
                <a:ea typeface="B Nazanin"/>
              </a:rPr>
              <a:t>1</a:t>
            </a:r>
            <a:r>
              <a:rPr b="0" lang="fa-IR" sz="2800" spc="-1" strike="noStrike">
                <a:solidFill>
                  <a:srgbClr val="8e3054"/>
                </a:solidFill>
                <a:latin typeface="Arial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8e3054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Nazanin"/>
              </a:rPr>
              <a:t>عمل مشاهده ی تأم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Nazanin"/>
              </a:rPr>
              <a:t>دانشجو به جایی برسد که به قدرت بررسی برسد.</a:t>
            </a:r>
            <a:br>
              <a:rPr sz="2800"/>
            </a:br>
            <a:r>
              <a:rPr b="0" lang="fa-IR" sz="2800" spc="-1" strike="noStrike">
                <a:solidFill>
                  <a:srgbClr val="8e3054"/>
                </a:solidFill>
                <a:latin typeface="Arial"/>
                <a:cs typeface="B Nazanin"/>
              </a:rPr>
              <a:t>کارورزی</a:t>
            </a:r>
            <a:r>
              <a:rPr b="0" lang="fa-IR" sz="2800" spc="-1" strike="noStrike">
                <a:solidFill>
                  <a:srgbClr val="8e3054"/>
                </a:solidFill>
                <a:latin typeface="Arial"/>
                <a:ea typeface="B Nazanin"/>
              </a:rPr>
              <a:t>2</a:t>
            </a:r>
            <a:r>
              <a:rPr b="0" lang="fa-IR" sz="2800" spc="-1" strike="noStrike">
                <a:solidFill>
                  <a:srgbClr val="8e3054"/>
                </a:solidFill>
                <a:latin typeface="Arial"/>
                <a:ea typeface="B Nazanin"/>
              </a:rPr>
              <a:t> :</a:t>
            </a:r>
            <a:br>
              <a:rPr sz="2800"/>
            </a:b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Nazanin"/>
              </a:rPr>
              <a:t>دانشجو در حد خرد مشارکت کند</a:t>
            </a:r>
            <a:br>
              <a:rPr sz="2800"/>
            </a:b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Nazanin"/>
              </a:rPr>
              <a:t>فعالیت یادگیری را در حد نیاز طراحی کند</a:t>
            </a:r>
            <a:br>
              <a:rPr sz="2800"/>
            </a:b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Nazanin"/>
              </a:rPr>
              <a:t>اینکه آیا نتایج مورد انتظار بود</a:t>
            </a:r>
            <a:br>
              <a:rPr sz="2800"/>
            </a:b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Nazanin"/>
              </a:rPr>
              <a:t>آیا باید مطالب خود را بررسی ک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Nazanin"/>
              </a:rPr>
              <a:t>کارورزی</a:t>
            </a:r>
            <a:r>
              <a:rPr b="0" lang="fa-IR" sz="2800" spc="-1" strike="noStrike">
                <a:solidFill>
                  <a:srgbClr val="ff0000"/>
                </a:solidFill>
                <a:latin typeface="Arial"/>
                <a:ea typeface="B Nazanin"/>
              </a:rPr>
              <a:t>3</a:t>
            </a:r>
            <a:r>
              <a:rPr b="0" lang="fa-IR" sz="2800" spc="-1" strike="noStrike">
                <a:solidFill>
                  <a:srgbClr val="ff0000"/>
                </a:solidFill>
                <a:latin typeface="Arial"/>
                <a:ea typeface="B Nazanin"/>
              </a:rPr>
              <a:t>:</a:t>
            </a:r>
            <a:br>
              <a:rPr sz="2800"/>
            </a:br>
            <a:r>
              <a:rPr b="0" lang="fa-IR" sz="2800" spc="-1" strike="noStrike">
                <a:solidFill>
                  <a:srgbClr val="002060"/>
                </a:solidFill>
                <a:latin typeface="Arial"/>
                <a:cs typeface="B Nazanin"/>
              </a:rPr>
              <a:t>موقعیت را شناخته و می تواند تفسیر کند</a:t>
            </a:r>
            <a:br>
              <a:rPr sz="2800"/>
            </a:br>
            <a:r>
              <a:rPr b="0" lang="fa-IR" sz="2800" spc="-1" strike="noStrike">
                <a:solidFill>
                  <a:srgbClr val="002060"/>
                </a:solidFill>
                <a:latin typeface="Arial"/>
                <a:cs typeface="B Nazanin"/>
              </a:rPr>
              <a:t>خودش را شناخته است</a:t>
            </a:r>
            <a:br>
              <a:rPr sz="2800"/>
            </a:br>
            <a:r>
              <a:rPr b="0" lang="fa-IR" sz="2800" spc="-1" strike="noStrike">
                <a:solidFill>
                  <a:srgbClr val="002060"/>
                </a:solidFill>
                <a:latin typeface="Arial"/>
                <a:cs typeface="B Nazanin"/>
              </a:rPr>
              <a:t>درک حرفه ای  و روشن تری از من حرفه ای دارد</a:t>
            </a:r>
            <a:br>
              <a:rPr sz="2800"/>
            </a:br>
            <a:r>
              <a:rPr b="0" lang="fa-IR" sz="2800" spc="-1" strike="noStrike">
                <a:solidFill>
                  <a:srgbClr val="002060"/>
                </a:solidFill>
                <a:latin typeface="Arial"/>
                <a:cs typeface="B Nazanin"/>
              </a:rPr>
              <a:t>باید خودش را مطالعه کند</a:t>
            </a:r>
            <a:br>
              <a:rPr sz="2800"/>
            </a:br>
            <a:r>
              <a:rPr b="0" lang="fa-IR" sz="2800" spc="-1" strike="noStrike">
                <a:solidFill>
                  <a:srgbClr val="002060"/>
                </a:solidFill>
                <a:latin typeface="Arial"/>
                <a:cs typeface="B Nazanin"/>
              </a:rPr>
              <a:t>برای یک درس طرح درس تهیه کند</a:t>
            </a:r>
            <a:r>
              <a:rPr b="0" lang="fa-IR" sz="2800" spc="-1" strike="noStrike">
                <a:solidFill>
                  <a:srgbClr val="002060"/>
                </a:solidFill>
                <a:latin typeface="Arial"/>
                <a:ea typeface="Arial"/>
              </a:rPr>
              <a:t> .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04920" y="0"/>
            <a:ext cx="8610480" cy="80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a-IR" sz="2000" spc="-1" strike="noStrike">
                <a:solidFill>
                  <a:srgbClr val="ff0000"/>
                </a:solidFill>
                <a:latin typeface="Arial"/>
              </a:rPr>
              <a:t>ادامه کارورزی </a:t>
            </a:r>
            <a:r>
              <a:rPr b="0" lang="fa-IR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fa-IR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مطالعه موقعیت یادگیری و شناسایی ظرفیت های آن برای تهیه طرح آموزشی</a:t>
            </a:r>
            <a:br>
              <a:rPr sz="2400"/>
            </a:b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 گزارش روایتی در خصوص چگونگی مطالعه موقعیت یادگیری و شناسایی     مسئله ای که براساس آن طرح آموزشی صورت خواهد گرفت. </a:t>
            </a:r>
            <a:br>
              <a:rPr sz="2400"/>
            </a:b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 تهیه شش طرح آموزشی (طرح یاددهی – یادگیری )</a:t>
            </a:r>
            <a:br>
              <a:rPr sz="2400"/>
            </a:b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 برگزاری جلسات مصاحبه بین استاد با دانشجو ( فردی یا گروهی ) در خصوص چگونگی تهیه طرح آموزشی </a:t>
            </a:r>
            <a:br>
              <a:rPr sz="2400"/>
            </a:b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 اجرای طرح آموزشی </a:t>
            </a:r>
            <a:br>
              <a:rPr sz="2400"/>
            </a:b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 گزارش طرح آموزشی در قالب کنش پژوهی </a:t>
            </a:r>
            <a:br>
              <a:rPr sz="2400"/>
            </a:b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 واکاوی گزارش ها و تجربیات ( کد گذاری )</a:t>
            </a:r>
            <a:br>
              <a:rPr sz="2400"/>
            </a:br>
            <a:r>
              <a:rPr b="0" lang="fa-IR" sz="2400" spc="-1" strike="noStrike">
                <a:solidFill>
                  <a:srgbClr val="002060"/>
                </a:solidFill>
                <a:latin typeface="Arial"/>
              </a:rPr>
              <a:t>- برگزاری سمینارها </a:t>
            </a:r>
            <a:br>
              <a:rPr sz="2400"/>
            </a:br>
            <a:r>
              <a:rPr b="0" lang="fa-IR" sz="2400" spc="-1" strike="noStrike">
                <a:solidFill>
                  <a:srgbClr val="ff0000"/>
                </a:solidFill>
                <a:latin typeface="Arial"/>
                <a:cs typeface="B Nazanin"/>
              </a:rPr>
              <a:t>کارورزی </a:t>
            </a:r>
            <a:r>
              <a:rPr b="0" lang="fa-IR" sz="2400" spc="-1" strike="noStrike">
                <a:solidFill>
                  <a:srgbClr val="ff0000"/>
                </a:solidFill>
                <a:latin typeface="Arial"/>
                <a:ea typeface="B Nazanin"/>
              </a:rPr>
              <a:t>4</a:t>
            </a:r>
            <a:r>
              <a:rPr b="0" lang="fa-IR" sz="2400" spc="-1" strike="noStrike">
                <a:solidFill>
                  <a:srgbClr val="ff0000"/>
                </a:solidFill>
                <a:latin typeface="Arial"/>
                <a:ea typeface="B Nazanin"/>
              </a:rPr>
              <a:t>:</a:t>
            </a:r>
            <a:br>
              <a:rPr sz="2400"/>
            </a:br>
            <a:r>
              <a:rPr b="0" lang="fa-IR" sz="2400" spc="-1" strike="noStrike">
                <a:solidFill>
                  <a:srgbClr val="007eea"/>
                </a:solidFill>
                <a:latin typeface="Arial"/>
                <a:cs typeface="B Nazanin"/>
              </a:rPr>
              <a:t>دانشجو بعنوان معلم وارد عمل می شود</a:t>
            </a:r>
            <a:br>
              <a:rPr sz="2400"/>
            </a:br>
            <a:r>
              <a:rPr b="0" lang="fa-IR" sz="2400" spc="-1" strike="noStrike">
                <a:solidFill>
                  <a:srgbClr val="007eea"/>
                </a:solidFill>
                <a:latin typeface="Arial"/>
                <a:cs typeface="B Nazanin"/>
              </a:rPr>
              <a:t>بعنوان معلم باید وارد مدرسه شود</a:t>
            </a:r>
            <a:br>
              <a:rPr sz="2400"/>
            </a:br>
            <a:r>
              <a:rPr b="0" lang="fa-IR" sz="2400" spc="-1" strike="noStrike">
                <a:solidFill>
                  <a:srgbClr val="007eea"/>
                </a:solidFill>
                <a:latin typeface="Arial"/>
                <a:cs typeface="B Nazanin"/>
              </a:rPr>
              <a:t>چون امر تدریس به تنهایی انجام نمی شود،روش آموزش را روش درس پژوهی می گویند.</a:t>
            </a:r>
            <a:br>
              <a:rPr sz="2400"/>
            </a:br>
            <a:r>
              <a:rPr b="0" lang="fa-IR" sz="2400" spc="-1" strike="noStrike">
                <a:solidFill>
                  <a:srgbClr val="007eea"/>
                </a:solidFill>
                <a:latin typeface="Arial"/>
                <a:cs typeface="B Nazanin"/>
              </a:rPr>
              <a:t>طرح درس روزانه کمتر مد نظر است</a:t>
            </a:r>
            <a:br>
              <a:rPr sz="2400"/>
            </a:br>
            <a:r>
              <a:rPr b="0" lang="fa-IR" sz="2400" spc="-1" strike="noStrike">
                <a:solidFill>
                  <a:srgbClr val="007eea"/>
                </a:solidFill>
                <a:latin typeface="Arial"/>
                <a:cs typeface="B Nazanin"/>
              </a:rPr>
              <a:t>معلم اسیر محتوا نمی شود،بلکه خودش فعال باشد ،خودش تولید 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962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b0f0"/>
                </a:solidFill>
                <a:latin typeface="Perpetua"/>
                <a:cs typeface="Times New Roman"/>
              </a:rPr>
              <a:t>در کارورزی </a:t>
            </a:r>
            <a:r>
              <a:rPr b="0" lang="fa-IR" sz="4000" spc="-1" strike="noStrike">
                <a:solidFill>
                  <a:srgbClr val="00b0f0"/>
                </a:solidFill>
                <a:latin typeface="Perpetua"/>
                <a:ea typeface="Times New Roman"/>
              </a:rPr>
              <a:t>4</a:t>
            </a:r>
            <a:r>
              <a:rPr b="0" lang="fa-IR" sz="4000" spc="-1" strike="noStrike">
                <a:solidFill>
                  <a:srgbClr val="00b0f0"/>
                </a:solidFill>
                <a:latin typeface="Perpetua"/>
                <a:cs typeface="Times New Roman"/>
              </a:rPr>
              <a:t>واحد یادگیری بصورت گروهی (تیمی) تهیه می شود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در کارورزی </a:t>
            </a: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3</a:t>
            </a: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 واحد یادگیری بصورت انفرادی تهیه می شود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هدف از تهیه طرح آموزشی </a:t>
            </a:r>
            <a:br>
              <a:rPr sz="3200"/>
            </a:br>
            <a:r>
              <a:rPr b="0" lang="fa-IR" sz="2800" spc="-1" strike="noStrike">
                <a:solidFill>
                  <a:srgbClr val="00b0f0"/>
                </a:solidFill>
                <a:latin typeface="Franklin Gothic Book"/>
                <a:cs typeface="Tahoma"/>
              </a:rPr>
              <a:t>تهیه نقشه ای آموزشی که جزئیات را با توجه به موضوع در بر داشته باشد.</a:t>
            </a:r>
            <a:br>
              <a:rPr sz="2800"/>
            </a:br>
            <a:r>
              <a:rPr b="0" lang="fa-IR" sz="2800" spc="-1" strike="noStrike">
                <a:solidFill>
                  <a:srgbClr val="4e5b6f"/>
                </a:solidFill>
                <a:latin typeface="Franklin Gothic Book"/>
                <a:cs typeface="Tahoma"/>
              </a:rPr>
              <a:t>برنامه ریزی درسی کاری جمعی می باشد نه انفرادی.</a:t>
            </a:r>
            <a:br>
              <a:rPr sz="2800"/>
            </a:br>
            <a:r>
              <a:rPr b="0" lang="fa-IR" sz="2800" spc="-1" strike="noStrike">
                <a:solidFill>
                  <a:srgbClr val="4e5b6f"/>
                </a:solidFill>
                <a:latin typeface="Franklin Gothic Book"/>
                <a:cs typeface="Tahoma"/>
              </a:rPr>
              <a:t>دانشجو باید قدرت تعامل با دیگران را داشته باشد</a:t>
            </a:r>
            <a:br>
              <a:rPr sz="2800"/>
            </a:br>
            <a:r>
              <a:rPr b="0" lang="fa-IR" sz="2800" spc="-1" strike="noStrike">
                <a:solidFill>
                  <a:srgbClr val="4e5b6f"/>
                </a:solidFill>
                <a:latin typeface="Franklin Gothic Book"/>
                <a:cs typeface="Tahoma"/>
              </a:rPr>
              <a:t>دانشجو وقتی می تواند در مدرسه تاثیر گذار باشد که وزن حرفه ای داشته باشد.</a:t>
            </a:r>
            <a:br>
              <a:rPr sz="2800"/>
            </a:b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قابلیت دانشجو به </a:t>
            </a:r>
            <a:r>
              <a:rPr b="0" lang="fa-IR" sz="3200" spc="-1" strike="noStrike">
                <a:solidFill>
                  <a:srgbClr val="ff0000"/>
                </a:solidFill>
                <a:latin typeface="Franklin Gothic Book"/>
                <a:ea typeface="Tahoma"/>
              </a:rPr>
              <a:t>2</a:t>
            </a:r>
            <a:r>
              <a:rPr b="0" lang="fa-IR" sz="3200" spc="-1" strike="noStrike">
                <a:solidFill>
                  <a:srgbClr val="ff0000"/>
                </a:solidFill>
                <a:latin typeface="Franklin Gothic Book"/>
                <a:ea typeface="Tahoma"/>
              </a:rPr>
              <a:t> عامل بستگی دارد:</a:t>
            </a:r>
            <a:br>
              <a:rPr sz="3200"/>
            </a:br>
            <a:r>
              <a:rPr b="0" lang="fa-IR" sz="32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1</a:t>
            </a:r>
            <a:r>
              <a:rPr b="0" lang="fa-IR" sz="32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-توانایی حرفه ای</a:t>
            </a:r>
            <a:br>
              <a:rPr sz="3200"/>
            </a:br>
            <a:r>
              <a:rPr b="0" lang="fa-IR" sz="32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2</a:t>
            </a:r>
            <a:r>
              <a:rPr b="0" lang="fa-IR" sz="3200" spc="-1" strike="noStrike">
                <a:solidFill>
                  <a:srgbClr val="4e5b6f"/>
                </a:solidFill>
                <a:latin typeface="Franklin Gothic Book"/>
                <a:ea typeface="Tahoma"/>
              </a:rPr>
              <a:t>- توانایی تاثیرگذاری یا تعامل موثر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Diagram 3" descr=""/>
          <p:cNvPicPr/>
          <p:nvPr/>
        </p:nvPicPr>
        <p:blipFill>
          <a:blip r:embed="rId1"/>
          <a:stretch/>
        </p:blipFill>
        <p:spPr>
          <a:xfrm>
            <a:off x="-55440" y="304920"/>
            <a:ext cx="868176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mene</dc:creator>
  <dc:description/>
  <dc:language>en-US</dc:language>
  <cp:lastModifiedBy>Asghar pc</cp:lastModifiedBy>
  <dcterms:modified xsi:type="dcterms:W3CDTF">2020-04-27T06:53:51Z</dcterms:modified>
  <cp:revision>153</cp:revision>
  <dc:subject/>
  <dc:title>Slide 1</dc:title>
</cp:coreProperties>
</file>