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07291-E462-492F-89BF-3B0CBFD97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562F0-9DBC-4F3E-9919-CCBBAA2DC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39455-EA03-4211-B8D4-B762F3F50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9B31F-32A4-4716-8074-07129B851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E68C5-1F6B-480B-8C74-EB31A2A1A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BBBB4-8708-47A1-8866-8617250AB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292F9-F7C7-4F62-B20E-53CDB42E4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E38BB-39C5-465D-B532-4CC62E896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3D53F-0FFB-414E-BB04-003AD3F5A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269F1-7212-4E78-91D2-EC4D11BB7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DB09A-2587-4F9E-88A1-8737B8D67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16857-53F1-44C1-BF3D-BAB1251C9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54EF7-62DE-4938-86C9-74183FA06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06FAE-C595-4946-B860-75EA3033F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69516-7E1F-44AF-8F5A-A882200FD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D17C7-4BA8-4E72-B1F1-A8747BA26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262BC-66DE-4655-97B9-AD87FFE05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BB4B1F0-007C-4DF1-9281-5B83F4DBDB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2ABC783-4CF5-4A17-849C-3EC1A544E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92CDCC-48E2-43E3-9B34-5061B5159E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B9E4177-DCE7-40B9-A84A-5C4E6DF87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E3402A-A614-48DB-8A9F-AB0BAF64F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100AB-287F-4E76-B912-29A12A1F1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8C5E92-67D1-4E53-96F9-782D739AD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ADCE4E-ED21-42FF-BB06-8C43D7E9A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48C90F-C839-4E75-B941-A1C9B0845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A8D164-0F86-4154-A3AE-B297D865D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3D5CD86-CA3F-4D33-AF78-39E90D1F6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9416B11-2036-4871-931E-251647221D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4B3B855-5259-43C1-ABEE-D265E22DBA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6DA0DF1-9C37-4CA1-8FF9-3F054D4AE5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FE47FD5-C309-473F-8B17-CC7C5126D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378AD45-9CA3-489A-83A5-6B15EE041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8E867-B189-4549-9B87-AED095963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7BBB13-1979-477F-955B-B298924C4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3BBF3F3-106A-4556-BF57-5D610DC74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12CDCDE-A743-4DF4-8A60-B19404705E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595131-8758-417A-8C06-F3D96BE33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18E963-D856-4812-8497-CD7276384E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5A6284D-F49E-44B5-8B87-CB3E8D210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D2A272D-3755-495D-A0D2-81779903DB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DB8B07C-1186-4B21-9B96-F42F63EEF5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2DAA9D7-E59A-48BE-86E2-9EFD70AA3B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E53BDB6-61CC-46C3-941C-D4D844920E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E5BB3-BBBC-4A8B-B9CB-B60DC71AC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8019605-F3F8-4866-9020-524D3FDED2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D23CAF6-CE6F-4642-91A2-5662FDA37D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D8CEA7-4C28-4FAE-B7C2-B76B24E3F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2285EE5-703F-48E9-82FC-23873F5DB9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AC6642-CA39-44A6-B744-939A0AD418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2BA1BB-F06E-4C4F-96A5-A6FA4A22D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FEBE11-260F-44E5-B970-15CA119CBE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7B4FCD-E63C-4D1B-9619-5FA9524A2A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E092F9-DAF3-4549-A8E9-D6A7CE3785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2076A65-E1A2-48CE-8632-83EA47CC1F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C4286-A129-45E6-A147-43F41DE4C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2EFC38-820F-4BF5-B062-501997DF88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BFF5C4-BFCB-4588-A582-C4B4F632A8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1B282A-5930-4EAE-96F7-AA9F4DC292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1E0A4A-E55C-4C5E-9A85-7744D708DE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5171C2-8A79-4E29-B539-86268EF9DA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E67FBB-0639-47FE-90CF-BAEBF962E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B29FAA-A386-4701-A586-3E514A813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EB5B73-9224-45B0-AE54-6967E03E6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F5074-8705-4A9B-95F4-5BFB4FFCE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223EC-8C92-43A9-8A5F-517DE8864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33D37-C354-43D4-9313-F23A76E29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635836-B366-4F4C-AEA0-A196CA6E1E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567658-87DF-4F48-9B87-863FC2BE92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02989B-F11E-400E-841F-A0A1520D41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F306E25-6544-408D-9938-3BC321F1B0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9B5931-116D-4118-93C0-AD6FE2B04C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EE0CA6-45E7-4E52-AB2F-A5498729F6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1A455FE-CE06-4ACA-8856-620ECB1AC1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38AF12B-AA86-4CC6-8287-A0309CBCFA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AB5993F-9D72-42DB-803D-E0AE443A36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0255AC-9F00-42DB-B8B4-192A826AB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1F3B5-FE1B-4C71-AB37-B82A844B6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3ACCD27-CF27-4A3A-8FEE-9AF376CAA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D49479E-4544-4FD5-AFB9-DE33F027A6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95AD9C3-86A1-4EF7-AA86-FE5D6DF242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4DF0E39-6921-4857-95E3-45402EABB3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E36458F-6F2A-49A9-A914-B6CF2A750B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B5BDDE-3741-4237-8691-93B176C460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6C8851-9BF3-40ED-BF45-3758F29E65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687338-3835-4350-B5F9-DA165DC0F1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59AF48-D7F7-4602-B3AB-06E97BBB59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537D8B-0FD8-4CC7-97B4-526EC01663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0F40D-018E-4DAF-9844-C22A69E8F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F46F52-27E6-4FE9-9AAD-1B964FB8CD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F18B15-1B3F-41C4-9272-283D3FED47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8F5C45-9566-458C-8E9F-860FEAB382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029377-3824-4B50-B3C8-32324F764D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E4FABB-4671-46C5-88E5-1CFAF7924C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760D49-F72A-41AC-B4B3-92B6FB5EA5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88F894-A518-48C7-B34E-4FAD12FB34D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EFED-1A56-4C07-BA05-742F0D69FA69}"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BE61-D146-4932-B297-50FF85D8DB96}" type="slidenum">
              <a:rPr b="1" lang="fa-IR"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6659-7E85-4EF3-851F-7031389B29BB}" type="slidenum">
              <a:rPr b="1" lang="fa-IR"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A3E8-DF05-472C-AD7D-1C87E165C1C5}"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91D1-6832-4901-A44C-E0FC89251D97}"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BAE1-A7AB-4EFA-99FF-7C6234DC30A4}" type="slidenum">
              <a:rPr b="1" lang="fa-IR"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C1C1-58F9-4E25-A76D-4E637EA4062A}" type="slidenum">
              <a:rPr b="1" lang="fa-IR"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D1F3-D57A-4BE0-BC9A-03E3261B2754}"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43000" y="1643040"/>
            <a:ext cx="7696080" cy="2214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bddc3"/>
                </a:solidFill>
                <a:latin typeface="Tw Cen MT"/>
              </a:rPr>
              <a:t>فعالیتهایی برای کلاسهای بزرگتر</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طرح سوال</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روش بارش مغزی</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روش بحث و مناظره</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nk-pair-share</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خلاصه یک جمله ای</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مقاله یک دقیقه ای</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کوییز بدون نمره</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طرح سوال</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سوالات آسان ترین ابزار برای تدریس تعاملی بویژه در کلاسهای بزرگ است، و در همه رشته ها مفید است. این روش به یادگیری فعال کمک می کند و میزان علاقه و فهم دانشجویان را اندازه می گیرد. </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قبل از کلاس سوالات کلیدی را ایجاد کن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تصمیم بگیرید که چه موقع می خواهید سوالات را بپرس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سوالاتی طرح کنید که قابل پاسخ دادن باش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شکل سوالات را تغییر ده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در یک زمان تنها یک سوال بپرس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بین سوال و پاسخ وقفه داشته باشید اجازه دهید دانشجویان فکر کنند</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بارش مغزی</a:t>
            </a:r>
            <a:endParaRPr b="0" lang="en-US" sz="44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بارش مغزی می تواند ساده و مفید در همه رشته ها باشد اما بایستی بطور مناسب مورد استفاده قرار گیرد تا موثر واقع شو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در خصوص میزان زمانی که به بارش مغزی اختصاص خواهید داد تصمیم بگیری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سوال یا موضوعی را که ایده های دانش آموزان و دانشجویان در آن خصوص را می خواهید ارائه دهی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از چند دقیقه سکوت به عنوان فرصت برای نوشتن ایده های خودشان بر روی کاغذ قبل از گفتن آنها استفاده کنی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دو قاعده را بکار بندید: هر ایده ای را با نوشتن آن تایید کنید و تا زمانیکه روش بارش مغزی به اتمام نرسیده است اجازه قضاوت در مورد ایده ها را ندهید حتی برای خودتان.</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روش بحث و مناظره</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روش بحث و مناظره روش خوب برای تشویق مشارکت کلاس در گروههای بزرگ بدون از دست دادن کنترل کلاس است، و می تواند در هر رشته موثر واقع شود. </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کلاس را به دو طرف مناظره تقسیم کنید و حتی از نظر نشستن هم تغییراتی ایجاد کنید تا یک طرف کلاس از یک ایده دفاع کنند و طرف دیگر کلاس از ایده دیگر. </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مناظره در ابتدا به آرامی آغاز می شود اما شدت مناظره بالا خواهد گرفت.</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اگر تعداد کلاس بیشتر است حتما از دانشجویان بخواهید که برای ارائه بحث دست خود را بالا ببرند.</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بعد از ده الی پانزده دقیقه بحث و مناظره، بحث را به پایان برسانید و در مورد آنچه گفته شد بیندیشید.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ink-pair-share</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fontScale="91000"/>
          </a:bodyPr>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تکنیک یخ شکن خوبی برای ابتدای ترم است. همچنین روش خوبی برای تعاملی کردن کلاسهای بزرگ و تشویق دانشجویان بیشتر برای مشارکت است. </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یک سوال یا مساله ای را برای کل کلاس مطرح کنید: قابل پاسخ اما پیچیده.</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یک تا سه دقیقه زمان برای اندیشیدن راجع به آن مساله بصورت فردی اختصاص دهید سپس دانشجویان را به زوجهایی تقسیم کنید.</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آنها را مجبور کنید تا با همدیگر به مدت دو تا سه دقیقه پاسخهای خود را بحث کنند. </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از دانشجویان بخواهید پاسخهای خود را برای کل کلاس ارائه دهند</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خلاصه یک جمله ای</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این یک فعالیت نوشتاری کلاسی بدون نمره است. این تمرین نه تنها درک دانشجویان را بالا می برد بلکه مهارتهای نوشتاری را هم بالا می برد، و برای شما بازخورد نوشتاری ارزشمندی فراهم میکند. این روش معمولا در انتهای کلاس کاربرد دارد، و می تواند مرور خوبی از آنچه در کلاس گفته شد باشد. </a:t>
            </a:r>
            <a:endParaRPr b="0" lang="en-US" sz="2500" spc="-1" strike="noStrike">
              <a:solidFill>
                <a:srgbClr val="000000"/>
              </a:solidFill>
              <a:latin typeface="Tw Cen MT"/>
            </a:endParaRPr>
          </a:p>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اگر این روش در آغاز کلاس مورد استفاده قرار گیرد می تواند مروری بر آنچه قبلا گفته شد باشد و به عنوان نکته شروع برای ارائه آن روز باشد. خلاصه یک جمله ای همچنین می تواند برای ارتقاء توانایی نوشتاری عمومی مورد استفاده قرار گیرد. </a:t>
            </a:r>
            <a:endParaRPr b="0" lang="en-US" sz="2500" spc="-1" strike="noStrike">
              <a:solidFill>
                <a:srgbClr val="000000"/>
              </a:solidFill>
              <a:latin typeface="Tw Cen MT"/>
            </a:endParaRPr>
          </a:p>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هدف این روش بیان نکات کلیدی کل جلسه در کمترین میزان نوشتاری است. </a:t>
            </a:r>
            <a:endParaRPr b="0" lang="en-US" sz="2500" spc="-1" strike="noStrike">
              <a:solidFill>
                <a:srgbClr val="000000"/>
              </a:solidFill>
              <a:latin typeface="Tw Cen MT"/>
            </a:endParaRPr>
          </a:p>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از این روش استفاده کنید تا بفهمید که آیا دانشجویان نکات کلیدی جلسه را فهمیده اند یا نه.</a:t>
            </a:r>
            <a:endParaRPr b="0" lang="en-US" sz="2500" spc="-1" strike="noStrike">
              <a:solidFill>
                <a:srgbClr val="000000"/>
              </a:solidFill>
              <a:latin typeface="Tw Cen MT"/>
            </a:endParaRPr>
          </a:p>
          <a:p>
            <a:pPr marL="302760" indent="-3027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مقاله یک دقیقه ای</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این نشان می دهد که دانشجویان می توانند سریع و فوری بنویسند و مهارت نوشتاری عمومی را بالا ببرند. این روش می تواند دانشجویان را تشویق کند راجع به مفاهیم کلیدی بحث شده در طول کلاس بیندیشند. شما می توانید از این روش در پایان کلاس برای اندازه گیری فهم، فراهم کردن تمرین نوشتاری عمومی، و انگیزه دادن به دانشجویان برای جذب و فهم محتوای درسی استفاده کنید. در نظر داشته باشید که از محتوای مقاله های یک دقیقه ای برای طراحی محتوای کلاسهای بعدی استفاده کنید: وقتی دانشجویان ببینند که استاد به دغدغه های آن ها پاسخ می دهد برای مشارکت در کلاسهای آینده برانگیخته می شوند.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کوییز بدون نمره</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gn="just"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کوییز بدون نمره دانشجویان را به توجه به کلاس در طول جلسه تشویق می کند. از این روش در ابتدای کلاس هم می توانبرای تعیین سطح دانش دانشجویان استفاده کرد در پایان کلاس هم می توان برای مرور و انگیزه دادن به دانشجویان جهت کسب اطلاعات استفاده کرد. </a:t>
            </a:r>
            <a:endParaRPr b="0" lang="en-US" sz="2900" spc="-1" strike="noStrike">
              <a:solidFill>
                <a:srgbClr val="000000"/>
              </a:solidFill>
              <a:latin typeface="Tw Cen MT"/>
            </a:endParaRPr>
          </a:p>
          <a:p>
            <a:pPr marL="306000" indent="-306000" algn="just"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سوالات را در روی برد و تابلو بنویسید-پنج تا ده دقیقه زمان برای دانشجویان در نظر بگیرید تا پاسخهای خود را در روی برگه بنویسند-برگه ها را جمع آوری کنید و در جلسه بعد در خصوص پاسخها بازخورد بدهید.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9T05:09:11Z</dcterms:created>
  <dc:creator>t</dc:creator>
  <dc:description/>
  <dc:language>en-US</dc:language>
  <cp:lastModifiedBy>t</cp:lastModifiedBy>
  <dcterms:modified xsi:type="dcterms:W3CDTF">2015-11-29T07:19:25Z</dcterms:modified>
  <cp:revision>14</cp:revision>
  <dc:subject/>
  <dc:title>Slide 1</dc:title>
</cp:coreProperties>
</file>