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80.wmf" ContentType="image/x-wmf"/>
  <Override PartName="/ppt/media/image56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0.png" ContentType="image/png"/>
  <Override PartName="/ppt/media/image104.wmf" ContentType="image/x-wmf"/>
  <Override PartName="/ppt/media/image51.png" ContentType="image/png"/>
  <Override PartName="/ppt/media/image4.jpeg" ContentType="image/jpeg"/>
  <Override PartName="/ppt/media/image49.wmf" ContentType="image/x-wmf"/>
  <Override PartName="/ppt/media/image89.gif" ContentType="image/gif"/>
  <Override PartName="/ppt/media/image48.png" ContentType="image/png"/>
  <Override PartName="/ppt/media/image47.wmf" ContentType="image/x-wmf"/>
  <Override PartName="/ppt/media/image45.png" ContentType="image/png"/>
  <Override PartName="/ppt/media/image42.gif" ContentType="image/gif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7.png" ContentType="image/png"/>
  <Override PartName="/ppt/media/image33.jpeg" ContentType="image/jpeg"/>
  <Override PartName="/ppt/media/image31.png" ContentType="image/png"/>
  <Override PartName="/ppt/media/image30.jpeg" ContentType="image/jpeg"/>
  <Override PartName="/ppt/media/image11.gif" ContentType="image/gif"/>
  <Override PartName="/ppt/media/image14.png" ContentType="image/png"/>
  <Override PartName="/ppt/media/image2.png" ContentType="image/png"/>
  <Override PartName="/ppt/media/image10.jpeg" ContentType="image/jpeg"/>
  <Override PartName="/ppt/media/image5.wmf" ContentType="image/x-wmf"/>
  <Override PartName="/ppt/media/image27.jpeg" ContentType="image/jpeg"/>
  <Override PartName="/ppt/media/image111.png" ContentType="image/png"/>
  <Override PartName="/ppt/media/image7.gif" ContentType="image/gif"/>
  <Override PartName="/ppt/media/image84.gif" ContentType="image/gif"/>
  <Override PartName="/ppt/media/image87.png" ContentType="image/png"/>
  <Override PartName="/ppt/media/image41.gif" ContentType="image/gif"/>
  <Override PartName="/ppt/media/image75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88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39.gif" ContentType="image/gif"/>
  <Override PartName="/ppt/media/image9.gif" ContentType="image/gif"/>
  <Override PartName="/ppt/media/image52.png" ContentType="image/png"/>
  <Override PartName="/ppt/media/image13.gif" ContentType="image/gif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29.png" ContentType="image/png"/>
  <Override PartName="/ppt/media/image73.png" ContentType="image/png"/>
  <Override PartName="/ppt/media/image70.png" ContentType="image/png"/>
  <Override PartName="/ppt/media/image64.jpeg" ContentType="image/jpeg"/>
  <Override PartName="/ppt/media/image77.jpeg" ContentType="image/jpeg"/>
  <Override PartName="/ppt/media/image90.png" ContentType="image/png"/>
  <Override PartName="/ppt/media/image99.jpeg" ContentType="image/jpeg"/>
  <Override PartName="/ppt/media/image92.png" ContentType="image/png"/>
  <Override PartName="/ppt/media/image101.png" ContentType="image/png"/>
  <Override PartName="/ppt/media/image109.png" ContentType="image/png"/>
  <Override PartName="/ppt/media/image112.wmf" ContentType="image/x-wmf"/>
  <Override PartName="/ppt/media/image21.jpeg" ContentType="image/jpeg"/>
  <Override PartName="/ppt/media/image65.png" ContentType="image/png"/>
  <Override PartName="/ppt/media/image94.jpeg" ContentType="image/jpeg"/>
  <Override PartName="/ppt/media/image105.png" ContentType="image/png"/>
  <Override PartName="/ppt/media/image61.png" ContentType="image/png"/>
  <Override PartName="/ppt/media/image19.png" ContentType="image/png"/>
  <Override PartName="/ppt/media/image107.png" ContentType="image/png"/>
  <Override PartName="/ppt/media/image63.png" ContentType="image/png"/>
  <Override PartName="/ppt/media/image83.gif" ContentType="image/gif"/>
  <Override PartName="/ppt/media/image86.png" ContentType="image/png"/>
  <Override PartName="/ppt/media/image106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78.png" ContentType="image/png"/>
  <Override PartName="/ppt/media/image8.gif" ContentType="image/gif"/>
  <Override PartName="/ppt/media/image85.gif" ContentType="image/gif"/>
  <Override PartName="/ppt/media/image100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jpeg" ContentType="image/jpeg"/>
  <Override PartName="/ppt/media/image108.png" ContentType="image/png"/>
  <Override PartName="/ppt/media/image79.wmf" ContentType="image/x-wmf"/>
  <Override PartName="/ppt/media/image22.jpeg" ContentType="image/jpeg"/>
  <Override PartName="/ppt/media/image72.png" ContentType="image/png"/>
  <Override PartName="/ppt/media/image110.jpeg" ContentType="image/jpeg"/>
  <Override PartName="/ppt/media/image60.png" ContentType="image/png"/>
  <Override PartName="/ppt/media/image23.jpeg" ContentType="image/jpeg"/>
  <Override PartName="/ppt/media/image26.png" ContentType="image/png"/>
  <Override PartName="/ppt/media/image91.png" ContentType="image/png"/>
  <Override PartName="/ppt/media/image95.png" ContentType="image/png"/>
  <Override PartName="/ppt/media/image24.jpeg" ContentType="image/jpeg"/>
  <Override PartName="/ppt/media/image59.png" ContentType="image/png"/>
  <Override PartName="/ppt/media/image17.png" ContentType="image/png"/>
  <Override PartName="/ppt/media/image98.jpeg" ContentType="image/jpeg"/>
  <Override PartName="/ppt/media/image82.png" ContentType="image/png"/>
  <Override PartName="/ppt/media/image1.jpeg" ContentType="image/jpeg"/>
  <Override PartName="/ppt/media/image35.jpeg" ContentType="image/jpeg"/>
  <Override PartName="/ppt/media/image15.png" ContentType="image/png"/>
  <Override PartName="/ppt/media/image3.png" ContentType="image/png"/>
  <Override PartName="/ppt/media/image4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5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5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6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0CB-4CDE-4421-B45D-C4748E42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381042B1-D520-4B86-8C43-765283FF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FD73E334-9CFD-4A72-A697-B7F3D2AA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82DB52C8-25B7-4B9C-BF60-14D6BBB0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36E-EA3B-44E2-A8FC-D4034879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C52-07EF-4950-93BF-05F93CC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04E8D-5DC6-4084-84F4-E45321D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7DA4A-37F5-4EBA-BB00-911E546C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4B6F-6C0A-469C-898F-8B2336F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20DAF-29EC-433C-B128-418DB78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4B467-71DA-4E8C-8CD8-53A4C61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2FFFB-2E4F-4716-8757-67DF5CB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C77C-7BE3-4B85-92A0-B866F44D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0DCE-59FC-4BF7-91AD-E6822F51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5732D-60F6-4C5D-B7A9-182CE2BD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939E3-DDCC-41C7-93E0-646922E8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F25-AB17-41B6-A9CA-104C7F20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BCFF3-A650-4276-BEAD-56AC44C0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AA0BE-6B14-4BC5-9692-10BBC20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F7E35-8892-4FFD-BCF3-0DCCEA9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EB664-2716-4EB3-B3A6-98AF167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B097E-802A-49BF-9716-B6ABFC21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5E4C6-3D2D-4E83-BAD6-783E089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A0856-5A94-4226-8806-99E2C82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ABB64-E2E9-4DC3-A356-A361E7F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DBE8-CF9F-43E8-9245-C6AF6D6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DEE63-CE67-40A9-B106-50D9F30F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04A-CF9B-49D5-A7CD-601CFB58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9132-8561-4F0A-8B69-7EAFA91D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EA0DF-2F74-4002-92E4-E34F2A05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405AF-7147-4147-B286-909309B0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10E7-C8A3-4F73-A2F9-6D06EFE7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87F0A-00B7-48CA-ACAF-CD022053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5ED5-26AA-41EF-8C52-5ECEDBD1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8A41C-8773-4B9D-B01F-321A6DB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0533B-B21F-4898-B1ED-224FF7D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12B5-BA26-4435-A614-45FA69C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D13E-1314-4BBD-8520-633C3DC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EDDD-04CC-4904-ABD0-F2739E2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11D1-A746-4D97-BA36-1CA700B2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9E3E2-04AF-45C9-9C26-D8F67336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BCABA-4A3E-4C48-BFD0-EFF234E3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26576-D84A-4A2C-A037-034BD946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464E9-D146-4511-824F-01842EB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FD8B-BD0B-450B-9A02-0D7BCF4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1302-5EAC-4B0E-A689-9177CB1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7EBD9-A4A6-45D1-8684-0BF065F5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D2D87-9B17-4883-9A33-AEE183CE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41891-FAD7-4C12-BB00-15D3C81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BB8A-9EFA-406C-9B0C-F4D8224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593A8-6B4B-4D43-A08B-2362797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D50DF-8662-4874-8116-8BE99C8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7281-5ECD-4B28-B9C7-805E24A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B8D7C-8DAB-4F28-AC5F-817898D0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3A72A-8462-46A9-993A-C0ADBA56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69650-F114-4350-AE6F-866EED91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DC4C1-925F-4F45-92BC-0B9AB23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9B9E5-68E6-4F00-A557-D23E34F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94C0A-786C-46BE-9119-215678C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A0B8F-2BEA-41AA-A36E-1E7E4E1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51A-5F6C-4D48-946B-3AAA2B3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DEE94-8826-4459-86E9-83687373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258B2-6F83-46D1-846E-B29CBF9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9284E-800C-429F-B2B5-10D892D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70BAD-D957-4750-9D02-93B3D31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84391-42D6-4456-93AD-EF3E61A0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478C3-EA0F-4941-894B-FB796FAF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BF60E-4E0B-4A2C-908F-3A41D2D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1C5F0-A4C7-462D-A7D1-FC839ED5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D40CD-8D2C-4253-8B7F-70AF9616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ADF95-880E-42C6-ABAD-8BEF2A62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642-DD21-483E-B122-FB042B3C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45F2A-0C81-4DCF-A42F-C7A5ABDB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09BEC-07AC-4F56-97D2-97AC788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15FA0-F031-4757-95E8-03D7C7A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081CC-CF29-421B-AF9A-9555B70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B4644-CC25-47D9-B9E9-F2FBC55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E0BC2-5EFF-41F3-BDD1-34D10E7B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22152-95EF-4A79-A20F-529C9AB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FB509-39C8-47B2-A4E5-793A85B3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22F91-EAD4-4D26-852D-723CCF7F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F3B89-0F82-4F53-AC4A-48EE08F1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2B90-D812-45EB-B020-904BCE0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645F7-90ED-4BA5-9515-34C73FB0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7E630-6B27-4016-9DFF-DAEF531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B3F4F-3252-4F97-82D6-BA7C89A7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20C6A-7A74-4443-A58B-73FF6946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5B98F-4DA6-4FE7-A779-9BF5E9C6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491D4-1C2E-4DD0-9519-C13E194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12308-46C7-4402-A7BA-F883A1F4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FE9FA-C729-4D2A-A68D-13D3247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DB1D4-78D7-4C94-BF83-E13E2D5C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6332A-86DD-4971-AC75-8181B081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00F9-E64A-4FD1-9029-04E5286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18BDC-559E-4BD2-8578-E362A5F1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791B4-FE2B-4CDB-82DB-4D4AA5F9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E57BF-CF21-4351-80E9-DD191F12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C323B-6E59-4818-9E19-FA80C09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14C85-277A-421B-AA1F-C4CEAA49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C2950-4DD1-4701-BCB5-C550F3B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4D906-0F76-429A-A215-A73F65C4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F8B3D-DAC7-4BDE-B1C0-2A6499DD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55FC6-C84C-4300-A694-1725CD1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6E5BD-306D-45F9-800F-6C08B40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CB4-87B8-4A1F-88FB-70E5CA5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B1671-DC3C-46DD-9FCB-F837EAE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A78FB-0557-4039-BFCA-FE5320C0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CF058-AE29-4698-9962-BDA13FDB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1EF76-5B0C-4763-A3B9-EA6FFEE7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0C974-0EC9-4895-9A17-C5D588C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BAE20-F027-44CB-B0BA-094B162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5EFCE-E723-4A95-BFDA-13C9B9B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CC041-73B3-4409-A45B-AA64AC17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FC09E-2D96-4362-B9D1-69885C7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623E3-A7C6-4D73-9B63-E32D93C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24F-6BEE-4F62-8597-253AD31B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DF2-A6D3-4D72-AEC6-CF55FE9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21020-C96C-46B8-A8B9-7FD88EB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6CCAD-100D-4039-AB16-B61CD3A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00F99-7388-461B-B034-FA2653F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E1690-76B7-4D6F-BC74-BC9583F7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F9711-1731-43F9-87A4-FB35C8A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E69F7-2738-413E-A907-DA32743D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8FD5D-3980-4B6C-98B1-1B377C1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2CE0D-75C7-4108-95A1-8945554E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FEA0D-A5CB-4979-8325-2B745DEF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F5EC6-CA51-49C7-9C62-A453A512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AD61-9198-4A45-90E3-C1A692B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08423-F997-427C-B9B2-8611AF6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F968A-0081-4338-930C-57ED2B8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45C51-6AB2-4402-9A1F-D466B78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23589-7548-429E-9784-A4DB54D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835CA-9F59-4239-B850-9F2705A6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C2FDD-B21A-4D64-8B0F-4CBECB9A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22F62-30B7-491F-8BDC-25F8D2C6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9DBF3-B7AD-4237-9F4C-97FC28C0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BFB09-E988-4824-BF6C-82C4F75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51E06-5464-47B1-88F8-C71B721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96F-55B2-4EFF-AF4F-27868320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8DD7E-2E11-4212-9FA7-B972C27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19BC1-21DA-4EF9-8DE0-543BA490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4A72E-529B-4335-9FF0-E51A435C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BDA75-B8D7-48F0-80EF-AC910AE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02F21-2CF8-4A58-B3C5-57937C86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33081-944D-4546-90B0-D1099FB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CE87E-3E65-45EC-A498-10C5807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CE2E6-C5B2-4630-B185-7479A192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495EF-47C7-4D5D-9E3B-4825BE23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CA47-7E2D-47FE-96CC-2305759B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3DDD-4BFA-467D-B0BB-84DF1142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EBBD-2D0A-44D7-BA89-84CFA16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6E58-06A5-4703-ADB7-DB38841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F538-2B0E-4008-AFE1-DD748FC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D079-77A3-410D-8EED-30C2038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19EA-E56C-4F50-89A7-2D992A0A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4ED-373C-4C90-8D25-E8DEC238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A0BB-AD9C-4ED2-AA20-D65603DA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DE3E-5FA8-4861-BF4A-E3EA53A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FAF4-A7E5-44D3-9520-9F6E8A3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1D03-E424-4D50-A3EC-D04F277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774F-9914-46C0-B0BB-531F3B2F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3288-7A57-4FA5-88CE-69184A2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54F7-7015-4CCF-B436-A5C1BCB6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D64A-9DEC-4370-9CC0-322D702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93A5-3F88-469E-802B-716FEFC8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3AD1-635B-4401-B320-B1194E3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8EE-5C85-4EF2-B2AE-2BCE7ED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3CCA-349A-481B-B00E-B79AD99E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7262-9BEB-4788-BB65-C01524C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778D-63E4-4379-93E9-CBE736E1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B864-7209-432B-825B-EF8B418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5BBC-906B-47FD-9AB6-D8D763C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988D-A4C7-4A98-A5EC-DCDC8A8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B5A3-589A-48EC-B5A6-9AC6F37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F4FF-29B8-4D87-8F80-227E3D1D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EFAE-E27C-48E2-A466-604CF126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DF13-7F99-4BF8-8E22-E28B5152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C04-1A76-44AF-ABA7-FF57463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FF48-1FFF-4901-87B8-C46D105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262A-3FDB-4E8C-9F64-B002CC3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7B0D-5698-499F-9B96-13B4823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617B-DFF2-4125-819A-369DECE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8122-1324-4FBB-ADFC-80ECA09E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5433-0782-4C93-A1CD-409ED1C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82AC-78B6-4194-A6E4-121FF4F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D2AE-2621-45CF-BB2F-49278E81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39B3-0EE7-4FD3-984F-50759E1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C896-7665-4601-83CE-E5160DEB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41A-C856-47D1-B3CE-0E95805C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66A9-5408-47FF-8D5F-608A4707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037B-B3B8-47CF-9584-21322214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098C-50FD-4486-8C1F-9FF6897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CADD-F795-410E-AAA6-0978219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426D-5AE0-4327-91B0-91B1C2C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F39B-696E-4E8C-B6ED-201370F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432F-DE99-414D-881C-8840413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81BE0-A19C-4BC6-9D99-EB49C3A1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38FA-1CE3-4B2F-8C45-85C6229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DBB81-FBCF-4E94-BC91-08D8C61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347-E55D-487E-9883-3C7C3347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F8FC-8A55-461D-BABD-07B0B1A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AF08-BC40-4BAA-B45D-A1AA0C53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BF40-C8EC-4E67-B90C-E68478C0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7436-DAF9-4035-AE30-2DAADCF0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B778-6768-49C2-8110-6A0BFBED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6D8CF-49B2-476C-8DBA-3C02FD9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0730-5D17-4C9F-A0EE-2E00DE63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7BC6-0AEC-4C38-88B3-A90BAB6A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FAD5-4CA3-4D6D-8014-7EE2560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8DBA6-6408-4DF3-B558-605D9F6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65E-888F-4BF5-97C4-9BEECE8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C6DF0-3338-4A43-B1DC-3F09487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539C-AF70-4FC5-A462-FF77E4C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5A81E-7579-42F7-956B-788669B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ABFA-53B5-4EC4-BD0F-B60B7F30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9A56-B14B-45B9-8ADC-4971041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C370-1073-4E50-965C-33B890A0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1449-3446-4ADD-BACD-E1EC524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7BC6-C3F6-43F7-9F2F-837B135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EC156-299F-4CDB-84B1-6827DFA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2577-D077-4799-BF21-4B88B246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ACD-7AF7-42DD-A036-26615CD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0ECE2-5BC4-4D8A-A5A1-5246592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EED7-75D2-42EE-B69C-6838501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3411-1F16-472F-935D-BAA6D46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2B34-4883-4F09-8AFF-F9CAD10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64B2-BEEB-456F-9EC8-9476128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CAC39-D173-4881-A852-CE55EFD8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8099-F1E2-46FA-AC3E-7073B8FF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E900F-716D-47C1-B3CC-7D838AF3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C046F-989B-4B50-AB09-1DE8087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B389-F3BE-4338-AF7F-3B33F319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EF24-F3C2-478B-9E02-7EB5A6C9C1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481-D4D9-4450-A2A4-30C6FFB39F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3F8-2CBA-4236-8D6A-925B7945F2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C0F-8050-4A43-AAFD-6D2D5CF4D8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0BB-6FB9-4AD4-9F12-292BEDEF5F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362-1975-403D-B94D-3B526AB711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2600-8156-4153-AB68-68783226DA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DBF7-E71F-4EEF-854E-DBCF8940AE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CC1-6815-4F86-B1A9-46B5A9160E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18E6-3D0D-49E7-99E8-A87F032DCE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6155-65E6-45A1-B390-6C9EB4FFB31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8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BB8B-7B9D-4E55-A773-4225AFEBD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C579-1BD8-46BC-AB3E-D700B25E32A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1DD-CC09-4444-84AB-8E18F9F695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F516-6FAC-45D7-A89A-CD3FB43313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334-5C76-4045-BCC1-C4B0E555DD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D08-910B-49AF-95C9-A3C126C37E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729E-48F5-4CC5-8E35-C48C39A4CF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4FAD-B956-44DB-8A39-B3A34D1399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image" Target="../media/image12.jpe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png"/><Relationship Id="rId12" Type="http://schemas.openxmlformats.org/officeDocument/2006/relationships/image" Target="../media/image79.wmf"/><Relationship Id="rId13" Type="http://schemas.openxmlformats.org/officeDocument/2006/relationships/image" Target="../media/image80.wmf"/><Relationship Id="rId1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gif"/><Relationship Id="rId5" Type="http://schemas.openxmlformats.org/officeDocument/2006/relationships/image" Target="../media/image84.gif"/><Relationship Id="rId6" Type="http://schemas.openxmlformats.org/officeDocument/2006/relationships/image" Target="../media/image85.gif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jpeg"/><Relationship Id="rId5" Type="http://schemas.openxmlformats.org/officeDocument/2006/relationships/image" Target="../media/image89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jpeg"/><Relationship Id="rId7" Type="http://schemas.openxmlformats.org/officeDocument/2006/relationships/image" Target="../media/image95.png"/><Relationship Id="rId8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6.png"/><Relationship Id="rId4" Type="http://schemas.openxmlformats.org/officeDocument/2006/relationships/image" Target="../media/image97.wmf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3.png"/><Relationship Id="rId3" Type="http://schemas.openxmlformats.org/officeDocument/2006/relationships/image" Target="../media/image104.wmf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539640" y="617400"/>
            <a:ext cx="8136000" cy="590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195120" y="-73080"/>
            <a:ext cx="8680680" cy="19749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228600" y="179856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0a22e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زمان؛ تداوم و تغيي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كان و فضا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فرهنگ و هوي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نظام اجتماع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نابع و فعاليت هاي اقتصاد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FDF-0678-4B24-BD9B-FB25FEEE058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228600" y="1798560"/>
            <a:ext cx="3429000" cy="21686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1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7900"/>
                            </p:stCondLst>
                            <p:childTnLst>
                              <p:par>
                                <p:cTn id="1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2900"/>
                            </p:stCondLst>
                            <p:childTnLst>
                              <p:par>
                                <p:cTn id="11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146160" y="152280"/>
            <a:ext cx="8845560" cy="9334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C219-AD82-4FDF-A855-DB1C3082094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749160" y="1060560"/>
            <a:ext cx="8029800" cy="5340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C8F-690E-4869-B5E4-798594E24CD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0492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79200" y="0"/>
            <a:ext cx="8686800" cy="10065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76320" y="838080"/>
            <a:ext cx="8991360" cy="56390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254-BB4C-4889-A0B4-518B6B66D40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16210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228600" y="1828440"/>
            <a:ext cx="8686800" cy="43275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رسي و كاو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شارك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قراري ارتباط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خلاقي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واكنش شخصي و اظهار نظر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0F0-034C-46CC-B93C-9795B84BC8B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3"/>
          <a:stretch/>
        </p:blipFill>
        <p:spPr>
          <a:xfrm>
            <a:off x="287280" y="380988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 txBox="1"/>
          <p:nvPr/>
        </p:nvSpPr>
        <p:spPr>
          <a:xfrm>
            <a:off x="-76320" y="3047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رويكرد يادگيرنده – محور با نقش تسهيل گر معل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ادگيري مادام العمر – خود يادگ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عميق و پايداري  يادگيري از طريق در گير شدن با موضوعات محيطي و اجتماع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جهز شدن به طيف وسيعي از مهارت ها در قالب مهارت هاي كاوشگري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C0DF-C0A1-4C2C-B736-DAF9A6FCDA8B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742320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DFF6-B87A-4F85-81E9-BDE9566486C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1405080" cy="789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237960" y="1268280"/>
            <a:ext cx="4864320" cy="415152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3886200" y="449568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6"/>
          <a:stretch/>
        </p:blipFill>
        <p:spPr>
          <a:xfrm>
            <a:off x="4724280" y="3276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4267080" y="236232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8"/>
          <a:stretch/>
        </p:blipFill>
        <p:spPr>
          <a:xfrm>
            <a:off x="6477120" y="137160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1143000" y="1752120"/>
            <a:ext cx="7391520" cy="44499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عدالت جوي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حق طلبي و مسئوليت پذ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عاو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يهن دوستي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549-4545-422F-A248-B525B1D4009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2819520" cy="37004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1066680" y="2743200"/>
            <a:ext cx="533520" cy="5335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" y="3009960"/>
            <a:ext cx="762120" cy="609480"/>
          </a:xfrm>
          <a:custGeom>
            <a:avLst/>
            <a:gdLst/>
            <a:ahLst/>
            <a:rect l="l" t="t" r="r" b="b"/>
            <a:pathLst>
              <a:path w="762000" h="609600">
                <a:moveTo>
                  <a:pt x="381000" y="152400"/>
                </a:moveTo>
                <a:cubicBezTo>
                  <a:pt x="539750" y="-203200"/>
                  <a:pt x="1158875" y="152400"/>
                  <a:pt x="381000" y="609600"/>
                </a:cubicBezTo>
                <a:cubicBezTo>
                  <a:pt x="-396875" y="152400"/>
                  <a:pt x="222250" y="-203200"/>
                  <a:pt x="381000" y="1524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19320" y="32004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3733920"/>
            <a:ext cx="457200" cy="761760"/>
          </a:xfrm>
          <a:custGeom>
            <a:avLst/>
            <a:gdLst/>
            <a:ahLst/>
            <a:rect l="l" t="t" r="r" b="b"/>
            <a:pathLst>
              <a:path w="457200" h="762000">
                <a:moveTo>
                  <a:pt x="0" y="291057"/>
                </a:moveTo>
                <a:lnTo>
                  <a:pt x="174636" y="291059"/>
                </a:lnTo>
                <a:lnTo>
                  <a:pt x="228600" y="0"/>
                </a:lnTo>
                <a:lnTo>
                  <a:pt x="282564" y="291059"/>
                </a:lnTo>
                <a:lnTo>
                  <a:pt x="457200" y="291057"/>
                </a:lnTo>
                <a:lnTo>
                  <a:pt x="315916" y="470940"/>
                </a:lnTo>
                <a:lnTo>
                  <a:pt x="369882" y="761998"/>
                </a:lnTo>
                <a:lnTo>
                  <a:pt x="228600" y="582112"/>
                </a:lnTo>
                <a:lnTo>
                  <a:pt x="87318" y="761998"/>
                </a:lnTo>
                <a:lnTo>
                  <a:pt x="141284" y="470940"/>
                </a:lnTo>
                <a:lnTo>
                  <a:pt x="0" y="29105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1476360" y="2590920"/>
            <a:ext cx="609480" cy="53316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1247760" y="3505320"/>
            <a:ext cx="45720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1462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823-7573-4FCF-8A45-24093F008AB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3"/>
          <a:stretch/>
        </p:blipFill>
        <p:spPr>
          <a:xfrm>
            <a:off x="0" y="3948120"/>
            <a:ext cx="5105520" cy="290988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552760" y="4267080"/>
            <a:ext cx="1714320" cy="685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هد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86000" y="1600200"/>
            <a:ext cx="5943600" cy="2286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ز هر حوزه ي موضوعي  یک هدف انتخاب شده اس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BDD6-E4D0-4DB1-8DEE-9BDE2F8F2B2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139680" y="841320"/>
            <a:ext cx="8699400" cy="57117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15228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933480" y="542880"/>
            <a:ext cx="7772400" cy="351648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933480" y="3484440"/>
            <a:ext cx="7021440" cy="263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7275-F912-47E2-B28A-C85F900BF2B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362240" cy="13287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>
            <a:off x="7467480" y="4343400"/>
            <a:ext cx="1238400" cy="22147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019920" y="5329080"/>
            <a:ext cx="1371600" cy="1528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3276720" y="5810400"/>
            <a:ext cx="1904760" cy="10476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8"/>
          <a:stretch/>
        </p:blipFill>
        <p:spPr>
          <a:xfrm>
            <a:off x="6629400" y="3814920"/>
            <a:ext cx="914400" cy="144288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9"/>
          <a:stretch/>
        </p:blipFill>
        <p:spPr>
          <a:xfrm>
            <a:off x="1371600" y="5638680"/>
            <a:ext cx="838080" cy="86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8B8-15C3-4A99-A7BE-E89C5F5A55B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139680" y="1066680"/>
            <a:ext cx="8699400" cy="54864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89C-B047-4BB8-AA64-A65D34DBFD0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1816200" y="371520"/>
            <a:ext cx="7456320" cy="600552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-50760" y="0"/>
            <a:ext cx="29462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D94-B4AC-4C67-8D9B-B8106CE3502B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219240" y="231840"/>
            <a:ext cx="8705520" cy="190188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3"/>
          <a:stretch/>
        </p:blipFill>
        <p:spPr>
          <a:xfrm>
            <a:off x="291960" y="1908000"/>
            <a:ext cx="8560080" cy="220680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231840" y="3833640"/>
            <a:ext cx="8620200" cy="303696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1371600" y="-92160"/>
            <a:ext cx="6864480" cy="873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71B-425C-460A-AD52-12A9E08DCEF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24920" cy="62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7E3-D22C-4AF0-B9B0-302E76B52749}" type="slidenum">
              <a:rPr b="1" lang="en-US" sz="14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231840" y="1079640"/>
            <a:ext cx="8631000" cy="571788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5334120" y="244440"/>
            <a:ext cx="3581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B Titr"/>
              </a:rPr>
              <a:t>مثال هایی  از فعالیت های کاوشگر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76320" y="228600"/>
            <a:ext cx="5486400" cy="549360"/>
            <a:chOff x="76320" y="228600"/>
            <a:chExt cx="5486400" cy="549360"/>
          </a:xfrm>
        </p:grpSpPr>
        <p:sp>
          <p:nvSpPr>
            <p:cNvPr id="970" name=""/>
            <p:cNvSpPr/>
            <p:nvPr/>
          </p:nvSpPr>
          <p:spPr>
            <a:xfrm>
              <a:off x="4229280" y="228600"/>
              <a:ext cx="13334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مهارت‌هاي كاوشگر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320" y="228600"/>
              <a:ext cx="415296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بررسي و كاوش، برقراري ارتباط، خلاقيت، مشاركت، واكنش شخصي و اظهار‌نظ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2928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627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3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320" y="2286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20" y="7779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0" y="231840"/>
            <a:ext cx="8881920" cy="11462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3E87-3923-40A9-A1ED-C7D63177EBE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3276720" cy="187632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3276720" y="1447920"/>
            <a:ext cx="5410080" cy="5105160"/>
          </a:xfrm>
          <a:prstGeom prst="rect">
            <a:avLst/>
          </a:prstGeom>
          <a:solidFill>
            <a:srgbClr val="f8e19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تاب درسي :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6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فصل و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22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هر فصل دو يا چند حوزه ي موضوعي و مفاهيم كليدي  آنها تلفيق شده اس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ار برگه هاي آخر كتاب  فعاليت هاي اضافي نيست بلكه فعاليت هايي است كه در فرآيند ياددهي بايد انجام شوندو آموزش بدون آن ها تكميل نمي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86B-FAE3-43FE-A4D1-9937443668A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1511280" y="1438200"/>
            <a:ext cx="3487680" cy="40244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7560" y="748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alibri"/>
                <a:cs typeface="Arial"/>
              </a:rPr>
              <a:t>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1447920"/>
            <a:ext cx="3048120" cy="506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 محله ی م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شهر من روستای م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پیدایش شهر وروست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سفری به شهرهای باست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کشور زیبای م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ما ایرانی هستی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5791320"/>
            <a:ext cx="2514600" cy="4572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موضو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7E1A-ACE3-4938-AF17-30CF6DB0A11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7162920" y="898560"/>
            <a:ext cx="1379520" cy="12193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6410160" y="3413160"/>
            <a:ext cx="2428920" cy="1485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5"/>
          <a:stretch/>
        </p:blipFill>
        <p:spPr>
          <a:xfrm>
            <a:off x="6873840" y="464832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3141720" y="3656160"/>
            <a:ext cx="1201680" cy="13572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3505320" y="5913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8"/>
          <a:stretch/>
        </p:blipFill>
        <p:spPr>
          <a:xfrm>
            <a:off x="3141720" y="2270160"/>
            <a:ext cx="1201680" cy="14158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9"/>
          <a:stretch/>
        </p:blipFill>
        <p:spPr>
          <a:xfrm>
            <a:off x="3505320" y="5013360"/>
            <a:ext cx="892080" cy="8841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10"/>
          <a:srcRect l="0" t="0" r="0" b="6051"/>
          <a:stretch/>
        </p:blipFill>
        <p:spPr>
          <a:xfrm>
            <a:off x="2516040" y="2482920"/>
            <a:ext cx="760680" cy="9302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11"/>
          <a:stretch/>
        </p:blipFill>
        <p:spPr>
          <a:xfrm>
            <a:off x="139680" y="-36360"/>
            <a:ext cx="8686800" cy="110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2"/>
          <a:stretch/>
        </p:blipFill>
        <p:spPr>
          <a:xfrm>
            <a:off x="3492360" y="939960"/>
            <a:ext cx="774720" cy="12697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3"/>
          <a:stretch/>
        </p:blipFill>
        <p:spPr>
          <a:xfrm>
            <a:off x="7283520" y="2286000"/>
            <a:ext cx="1098360" cy="1063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231840" y="-6480"/>
            <a:ext cx="8935920" cy="12193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233-E30D-428D-AA67-ECD66AFE4B7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3127320" y="1103400"/>
            <a:ext cx="6016680" cy="52243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2362320" y="3809880"/>
            <a:ext cx="933480" cy="4096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6"/>
          <a:stretch/>
        </p:blipFill>
        <p:spPr>
          <a:xfrm>
            <a:off x="685800" y="518148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79200" y="146160"/>
            <a:ext cx="8686800" cy="12189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B30-DFC9-4393-B016-30D7FF1C5EA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320" y="1371600"/>
            <a:ext cx="5638680" cy="5410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آ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موزش در محيط هاي واقعي و متنوع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پاركها، فروشگاهها ، موزه ها ، فرهنگسراها، آثار تاریخی ،  مساجد، مراكز خدماتي چون اداره پست و آتش نشاني ، مزارع و کارگا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 گردش علم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4"/>
          <a:stretch/>
        </p:blipFill>
        <p:spPr>
          <a:xfrm>
            <a:off x="57150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3429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BCF5-5536-4DCE-9DF9-5E4CA06F4A6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2096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يك حوزه ي يادگيري که درباره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انسان و تعامل او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با</a:t>
            </a:r>
            <a:r>
              <a:rPr b="1" lang="en-US" sz="3200" spc="-1" strike="noStrike">
                <a:solidFill>
                  <a:srgbClr val="7c4b3b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حيط هاي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اجتماعي؛ فرهنگي؛ طبيعي و تحولات زندگي بشر در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گذشته؛ حال و آينده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و جنبه هاي گوناگون آن (سياسي؛ اقتصادي؛ اجتماعي و محيطي و...) بجث 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89040" y="152280"/>
            <a:ext cx="77724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2B0-1D7B-48D1-B8EB-130FA8872BD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534520" cy="56386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rcRect l="0" t="0" r="0" b="11269"/>
          <a:stretch/>
        </p:blipFill>
        <p:spPr>
          <a:xfrm>
            <a:off x="6343560" y="990720"/>
            <a:ext cx="1962360" cy="137160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133360" cy="1752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87480" y="5562720"/>
            <a:ext cx="1360440" cy="12636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6"/>
          <a:stretch/>
        </p:blipFill>
        <p:spPr>
          <a:xfrm>
            <a:off x="6324480" y="2819520"/>
            <a:ext cx="1868760" cy="13716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7"/>
          <a:stretch/>
        </p:blipFill>
        <p:spPr>
          <a:xfrm>
            <a:off x="4724280" y="5334120"/>
            <a:ext cx="1481400" cy="1261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C97-CC36-4494-B765-61A02B2B518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14680" cy="127008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901960" cy="2819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0" y="163440"/>
            <a:ext cx="3200400" cy="181764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5"/>
          <a:stretch/>
        </p:blipFill>
        <p:spPr>
          <a:xfrm>
            <a:off x="6232680" y="0"/>
            <a:ext cx="2911320" cy="18702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6"/>
          <a:stretch/>
        </p:blipFill>
        <p:spPr>
          <a:xfrm>
            <a:off x="6762600" y="4981680"/>
            <a:ext cx="2381400" cy="18763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1981080" y="914400"/>
            <a:ext cx="5639040" cy="5334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يجاد فضاي مطلوب رواني – عاطفي در كلاس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برقراري رابطه مؤثر با دانش آموزا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وجه مناسب به توان ها؛ مشكلات خاص؛ استعداد ها و ضعف هاي رفتار فردي و اجتماع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ايجاد رابطه ي مؤثر بين دانش آموزان (روابط دوستانه؛ همكاري؛ مشاركت؛ مهارت هاي زندگي اجتماعي و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9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3F4-4168-402A-AD45-A8BB6E92173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85540a"/>
                </a:solidFill>
                <a:latin typeface="Franklin Gothic Book"/>
                <a:cs typeface="B Zar"/>
              </a:rPr>
              <a:t>بخش دوم:</a:t>
            </a:r>
            <a:br>
              <a:rPr sz="2400"/>
            </a:br>
            <a:r>
              <a:rPr b="1" lang="en-US" sz="3200" spc="-1" strike="noStrike">
                <a:solidFill>
                  <a:srgbClr val="85540a"/>
                </a:solidFill>
                <a:latin typeface="Franklin Gothic Book"/>
                <a:ea typeface="B Titr"/>
              </a:rPr>
              <a:t> برنامه درسي مطالعات اجتماعی  و برنامه درسی مل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92E-02FF-4CBB-89D0-2F5D2E54790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60480" y="1146240"/>
            <a:ext cx="7492680" cy="565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504960" cy="190512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4"/>
          <a:stretch/>
        </p:blipFill>
        <p:spPr>
          <a:xfrm>
            <a:off x="304920" y="-109440"/>
            <a:ext cx="8686800" cy="11095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733920" y="3733920"/>
            <a:ext cx="1828800" cy="3124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برنامه درسي م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طرت گرايي توحي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86400" y="838080"/>
            <a:ext cx="2048040" cy="901800"/>
          </a:xfrm>
          <a:custGeom>
            <a:avLst/>
            <a:gdLst>
              <a:gd name="textAreaLeft" fmla="*/ 58320 w 2048040"/>
              <a:gd name="textAreaRight" fmla="*/ 1989720 w 2048040"/>
              <a:gd name="textAreaTop" fmla="*/ 58320 h 901800"/>
              <a:gd name="textAreaBottom" fmla="*/ 843480 h 901800"/>
            </a:gdLst>
            <a:ahLst/>
            <a:rect l="textAreaLeft" t="textAreaTop" r="textAreaRight" b="textAreaBottom"/>
            <a:pathLst>
              <a:path w="49044" h="21600">
                <a:moveTo>
                  <a:pt x="0" y="0"/>
                </a:moveTo>
                <a:lnTo>
                  <a:pt x="49044" y="0"/>
                </a:lnTo>
                <a:lnTo>
                  <a:pt x="49044" y="21600"/>
                </a:lnTo>
                <a:lnTo>
                  <a:pt x="0" y="21600"/>
                </a:lnTo>
                <a:close/>
              </a:path>
              <a:path fill="lightenLess" w="49044" h="21600">
                <a:moveTo>
                  <a:pt x="0" y="0"/>
                </a:moveTo>
                <a:lnTo>
                  <a:pt x="49044" y="0"/>
                </a:lnTo>
                <a:lnTo>
                  <a:pt x="47644" y="1400"/>
                </a:lnTo>
                <a:lnTo>
                  <a:pt x="1400" y="1400"/>
                </a:lnTo>
                <a:close/>
              </a:path>
              <a:path fill="darken" w="49044" h="21600">
                <a:moveTo>
                  <a:pt x="49044" y="0"/>
                </a:moveTo>
                <a:lnTo>
                  <a:pt x="49044" y="21600"/>
                </a:lnTo>
                <a:lnTo>
                  <a:pt x="47644" y="20200"/>
                </a:lnTo>
                <a:lnTo>
                  <a:pt x="47644" y="1400"/>
                </a:lnTo>
                <a:close/>
              </a:path>
              <a:path fill="darkenLess" w="49044" h="21600">
                <a:moveTo>
                  <a:pt x="4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44" y="20200"/>
                </a:lnTo>
                <a:close/>
              </a:path>
              <a:path fill="lighten" w="4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44" h="21600">
                <a:moveTo>
                  <a:pt x="21023" y="10800"/>
                </a:moveTo>
                <a:lnTo>
                  <a:pt x="31528" y="3794"/>
                </a:lnTo>
                <a:lnTo>
                  <a:pt x="31528" y="17806"/>
                </a:lnTo>
                <a:close/>
              </a:path>
              <a:path fill="darken" w="49044" h="21600">
                <a:moveTo>
                  <a:pt x="17515" y="3794"/>
                </a:moveTo>
                <a:lnTo>
                  <a:pt x="19178" y="3794"/>
                </a:lnTo>
                <a:lnTo>
                  <a:pt x="19178" y="17806"/>
                </a:lnTo>
                <a:lnTo>
                  <a:pt x="17515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رهنگي – تربيت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-92160" y="-42840"/>
            <a:ext cx="9010800" cy="11160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27000" y="1447920"/>
            <a:ext cx="1981080" cy="24382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02D-C01D-4CA0-B279-88C858A1CFC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4"/>
          <a:stretch/>
        </p:blipFill>
        <p:spPr>
          <a:xfrm>
            <a:off x="1450800" y="749160"/>
            <a:ext cx="7772400" cy="614520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76320" y="4572000"/>
            <a:ext cx="1904760" cy="1295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 Zar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١١</a:t>
            </a: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حوزه ي يادگ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304920" y="450720"/>
            <a:ext cx="8686800" cy="11401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380520" y="1600200"/>
            <a:ext cx="8610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پنج عنصر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تعقل ،ايمان ، علم ، عمل ، اخلا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چهارعرصه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 ارتباط با خود ،  باخدا ، با خلق و  با عالم خلقت( با محوریت خدا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237E-D55F-4B12-AAF9-69C197D7093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23184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3cd6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ربيت يكپارچه عقلی ، ايمانی ، علمي و عملي و اخلاقي دانش آموزان به گونه اي كه بتوانند موقعيت خود را نسبت به خود ، خدا ، ديگر انسان ها و نظام خلقت به درستي درك و توانايي اصلاح مستمر موقعيت فردي و اجتماعي خويش را كسب نماين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3464-DC48-40B3-906F-8DB9952B18A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231840" y="5364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0" y="175248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انتظار مي رود دانش آموزان طي دوره تحصيلات مدرسه اي ، در مجموعه عناصر پنج گانه الگوي هدف گذاري به مرتبه اي از </a:t>
            </a:r>
            <a:r>
              <a:rPr b="1" lang="hi-IN" sz="3200" spc="-1" strike="noStrike">
                <a:solidFill>
                  <a:srgbClr val="ff0000"/>
                </a:solidFill>
                <a:latin typeface="Zar"/>
                <a:cs typeface="Tahoma"/>
              </a:rPr>
              <a:t>شايستگي هاي پايه </a:t>
            </a: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دست يابند . اين شايستگي ها بيان تفضيل يافته هاي از هدف كلي برنامه هاي درسي وتربيتي است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0125-37CE-4674-9BA0-34284D64EF5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0" y="146160"/>
            <a:ext cx="8686800" cy="15174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457200" y="2057400"/>
            <a:ext cx="8686800" cy="4525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دا ، نيازها و توانمندي ها ، ظرفيت ها و ابعاد هويت متعالي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ير در صفات ، افعال و آيات خداوند متعال به عنوان خالق هست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ر در نظام خلقت و شگفتي هاي آ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9B3-7634-4F37-A73C-C6B9DB63620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05720" y="609480"/>
            <a:ext cx="1828800" cy="1752840"/>
          </a:xfrm>
          <a:custGeom>
            <a:avLst/>
            <a:gdLst/>
            <a:ahLst/>
            <a:rect l="l" t="t" r="r" b="b"/>
            <a:pathLst>
              <a:path w="1828800" h="1752600">
                <a:moveTo>
                  <a:pt x="0" y="438150"/>
                </a:moveTo>
                <a:lnTo>
                  <a:pt x="609595" y="438143"/>
                </a:lnTo>
                <a:lnTo>
                  <a:pt x="914400" y="0"/>
                </a:lnTo>
                <a:lnTo>
                  <a:pt x="1219205" y="438143"/>
                </a:lnTo>
                <a:lnTo>
                  <a:pt x="1828800" y="438150"/>
                </a:lnTo>
                <a:lnTo>
                  <a:pt x="1524010" y="876300"/>
                </a:lnTo>
                <a:lnTo>
                  <a:pt x="1828800" y="1314450"/>
                </a:lnTo>
                <a:lnTo>
                  <a:pt x="1219205" y="1314457"/>
                </a:lnTo>
                <a:lnTo>
                  <a:pt x="914400" y="1752600"/>
                </a:lnTo>
                <a:lnTo>
                  <a:pt x="609595" y="1314457"/>
                </a:lnTo>
                <a:lnTo>
                  <a:pt x="0" y="1314450"/>
                </a:lnTo>
                <a:lnTo>
                  <a:pt x="304790" y="876300"/>
                </a:lnTo>
                <a:lnTo>
                  <a:pt x="0" y="4381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ع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228600" y="167652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آگاهانه به توحيد ، نبوت ، معاد ، امامت ، عدل ،عالم غيب وحيات جاودان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ربوبيت و حضور حكيمانه همراه با لطف و رحمت خالق يكتا در عرصه هست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نبياء الهي ، قرآن ، پيامبر خاتم (ص ) ائمه معصومين عليهم السلام و ولايت مطلقه فقيه و نقش بي بديل  آن ها در هدايت  و رستگار ی بشر 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نقش دين مبين اسلام و نظامات آن به عنوان تنها مكتب جامع و كارآمد براي تحقق حيات طيب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رزشمندي  ، هدفمندي و قانون مندي خلقت و باور به زيبايي هاي جهان آفرينش به عنوان مظاهر فعل و جمال خداون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هويت الهي انسان، كرامت او و توانمندي هاي جمعي و فردي انس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8743-1E1F-4D78-81FE-B46B243BE04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477120" y="0"/>
            <a:ext cx="2057400" cy="1600200"/>
          </a:xfrm>
          <a:custGeom>
            <a:avLst/>
            <a:gdLst/>
            <a:ahLst/>
            <a:rect l="l" t="t" r="r" b="b"/>
            <a:pathLst>
              <a:path w="2057400" h="1600200">
                <a:moveTo>
                  <a:pt x="0" y="400050"/>
                </a:moveTo>
                <a:lnTo>
                  <a:pt x="685794" y="400043"/>
                </a:lnTo>
                <a:lnTo>
                  <a:pt x="1028700" y="0"/>
                </a:lnTo>
                <a:lnTo>
                  <a:pt x="1371606" y="400043"/>
                </a:lnTo>
                <a:lnTo>
                  <a:pt x="2057400" y="400050"/>
                </a:lnTo>
                <a:lnTo>
                  <a:pt x="1714511" y="800100"/>
                </a:lnTo>
                <a:lnTo>
                  <a:pt x="2057400" y="1200150"/>
                </a:lnTo>
                <a:lnTo>
                  <a:pt x="1371606" y="1200157"/>
                </a:lnTo>
                <a:lnTo>
                  <a:pt x="1028700" y="1600200"/>
                </a:lnTo>
                <a:lnTo>
                  <a:pt x="685794" y="1200157"/>
                </a:lnTo>
                <a:lnTo>
                  <a:pt x="0" y="1200150"/>
                </a:lnTo>
                <a:lnTo>
                  <a:pt x="342889" y="800100"/>
                </a:lnTo>
                <a:lnTo>
                  <a:pt x="0" y="4000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ی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57200" y="420840"/>
            <a:ext cx="8156520" cy="110952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4CE-61A8-4891-98F2-8CA9C16AF39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0" y="2133720"/>
            <a:ext cx="4191120" cy="3429000"/>
          </a:xfrm>
          <a:prstGeom prst="triangle">
            <a:avLst>
              <a:gd name="adj" fmla="val 498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19360" y="5540400"/>
            <a:ext cx="16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جامع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rot="3415200">
            <a:off x="4145400" y="3097800"/>
            <a:ext cx="26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مكان (محيط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18187200">
            <a:off x="2178000" y="3065760"/>
            <a:ext cx="168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b3b"/>
                </a:solidFill>
                <a:latin typeface="Arial"/>
                <a:ea typeface="Zar"/>
              </a:rPr>
              <a:t> زمان</a:t>
            </a:r>
            <a:r>
              <a:rPr b="1" lang="en-US" sz="4000" spc="-1" strike="noStrike">
                <a:solidFill>
                  <a:srgbClr val="7c4b3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457200" y="1447920"/>
            <a:ext cx="8686800" cy="541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 خويش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حق تعالي ، صفات ، افعال و آيات الهي ، معارف ديني و منابع آ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 و قوانين جهان آفرينش و چگونگي برقراري ارتباط انسان با آن ها و بهره برداري بهينه از آن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روابط ، نقش ها ، حقوق و وظايف خود و افراد و اهميت آن ها در زند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گذشته و حال جوامع بشري به ويژه فرهنگ و تمدن اسلام و اير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ويژگي هاي نظام مردم سالاري ديني و جايگاه و رسالت جهاني ايران اسلام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روش هاي رمز گشايي پديده ها و رمزگرداني آن ها و ابزار آن به زبان زيباشناسي و هن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E38-6E07-4A99-8452-AF01D056437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315200" y="304920"/>
            <a:ext cx="1219320" cy="1295280"/>
          </a:xfrm>
          <a:custGeom>
            <a:avLst/>
            <a:gdLst/>
            <a:ahLst/>
            <a:rect l="l" t="t" r="r" b="b"/>
            <a:pathLst>
              <a:path w="1219200" h="1295400">
                <a:moveTo>
                  <a:pt x="0" y="323850"/>
                </a:moveTo>
                <a:lnTo>
                  <a:pt x="406397" y="323845"/>
                </a:lnTo>
                <a:lnTo>
                  <a:pt x="609600" y="0"/>
                </a:lnTo>
                <a:lnTo>
                  <a:pt x="812803" y="323845"/>
                </a:lnTo>
                <a:lnTo>
                  <a:pt x="1219200" y="323850"/>
                </a:lnTo>
                <a:lnTo>
                  <a:pt x="1016007" y="647700"/>
                </a:lnTo>
                <a:lnTo>
                  <a:pt x="1219200" y="971550"/>
                </a:lnTo>
                <a:lnTo>
                  <a:pt x="812803" y="971555"/>
                </a:lnTo>
                <a:lnTo>
                  <a:pt x="609600" y="1295400"/>
                </a:lnTo>
                <a:lnTo>
                  <a:pt x="406397" y="971555"/>
                </a:lnTo>
                <a:lnTo>
                  <a:pt x="0" y="971550"/>
                </a:lnTo>
                <a:lnTo>
                  <a:pt x="203193" y="647700"/>
                </a:lnTo>
                <a:lnTo>
                  <a:pt x="0" y="3238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04560" y="1554120"/>
            <a:ext cx="8839080" cy="461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مل به آموزه هاي ديني و انجام آگاهانه و مومنانه واجبات و محرمات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ظرفيت هاي وجودي خود براي دست يابي به هويت متعادل و يكپارچه در مسير رشد و تعالي خود و جامعه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فناوري اطلاعات و ارتباطات در كار و زندگ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از مهارت هاي پايه براي شكل دهي هويت حرفه اي آينده خود به صورت مولد كارآفري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آگاهانه از يافته هاي علمي ، هنري ، فني ، حرفه اي و بهداشتي و زيستي و تلاش موثر براي توليد وتوسعه آن ها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حفظ و تعالي محيط زيست ، ميراث فرهنگي و سرمايه هاي طبيع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زبان و ادبيات فارسي و زبان عربي به عنوان زبان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يك زبان خارجي در چارچوب بخش انتخاب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 نيمه تجويزي ) با رعايت اصل تثبيت و تقويت هويت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55C-1A2A-4CB8-977B-0B72E0F4C37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152280"/>
            <a:ext cx="1524240" cy="1143000"/>
          </a:xfrm>
          <a:custGeom>
            <a:avLst/>
            <a:gdLst/>
            <a:ahLst/>
            <a:rect l="l" t="t" r="r" b="b"/>
            <a:pathLst>
              <a:path w="1524000" h="1143000">
                <a:moveTo>
                  <a:pt x="0" y="285750"/>
                </a:moveTo>
                <a:lnTo>
                  <a:pt x="507996" y="285745"/>
                </a:lnTo>
                <a:lnTo>
                  <a:pt x="762000" y="0"/>
                </a:lnTo>
                <a:lnTo>
                  <a:pt x="1016004" y="285745"/>
                </a:lnTo>
                <a:lnTo>
                  <a:pt x="1524000" y="285750"/>
                </a:lnTo>
                <a:lnTo>
                  <a:pt x="1270008" y="571500"/>
                </a:lnTo>
                <a:lnTo>
                  <a:pt x="1524000" y="857250"/>
                </a:lnTo>
                <a:lnTo>
                  <a:pt x="1016004" y="857255"/>
                </a:lnTo>
                <a:lnTo>
                  <a:pt x="762000" y="1143000"/>
                </a:lnTo>
                <a:lnTo>
                  <a:pt x="507996" y="857255"/>
                </a:lnTo>
                <a:lnTo>
                  <a:pt x="0" y="857250"/>
                </a:lnTo>
                <a:lnTo>
                  <a:pt x="253992" y="571500"/>
                </a:lnTo>
                <a:lnTo>
                  <a:pt x="0" y="2857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رعايت تقوي الهي در تمام شئون زندگي فردي و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متعهد به ارزش هاي اخلاقي از جمله ، صدق ، صبر ، احسان و رأفت ، حسن خلق ، حيا ، شجاعت ، خويشتن داري ، قدرشناسي ، رضا ، عدالت ، قناعت ، نوع دوستي ، تكريم والدين ومعلم در شئون ومناسبات فر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كار و معاش حلال و داشتن روحيه تلاش مست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مند داشتن عالم ، علم آموزي و يادگيري مادام الع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قدم بخشيدن  به منافع ملي بر گروهي ومنافع جمعي بر فرد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مخلوقات هستي و محيط زیست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لتزام به اصول و ارزش هاي اخلاقي در استفاده از علوم و فناوري هاي نوي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6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F13-292F-49F2-A081-4B654963929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315200" y="0"/>
            <a:ext cx="1447920" cy="1219320"/>
          </a:xfrm>
          <a:custGeom>
            <a:avLst/>
            <a:gdLst/>
            <a:ahLst/>
            <a:rect l="l" t="t" r="r" b="b"/>
            <a:pathLst>
              <a:path w="1447800" h="1219200">
                <a:moveTo>
                  <a:pt x="0" y="304800"/>
                </a:moveTo>
                <a:lnTo>
                  <a:pt x="482596" y="304795"/>
                </a:lnTo>
                <a:lnTo>
                  <a:pt x="723900" y="0"/>
                </a:lnTo>
                <a:lnTo>
                  <a:pt x="965204" y="304795"/>
                </a:lnTo>
                <a:lnTo>
                  <a:pt x="1447800" y="304800"/>
                </a:lnTo>
                <a:lnTo>
                  <a:pt x="1206508" y="609600"/>
                </a:lnTo>
                <a:lnTo>
                  <a:pt x="1447800" y="914400"/>
                </a:lnTo>
                <a:lnTo>
                  <a:pt x="965204" y="914405"/>
                </a:lnTo>
                <a:lnTo>
                  <a:pt x="723900" y="1219200"/>
                </a:lnTo>
                <a:lnTo>
                  <a:pt x="482596" y="914405"/>
                </a:lnTo>
                <a:lnTo>
                  <a:pt x="0" y="914400"/>
                </a:lnTo>
                <a:lnTo>
                  <a:pt x="241292" y="609600"/>
                </a:lnTo>
                <a:lnTo>
                  <a:pt x="0" y="304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خل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1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 مطالعات اجتماع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ود ، نيازها ، توانمندي ها ، ظرفيت ها و ابعاد هويت متعالي خوي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9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4183-FDA8-4631-8F19-B00D7CD4C83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231840" y="139680"/>
            <a:ext cx="878364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04920" y="304920"/>
            <a:ext cx="86868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و قوانين جهان آفرينش و چگونگي برقراري ارتباط انسان با آن ها و بهره برداري بهينه از آنان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مل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2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1235160" y="457200"/>
            <a:ext cx="6750000" cy="60166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  <a:ea typeface="B Titr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1981080"/>
            <a:ext cx="464832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با سپاس </a:t>
            </a:r>
            <a:br>
              <a:rPr sz="3400"/>
            </a:b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موفق و پیروز باشید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B Titr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7920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5DA9-9261-4A50-95B3-4C73BC95E66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1219320"/>
            <a:ext cx="3276720" cy="51814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طالعات اجتماع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ك حوزه ي يادگيري اصلي که مفاهيم اصلي خود را از ائتلاف رشته هاي گوناگون به ويژه جغرافيا؛ تاريخ و علوم اجتماعي اخذ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488952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231840" y="0"/>
            <a:ext cx="9375840" cy="12193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152280" y="1295280"/>
            <a:ext cx="8839440" cy="502920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بيت اجتماعي؛ تربيت شهروند مطلوب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پرورش مهارت هاي زندگي فردي واجتماعي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هويت بخشي: ايجاد تعلق و علاقه به وطن و حفظ كشور؛ شناخت منابع و استعدادهاي آن و انتقال ميراث فرهنگي و مشاركت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دروني سازي ارزش هاي اخلاقي و پيشگيري از آسيب هاي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فكر انتقادي و نقادي اجتماعي و فرهنگي بر مبناي ملاك هاي اعتقادي دين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"/>
          <p:cNvSpPr/>
          <p:nvPr/>
        </p:nvSpPr>
        <p:spPr>
          <a:xfrm>
            <a:off x="8534520" y="6858000"/>
            <a:ext cx="1218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0D2-F8FD-4001-B4AC-2D633B7F887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8454960" cy="100656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17DF-8920-47D7-959A-60B0A87A367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523880"/>
            <a:ext cx="8534160" cy="4953240"/>
          </a:xfrm>
          <a:prstGeom prst="rect">
            <a:avLst/>
          </a:prstGeom>
          <a:solidFill>
            <a:srgbClr val="f3cd60"/>
          </a:solidFill>
          <a:ln w="255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indent="4180320" algn="r" rtl="1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عزت و هويت اسلامي – ايران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ويج و دروني سازي اخلاق و ارزش هاي اسلام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شناخت حقوق و مسئوليت هاي فردي و اجتماع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شناخت ميراث فرهنگي كشور؛ استعدادها و قابليت هاي آ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گسترش بهداشت رواني و مقابله با آسيب هاي اجتماع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روحيه خود باوري؛ نشاط و اميد به آي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-30240" y="457200"/>
            <a:ext cx="9210600" cy="9381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3A4-1015-4DF5-A42E-92D10A59FEB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719280" y="4449600"/>
            <a:ext cx="1628640" cy="1778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2971800" y="4572000"/>
            <a:ext cx="4076640" cy="19051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5"/>
          <a:stretch/>
        </p:blipFill>
        <p:spPr>
          <a:xfrm>
            <a:off x="609480" y="1752480"/>
            <a:ext cx="1847880" cy="24768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6"/>
          <a:stretch/>
        </p:blipFill>
        <p:spPr>
          <a:xfrm>
            <a:off x="5638680" y="1981080"/>
            <a:ext cx="12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7"/>
          <a:stretch/>
        </p:blipFill>
        <p:spPr>
          <a:xfrm>
            <a:off x="2819520" y="19810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7162920" y="1752480"/>
            <a:ext cx="1904760" cy="46483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هارت هاي زندگي فردي و اجتماع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Titr"/>
              </a:rPr>
              <a:t>جهت گيري كلي در سازماندهي محتوا و آموزش حوزه مطالعات اجتماعي در برنامه درسي مل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اپايان دوره ابتدايي و متوسطه اول:                        در دوره دوم متوسطه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                                                                  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لفيقي                                        نيمه تخصصي و دروس مستقل   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7D96-6BCC-4292-B850-40DB09CF8332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53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eDownloadPowerpoint.Com</dc:creator>
  <dc:description/>
  <dc:language>en-US</dc:language>
  <cp:lastModifiedBy/>
  <dcterms:modified xsi:type="dcterms:W3CDTF">2010-12-28T09:29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