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80.wmf" ContentType="image/x-wmf"/>
  <Override PartName="/ppt/media/image56.png" ContentType="image/png"/>
  <Override PartName="/ppt/media/image55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0.png" ContentType="image/png"/>
  <Override PartName="/ppt/media/image104.wmf" ContentType="image/x-wmf"/>
  <Override PartName="/ppt/media/image51.png" ContentType="image/png"/>
  <Override PartName="/ppt/media/image4.jpeg" ContentType="image/jpeg"/>
  <Override PartName="/ppt/media/image49.wmf" ContentType="image/x-wmf"/>
  <Override PartName="/ppt/media/image89.gif" ContentType="image/gif"/>
  <Override PartName="/ppt/media/image48.png" ContentType="image/png"/>
  <Override PartName="/ppt/media/image47.wmf" ContentType="image/x-wmf"/>
  <Override PartName="/ppt/media/image45.png" ContentType="image/png"/>
  <Override PartName="/ppt/media/image42.gif" ContentType="image/gif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93.png" ContentType="image/png"/>
  <Override PartName="/ppt/media/image37.png" ContentType="image/png"/>
  <Override PartName="/ppt/media/image33.jpeg" ContentType="image/jpeg"/>
  <Override PartName="/ppt/media/image31.png" ContentType="image/png"/>
  <Override PartName="/ppt/media/image30.jpeg" ContentType="image/jpeg"/>
  <Override PartName="/ppt/media/image11.gif" ContentType="image/gif"/>
  <Override PartName="/ppt/media/image14.png" ContentType="image/png"/>
  <Override PartName="/ppt/media/image2.png" ContentType="image/png"/>
  <Override PartName="/ppt/media/image10.jpeg" ContentType="image/jpeg"/>
  <Override PartName="/ppt/media/image5.wmf" ContentType="image/x-wmf"/>
  <Override PartName="/ppt/media/image27.jpeg" ContentType="image/jpeg"/>
  <Override PartName="/ppt/media/image111.png" ContentType="image/png"/>
  <Override PartName="/ppt/media/image7.gif" ContentType="image/gif"/>
  <Override PartName="/ppt/media/image84.gif" ContentType="image/gif"/>
  <Override PartName="/ppt/media/image87.png" ContentType="image/png"/>
  <Override PartName="/ppt/media/image41.gif" ContentType="image/gif"/>
  <Override PartName="/ppt/media/image75.jpeg" ContentType="image/jpeg"/>
  <Override PartName="/ppt/media/image34.png" ContentType="image/png"/>
  <Override PartName="/ppt/media/image74.jpeg" ContentType="image/jpeg"/>
  <Override PartName="/ppt/media/image12.jpeg" ContentType="image/jpeg"/>
  <Override PartName="/ppt/media/image88.jpeg" ContentType="image/jpeg"/>
  <Override PartName="/ppt/media/image36.png" ContentType="image/png"/>
  <Override PartName="/ppt/media/image6.png" ContentType="image/png"/>
  <Override PartName="/ppt/media/image18.png" ContentType="image/png"/>
  <Override PartName="/ppt/media/image39.gif" ContentType="image/gif"/>
  <Override PartName="/ppt/media/image9.gif" ContentType="image/gif"/>
  <Override PartName="/ppt/media/image52.png" ContentType="image/png"/>
  <Override PartName="/ppt/media/image13.gif" ContentType="image/gif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1.png" ContentType="image/png"/>
  <Override PartName="/ppt/media/image29.png" ContentType="image/png"/>
  <Override PartName="/ppt/media/image73.png" ContentType="image/png"/>
  <Override PartName="/ppt/media/image70.png" ContentType="image/png"/>
  <Override PartName="/ppt/media/image64.jpeg" ContentType="image/jpeg"/>
  <Override PartName="/ppt/media/image77.jpeg" ContentType="image/jpeg"/>
  <Override PartName="/ppt/media/image90.png" ContentType="image/png"/>
  <Override PartName="/ppt/media/image99.jpeg" ContentType="image/jpeg"/>
  <Override PartName="/ppt/media/image92.png" ContentType="image/png"/>
  <Override PartName="/ppt/media/image101.png" ContentType="image/png"/>
  <Override PartName="/ppt/media/image109.png" ContentType="image/png"/>
  <Override PartName="/ppt/media/image112.wmf" ContentType="image/x-wmf"/>
  <Override PartName="/ppt/media/image21.jpeg" ContentType="image/jpeg"/>
  <Override PartName="/ppt/media/image65.png" ContentType="image/png"/>
  <Override PartName="/ppt/media/image94.jpeg" ContentType="image/jpeg"/>
  <Override PartName="/ppt/media/image105.png" ContentType="image/png"/>
  <Override PartName="/ppt/media/image61.png" ContentType="image/png"/>
  <Override PartName="/ppt/media/image19.png" ContentType="image/png"/>
  <Override PartName="/ppt/media/image107.png" ContentType="image/png"/>
  <Override PartName="/ppt/media/image63.png" ContentType="image/png"/>
  <Override PartName="/ppt/media/image83.gif" ContentType="image/gif"/>
  <Override PartName="/ppt/media/image86.png" ContentType="image/png"/>
  <Override PartName="/ppt/media/image106.png" ContentType="image/png"/>
  <Override PartName="/ppt/media/image62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78.png" ContentType="image/png"/>
  <Override PartName="/ppt/media/image8.gif" ContentType="image/gif"/>
  <Override PartName="/ppt/media/image85.gif" ContentType="image/gif"/>
  <Override PartName="/ppt/media/image100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68.jpeg" ContentType="image/jpeg"/>
  <Override PartName="/ppt/media/image108.png" ContentType="image/png"/>
  <Override PartName="/ppt/media/image79.wmf" ContentType="image/x-wmf"/>
  <Override PartName="/ppt/media/image22.jpeg" ContentType="image/jpeg"/>
  <Override PartName="/ppt/media/image72.png" ContentType="image/png"/>
  <Override PartName="/ppt/media/image110.jpeg" ContentType="image/jpeg"/>
  <Override PartName="/ppt/media/image60.png" ContentType="image/png"/>
  <Override PartName="/ppt/media/image23.jpeg" ContentType="image/jpeg"/>
  <Override PartName="/ppt/media/image26.png" ContentType="image/png"/>
  <Override PartName="/ppt/media/image91.png" ContentType="image/png"/>
  <Override PartName="/ppt/media/image95.png" ContentType="image/png"/>
  <Override PartName="/ppt/media/image24.jpeg" ContentType="image/jpeg"/>
  <Override PartName="/ppt/media/image59.png" ContentType="image/png"/>
  <Override PartName="/ppt/media/image17.png" ContentType="image/png"/>
  <Override PartName="/ppt/media/image98.jpeg" ContentType="image/jpeg"/>
  <Override PartName="/ppt/media/image82.png" ContentType="image/png"/>
  <Override PartName="/ppt/media/image1.jpeg" ContentType="image/jpeg"/>
  <Override PartName="/ppt/media/image35.jpeg" ContentType="image/jpeg"/>
  <Override PartName="/ppt/media/image15.png" ContentType="image/png"/>
  <Override PartName="/ppt/media/image3.png" ContentType="image/png"/>
  <Override PartName="/ppt/media/image4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5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ftr" idx="5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 type="sldNum" idx="6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93A0-2D5B-456E-A6BA-07FA611B8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274BD854-EFBC-4A82-811E-D89FBA1A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3FF01B57-6F7C-4B54-875D-E31DE01BB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D0C3741B-592B-4F24-A60E-3F252990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B9A-FE75-4C2C-A6E6-034FC5C4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A11-B01E-443F-B783-9E0AFEE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D9E10-8FA2-4D94-A20F-6FA10ECC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9E55D-E661-4F0B-A3E4-4E0DDAB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0E722-7250-4B87-9C4F-CB0403DC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65FEB-266B-4C54-AAA1-392D76A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5C814-2E47-47FF-8CDA-1493BB71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0C3DA-B769-4992-AD9B-879029A4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2069F-9A4D-4F91-854A-15785BBA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D9C39-8695-404F-B85E-5A9C287E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BAFB1-FE6F-40A9-94F1-580FF73A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7952E-B72E-421C-AAA1-7C5328FC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293-C5B1-4288-A722-B336FD85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3D804-E0F1-4D96-BB6A-4A36D95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75E20-DE76-4CA5-8BA7-9E119DAF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18FB6-6553-427A-AC9D-300DB42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18D1D-4DF0-4A96-98A9-01A9C5FC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2A364-B095-4A17-B173-D6649058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8060A-DB77-4AC1-89A8-A0B2D5FE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8FD45-F428-4005-A91D-7F4BB2E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07A87-7D74-4307-9D7C-60B4574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5D0F6-B413-4016-B4E9-1A7C3ECC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1A489-24A0-4CE1-8955-C74C0CC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E84-CD09-4DF4-9B7D-97815CBA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1465A-0B71-4F71-A50C-2B8630BC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D9FFF-B963-4466-8ECF-46AF24AE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BDCE7-38F4-4E60-8927-70CB07B7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73BA8-585D-498A-84EC-E2B7006E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45DA4-D931-4CB0-A259-B1B3B612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E9EAA-6E68-45B3-8A83-272B8876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E1350-2AA5-4BAA-B427-13DB87A7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E3161-8F18-452E-9CB3-0BE4FA82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A4FF6-8BF5-4E6F-ACA3-733107D1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48758-FA32-4CF3-955F-F2A9ABB3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E63E-1C7F-4E2F-A8B8-97ADD6C7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325E1-DDF4-41E6-BC25-A5B86395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C78E6-846A-448E-8011-BE6ABB75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0F564-545C-4422-84D5-E11C40A6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B68E3-B380-49D3-990E-8BBF2832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4D90F-380E-4695-9D42-521FAA92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9F82D-B72B-4935-8921-17F85D3C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2BFD4-31FC-403B-9C33-446394B9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FEFAC-D04F-4261-9676-5FB0A3E9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D130D-6B04-44F6-A8C8-61B90AC8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1A40C-74B2-4970-B93E-B0116ABD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C85B-ABB8-4B81-B2EF-F9A0F0E2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4E179-6D5F-4689-B7B1-8BD7C9E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F2198-0BE6-4374-A386-CBD9C29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0DEDA-ABD9-492E-A9ED-757926D0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1C1A9-18D1-4CBF-80D6-C1D699E1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E30E7-CA7B-4767-9CF6-385DD40B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BE9E7-FEBE-44D2-A7D0-612A8C20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2013A-D816-4991-86C0-4FB8DD6C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DC887-3828-409C-9748-162C3A50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79E0A-BA58-43BE-B1FD-17E1DD15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66498-51EB-41E9-AFCC-FE251CD9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EF8F-DAC5-4B33-BC47-9315FD9E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5B178-1B70-40E5-BEEA-E7AC4DD1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C460E-EBC2-49E0-93DE-8EBBE217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EC6D3-C996-44F4-980A-DFED597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252B3-ED0B-47F1-8630-7105405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D2D6B-15FA-43AB-B90C-8AAC99C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3EE7D-7C8E-4D20-A852-EA31608B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08138-C54B-455D-8292-405C63F6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85116-7695-4791-BA2C-9301E1D9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935AE-23C2-4463-A7D1-A18A908D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36BE4-A77B-4553-B684-E9BA87F7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3DD8-8CF1-4D39-AEFA-942E7C2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E1EDA-3ECF-4976-9581-FDB058B7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C0405-3F69-4D17-AF1A-35D5D96F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DB51A-7AE4-44D0-8316-BA4253D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BEF0A-CB5A-4755-92F4-B0BD2ED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661A2-0E22-4883-8DE2-4DC3B15E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F46E7-3B54-4771-80CC-35BF8BA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2053B-CDBB-4986-A9E8-36F9419D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1987C-4283-4145-861A-7C8D61E0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428D6-3013-4D0F-9619-4E09603C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553DE-89FC-42EE-A2FB-93FF98C0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3952-0308-46AF-A07F-652F8AA3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0679A-6D3A-4912-AD16-E0E42C00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6E256-4CEE-4E6B-A54D-1AEDC976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0281A-685B-4B0F-A007-07715ED4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4C245-D6BE-4677-A191-2374F289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3650E-2037-419C-AD61-4DCC923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74DB9-1C20-4F3B-AF1F-746C6A1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5A3AC-786D-4297-9B13-FEA6E9F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99A46-6A3F-4522-9895-E716BED2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9320B-A46C-4DAC-A680-B3616768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28859-40CB-40C6-8C14-D38948D5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6CC0-E42F-4C13-9A7C-DF263A7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56FAC-497E-4425-9619-76D46E06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6BD77-A45C-43DD-A6CD-A70A2C4F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41951-5B84-42F7-9FA7-CC00E0EF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C645B-4C7E-417A-88E1-9B13D39F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DE4EF-DC2B-4675-829E-58D449C2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066E7-2AF8-415B-B3FB-7F955BB0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63107-A07C-42C2-BF48-07FBCE25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B5B1A-67B4-439A-86B5-A1CB5AB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28AED-6DBE-4DFC-AE69-ACAA393C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E0D15-E386-4D22-B554-7E9120C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04B8-A7FD-4FE1-8334-A0C3789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371F0-2E99-4812-AC76-F762ABF2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61253-9237-45B9-B5E8-EB663B15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EF556-7378-4531-AEFF-09BC7AD7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D617C-7EFC-4998-95EE-92E3AB52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61698-065B-46EB-B577-640FA304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FA9C6-88F4-48D4-8F1A-CF094CC0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12711-F824-45A2-B1BE-7AF84DB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1E2EE-5455-471C-8BE4-091C5889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3F69B-616E-45FE-8BB2-5371A78C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F90B0-64F0-465E-AE2D-9EB7DECD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3B7-3D5E-4010-AC4A-B1A8E8E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4733-97D2-4BF3-AB75-E1C42D0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39876-DD46-4E21-86A9-D552468C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1DB1C-3CEB-42E5-B2D1-A96DB475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C77C2-CD8A-416F-9681-88230E5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D752D-B04A-46D1-AAF8-DEDC2C70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5E234-56AD-4460-AE5B-FDEBFE37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5EF61-267B-4408-8B8D-0768169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2F648-60CE-47D7-9F82-44B4C7A8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77890-8005-4ACC-9148-6C7D566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1EB77-580A-4E49-91A2-C55A54BC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563A6-2CD3-4536-A8E9-53283636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B2A4-E8E1-41AC-BBE4-571002A9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DA899-C386-4636-8420-38A4F64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6C7983-621C-43A1-B85F-B3B4F08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801C8-63A5-4C7F-8748-21460A2F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11B41-5B16-45C5-88F3-48C19FFD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41E68-DD4C-4FFE-8E22-AE4C47C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0D2F6-3AA7-4648-A06D-848365A8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C4137-D938-4CFC-A50B-B7596DFB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FA6D4-9BE3-4E79-BAF9-F5E6DA6B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B2863-AFE3-484C-8808-CD7089A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5A558-E070-4874-B4FE-0A7537E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2F1C-29DA-4AE5-B531-0D17D975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AFDD76-58C4-4606-A27E-6522F364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B98F15-0227-489E-9EAF-9C8F46F0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DFE1C-469A-4DB1-B89B-3DF38E06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7D3F09-96F8-43CF-ADA6-1335FB07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9D93C-1B9F-49B2-886B-EFB85162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3B17D-E3F5-4C65-B89E-6C9F100E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04A719-C398-42F2-ACBD-79A19B64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E9D25-1602-43B6-A0D6-919340C1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6C94F9-127A-462A-93F3-646091F0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5D18-C119-4D50-8C0E-1544F3B6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7851-643F-4CAC-A3B7-F2F5ABD7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F80F-BD44-45A2-94D4-93090040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D1A4-CDBF-4288-8B97-E18E6D97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F7FD-453F-49A4-93DE-75462B2C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BFBB-864B-4D11-B978-66DDAE03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80CD-9BD8-4F3F-8B32-06A8280E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BC1-318C-4E96-81A7-93A3B4BF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A7F4-7EFB-4FEA-849A-B783878E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BFBE-9C90-443D-ADD8-93C36727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C5E9-3DCC-4825-A4C1-97A6246C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65DC-03E3-46F9-8916-08DC4FA5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B16B-580D-4E1E-A332-E980B987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1889-B25E-4CF4-ACF7-67FEFBD1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E9AE-30F0-41A4-B71B-2A0AB3F1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84AF-8F18-4B7D-A07A-9E67B513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83EC-A922-4FCD-82B7-FBF45302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E4891-1AF1-4FEF-96EF-CFF118F9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F64-CCD1-4994-ACB2-5FC85739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630D-AB25-4F85-BEE8-08628EE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B99B-7CAC-4594-9A29-77E9E59E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C7AF-A652-4D88-AC3E-FEE9280D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8B09-32C9-4443-80A1-9CB35AA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CC21-6AA3-49A4-A878-86FF0F16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4BF7-34E6-4964-9973-9560E315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5FFA-01E0-4381-87FA-30BAB224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2CDC-3D88-49B0-AB49-546FABBF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0C7A-6A3B-426E-8F53-3B061B3B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5D8A-412A-4085-ACA8-E9732A7B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904-C033-4CE1-879C-441E31A9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E8A1A-FC2A-4B4E-8E3A-EACF460A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A9EB-5910-47CA-A1BA-C3F8CCF6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B8FF-C3D2-4F31-A4E2-8A31A62E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35796-F001-4EAA-B622-6B6ECC33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2C5F-1080-4204-83D3-126A5E6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C2CCA-1965-4ACE-A2B2-2282259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5CF0-633E-4170-B3A0-F42E0D0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371B-4104-46D7-8AAC-9311C3FB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7ABDB-8F52-49A3-BF8F-604B8999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8DC1C-95D1-4A16-A5C2-53A698BF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496-0D3C-4B77-8C3D-4679E3CE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B7CD-1FAB-4AE1-BA09-9AA8C045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2DBC4-98B6-4E71-B487-C35D647D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45A1-BC5A-4E2D-B31D-B83918F6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8A2E-2C21-4BBE-99E7-32C3DB8F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1D34-0E27-4823-AC5C-8CE4391B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16D48-C25F-4EB7-AC7D-1F67803F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20C24-7DE4-4777-9D51-22E8238D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3691-487C-4A22-8037-9B34F52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0CE5-F067-4270-859A-C521BE3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C7D3A-4552-4DE6-9A47-7C2591F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A2A-3BBB-4AE2-BFEF-D8636AC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A6530-23CC-4E79-850B-28F51E9E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8C5B-3450-45AC-A019-8BF02F21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B02C1-406F-47AD-9532-C91DD890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E503-E1C7-47E8-BB24-FD110336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979B3-3512-455C-826E-B6474C36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EBFC-EF86-49DA-A88C-A4A0D236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972FE-3DF3-4D31-84F9-739D194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89ED-538B-4A34-BFFF-D857FEC3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B04A6-0865-4BC1-8435-274ECC70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22F3-1BC5-4E13-ADD7-9A3D1CE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619-F55F-4507-90D6-871445D4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88B9-E264-47D8-9D92-00984F8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1E6DF-E6CE-4457-8B6F-5924CEE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A9306-13D6-45D8-90F7-FDB8DAE7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A1E1E-0B9A-44E8-B955-BA3CE790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A8DD-1307-4FC8-9372-065E2BB2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9DD9-4C67-4671-BEA0-ECFFA403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64EF7-99A2-45D9-B960-C460577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E89B5-F269-43D5-9686-CF4DBE2D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4D6D9-E413-4C37-9977-0FFD9AE3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83E19-8660-456B-8085-F211C55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25F-4855-4B4D-A05D-F4A6C2A6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7A199-54AD-4E0E-A453-71CCD13B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A43C7-45F2-4702-99D8-7563525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F2AE-A192-4EF5-BAE5-E37803C6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1A14D-3915-44A4-B5C8-96B73BA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DB58D-F8B2-4F8E-9E73-5208E3B5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3B91-1ACD-4E7E-B313-7E4FC052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39DFE-6D53-4F39-8613-E868BB4A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BBAFF-E438-404C-977F-E6EC0807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2421-3300-43FD-9828-56B59276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1B5A6-19B6-4EC6-953E-2C039E39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16C6-C434-4898-B6F2-5C527F8AFB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DEC0-B9D3-4AAE-B451-BD49F8A6329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793B-B000-4C2E-8C28-9E91B35167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F4A9-054C-498E-BF52-2DF9A2BA01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C88E-A65B-47C0-B475-1EF168CE2D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1A36-152F-4269-8858-A20E6ECC5B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372-4FD8-4557-A272-2B7A61AEF0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6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722-5923-4A10-A414-0D691D3DF19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6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79B3-9AA9-4973-8623-9871A868DDB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7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ADC6-DB36-4F1A-A9FE-E27BB0D850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7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8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1FC6-D3F0-4DC6-9351-A4AEBF8056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8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8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A80F-E2D0-4741-A942-9122D6D32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13BD-6F8D-41A6-ADEB-8D3DFACA37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3EBD-26AB-41CB-89A6-D213CBD821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53D-D2C9-416E-8A64-C6D446EDC3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6610-4BD5-4B34-B329-173F68F385F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0184-0FBB-4D62-948E-28ECD1C52F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DF6E-670B-4757-B4FF-FED8EC1034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B538-36EE-4A15-9A4C-51FACFA932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40.png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image" Target="../media/image12.jpeg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png"/><Relationship Id="rId12" Type="http://schemas.openxmlformats.org/officeDocument/2006/relationships/image" Target="../media/image79.wmf"/><Relationship Id="rId13" Type="http://schemas.openxmlformats.org/officeDocument/2006/relationships/image" Target="../media/image80.wmf"/><Relationship Id="rId1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gif"/><Relationship Id="rId5" Type="http://schemas.openxmlformats.org/officeDocument/2006/relationships/image" Target="../media/image84.gif"/><Relationship Id="rId6" Type="http://schemas.openxmlformats.org/officeDocument/2006/relationships/image" Target="../media/image85.gif"/><Relationship Id="rId7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jpeg"/><Relationship Id="rId5" Type="http://schemas.openxmlformats.org/officeDocument/2006/relationships/image" Target="../media/image89.gi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jpeg"/><Relationship Id="rId7" Type="http://schemas.openxmlformats.org/officeDocument/2006/relationships/image" Target="../media/image95.png"/><Relationship Id="rId8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image" Target="../media/image96.png"/><Relationship Id="rId4" Type="http://schemas.openxmlformats.org/officeDocument/2006/relationships/image" Target="../media/image97.wmf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image" Target="../media/image102.png"/><Relationship Id="rId5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3.png"/><Relationship Id="rId3" Type="http://schemas.openxmlformats.org/officeDocument/2006/relationships/image" Target="../media/image104.wmf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pn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539640" y="617400"/>
            <a:ext cx="8136000" cy="5908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195120" y="-73080"/>
            <a:ext cx="8680680" cy="197496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 txBox="1"/>
          <p:nvPr/>
        </p:nvSpPr>
        <p:spPr>
          <a:xfrm>
            <a:off x="228600" y="1798560"/>
            <a:ext cx="8686800" cy="4525920"/>
          </a:xfrm>
          <a:prstGeom prst="rect">
            <a:avLst/>
          </a:prstGeom>
          <a:solidFill>
            <a:srgbClr val="f3cd60"/>
          </a:solidFill>
          <a:ln w="9360">
            <a:solidFill>
              <a:srgbClr val="f0a22e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زمان؛ تداوم و تغيي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كان و فضا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فرهنگ و هويت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نظام اجتماع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نابع و فعاليت هاي اقتصاد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9F92-127C-4289-B7C3-C3CEB371CC78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3"/>
          <a:stretch/>
        </p:blipFill>
        <p:spPr>
          <a:xfrm>
            <a:off x="228600" y="1798560"/>
            <a:ext cx="3429000" cy="21686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10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2900"/>
                            </p:stCondLst>
                            <p:childTnLst>
                              <p:par>
                                <p:cTn id="10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7900"/>
                            </p:stCondLst>
                            <p:childTnLst>
                              <p:par>
                                <p:cTn id="1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2900"/>
                            </p:stCondLst>
                            <p:childTnLst>
                              <p:par>
                                <p:cTn id="11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146160" y="152280"/>
            <a:ext cx="8845560" cy="9334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BB8B-1AED-402E-A136-06D5EE8ECA6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749160" y="1060560"/>
            <a:ext cx="8029800" cy="5340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81880" cy="571500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FCE8-5DC5-4807-BAB2-1BBEB292955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304920" y="23184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79200" y="0"/>
            <a:ext cx="8686800" cy="100656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76320" y="838080"/>
            <a:ext cx="8991360" cy="56390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507-B011-4B65-8942-3802C4E57FD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128520"/>
            <a:ext cx="9144000" cy="16210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228600" y="1828440"/>
            <a:ext cx="8686800" cy="432756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بررسي و كاو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شارك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برقراري ارتباط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خلاقي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واكنش شخصي و اظهار نظر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1D83-CD9B-4D1E-8E1F-4D962ED54A49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3"/>
          <a:stretch/>
        </p:blipFill>
        <p:spPr>
          <a:xfrm>
            <a:off x="287280" y="3809880"/>
            <a:ext cx="2151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304920" y="79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 txBox="1"/>
          <p:nvPr/>
        </p:nvSpPr>
        <p:spPr>
          <a:xfrm>
            <a:off x="-76320" y="3047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رويكرد يادگيرنده – محور با نقش تسهيل گر معل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يادگيري مادام العمر – خود يادگير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عميق و پايداري  يادگيري از طريق در گير شدن با موضوعات محيطي و اجتماع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مجهز شدن به طيف وسيعي از مهارت ها در قالب مهارت هاي كاوشگري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0E89-3419-452B-93C3-FD8EA00A103E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838080" y="1066680"/>
            <a:ext cx="742320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F7CD-CC1C-460D-87DC-3AFED6442C2C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4495680" y="1295280"/>
            <a:ext cx="1405080" cy="7891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237960" y="1268280"/>
            <a:ext cx="4864320" cy="415152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3886200" y="449568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6"/>
          <a:stretch/>
        </p:blipFill>
        <p:spPr>
          <a:xfrm>
            <a:off x="4724280" y="32767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7"/>
          <a:stretch/>
        </p:blipFill>
        <p:spPr>
          <a:xfrm>
            <a:off x="4267080" y="236232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8"/>
          <a:stretch/>
        </p:blipFill>
        <p:spPr>
          <a:xfrm>
            <a:off x="6477120" y="1371600"/>
            <a:ext cx="838080" cy="9144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1143000" y="1752120"/>
            <a:ext cx="7391520" cy="444996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عدالت جوي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B Zar"/>
              </a:rPr>
              <a:t> حق طلبي و مسئوليت پذير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عاو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يهن دوستي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7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3735-838D-4CA7-91CE-74ACD881B81F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2819520" cy="37004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1066680" y="2743200"/>
            <a:ext cx="533520" cy="5335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" y="3009960"/>
            <a:ext cx="762120" cy="609480"/>
          </a:xfrm>
          <a:custGeom>
            <a:avLst/>
            <a:gdLst/>
            <a:ahLst/>
            <a:rect l="l" t="t" r="r" b="b"/>
            <a:pathLst>
              <a:path w="762000" h="609600">
                <a:moveTo>
                  <a:pt x="381000" y="152400"/>
                </a:moveTo>
                <a:cubicBezTo>
                  <a:pt x="539750" y="-203200"/>
                  <a:pt x="1158875" y="152400"/>
                  <a:pt x="381000" y="609600"/>
                </a:cubicBezTo>
                <a:cubicBezTo>
                  <a:pt x="-396875" y="152400"/>
                  <a:pt x="222250" y="-203200"/>
                  <a:pt x="381000" y="1524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19320" y="32004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62120" y="3733920"/>
            <a:ext cx="457200" cy="761760"/>
          </a:xfrm>
          <a:custGeom>
            <a:avLst/>
            <a:gdLst/>
            <a:ahLst/>
            <a:rect l="l" t="t" r="r" b="b"/>
            <a:pathLst>
              <a:path w="457200" h="762000">
                <a:moveTo>
                  <a:pt x="0" y="291057"/>
                </a:moveTo>
                <a:lnTo>
                  <a:pt x="174636" y="291059"/>
                </a:lnTo>
                <a:lnTo>
                  <a:pt x="228600" y="0"/>
                </a:lnTo>
                <a:lnTo>
                  <a:pt x="282564" y="291059"/>
                </a:lnTo>
                <a:lnTo>
                  <a:pt x="457200" y="291057"/>
                </a:lnTo>
                <a:lnTo>
                  <a:pt x="315916" y="470940"/>
                </a:lnTo>
                <a:lnTo>
                  <a:pt x="369882" y="761998"/>
                </a:lnTo>
                <a:lnTo>
                  <a:pt x="228600" y="582112"/>
                </a:lnTo>
                <a:lnTo>
                  <a:pt x="87318" y="761998"/>
                </a:lnTo>
                <a:lnTo>
                  <a:pt x="141284" y="470940"/>
                </a:lnTo>
                <a:lnTo>
                  <a:pt x="0" y="29105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4"/>
          <a:stretch/>
        </p:blipFill>
        <p:spPr>
          <a:xfrm>
            <a:off x="1476360" y="2590920"/>
            <a:ext cx="609480" cy="53316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1247760" y="3505320"/>
            <a:ext cx="457200" cy="609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114624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0F46-2C34-4E74-816A-2CE65D2FF01D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3"/>
          <a:stretch/>
        </p:blipFill>
        <p:spPr>
          <a:xfrm>
            <a:off x="0" y="3948120"/>
            <a:ext cx="5105520" cy="290988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2552760" y="4267080"/>
            <a:ext cx="1714320" cy="685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هد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86000" y="1600200"/>
            <a:ext cx="5943600" cy="2286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از هر حوزه ي موضوعي  یک هدف انتخاب شده اس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5DA6-4018-420D-B2BD-99BD3930630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139680" y="841320"/>
            <a:ext cx="8699400" cy="571176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3"/>
          <a:stretch/>
        </p:blipFill>
        <p:spPr>
          <a:xfrm>
            <a:off x="152280" y="23184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933480" y="542880"/>
            <a:ext cx="7772400" cy="351648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933480" y="3484440"/>
            <a:ext cx="7021440" cy="263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Book"/>
                <a:ea typeface="B Zar"/>
              </a:rPr>
              <a:t>-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8548-342D-4AF7-9C26-9594CED67188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1362240" cy="132876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4"/>
          <a:stretch/>
        </p:blipFill>
        <p:spPr>
          <a:xfrm>
            <a:off x="152280" y="30481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5"/>
          <a:stretch/>
        </p:blipFill>
        <p:spPr>
          <a:xfrm>
            <a:off x="7467480" y="4343400"/>
            <a:ext cx="1238400" cy="221472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6019920" y="5329080"/>
            <a:ext cx="1371600" cy="15289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3276720" y="5810400"/>
            <a:ext cx="1904760" cy="10476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8"/>
          <a:stretch/>
        </p:blipFill>
        <p:spPr>
          <a:xfrm>
            <a:off x="6629400" y="3814920"/>
            <a:ext cx="914400" cy="144288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9"/>
          <a:stretch/>
        </p:blipFill>
        <p:spPr>
          <a:xfrm>
            <a:off x="1371600" y="5638680"/>
            <a:ext cx="838080" cy="8668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C2AE-FCE6-4610-A6E2-B75430E5E39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139680" y="1066680"/>
            <a:ext cx="8699400" cy="54864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304920" y="7920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299-E516-4DA0-BD0A-B3625FD4842B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1816200" y="371520"/>
            <a:ext cx="7456320" cy="600552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3"/>
          <a:stretch/>
        </p:blipFill>
        <p:spPr>
          <a:xfrm>
            <a:off x="-50760" y="0"/>
            <a:ext cx="29462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82AD-658E-4AAF-A35F-E2DDADD9809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2"/>
          <a:stretch/>
        </p:blipFill>
        <p:spPr>
          <a:xfrm>
            <a:off x="219240" y="231840"/>
            <a:ext cx="8705520" cy="190188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/>
          <p:cNvPicPr/>
          <p:nvPr/>
        </p:nvPicPr>
        <p:blipFill>
          <a:blip r:embed="rId3"/>
          <a:stretch/>
        </p:blipFill>
        <p:spPr>
          <a:xfrm>
            <a:off x="291960" y="1908000"/>
            <a:ext cx="8560080" cy="220680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4"/>
          <a:stretch/>
        </p:blipFill>
        <p:spPr>
          <a:xfrm>
            <a:off x="231840" y="3833640"/>
            <a:ext cx="8620200" cy="303696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5"/>
          <a:stretch/>
        </p:blipFill>
        <p:spPr>
          <a:xfrm>
            <a:off x="1371600" y="-92160"/>
            <a:ext cx="6864480" cy="873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8C60-FF62-46B5-9E83-AC9B31617C94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24920" cy="6267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7B3C-2B10-4199-BBC3-F2613B22DABD}" type="slidenum">
              <a:rPr b="1" lang="en-US" sz="14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>
            <a:off x="231840" y="1079640"/>
            <a:ext cx="8631000" cy="571788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5334120" y="244440"/>
            <a:ext cx="3581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B Titr"/>
              </a:rPr>
              <a:t>مثال هایی  از فعالیت های کاوشگر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76320" y="228600"/>
            <a:ext cx="5486400" cy="549360"/>
            <a:chOff x="76320" y="228600"/>
            <a:chExt cx="5486400" cy="549360"/>
          </a:xfrm>
        </p:grpSpPr>
        <p:sp>
          <p:nvSpPr>
            <p:cNvPr id="970" name=""/>
            <p:cNvSpPr/>
            <p:nvPr/>
          </p:nvSpPr>
          <p:spPr>
            <a:xfrm>
              <a:off x="4229280" y="228600"/>
              <a:ext cx="13334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0000"/>
                  </a:solidFill>
                  <a:latin typeface="Times New Roman"/>
                  <a:cs typeface="B Zar"/>
                </a:rPr>
                <a:t>مهارت‌هاي كاوشگر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320" y="228600"/>
              <a:ext cx="415296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0000"/>
                  </a:solidFill>
                  <a:latin typeface="Times New Roman"/>
                  <a:cs typeface="B Zar"/>
                </a:rPr>
                <a:t>بررسي و كاوش، برقراري ارتباط، خلاقيت، مشاركت، واكنش شخصي و اظهار‌نظ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2928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6272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32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320" y="2286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320" y="77796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0" y="231840"/>
            <a:ext cx="8881920" cy="11462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7E75-3138-4B91-9493-C892DFEB088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3276720" cy="187632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3276720" y="1447920"/>
            <a:ext cx="5410080" cy="5105160"/>
          </a:xfrm>
          <a:prstGeom prst="rect">
            <a:avLst/>
          </a:prstGeom>
          <a:solidFill>
            <a:srgbClr val="f8e19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تاب درسي :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6</a:t>
            </a: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فصل و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22</a:t>
            </a: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هر فصل دو يا چند حوزه ي موضوعي و مفاهيم كليدي  آنها تلفيق شده است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ار برگه هاي آخر كتاب  فعاليت هاي اضافي نيست بلكه فعاليت هايي است كه در فرآيند ياددهي بايد انجام شوندو آموزش بدون آن ها تكميل نمي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1219320" y="49528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B49-F08E-44FD-82A5-EA8A767CC3DA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1511280" y="1438200"/>
            <a:ext cx="3487680" cy="40244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7560" y="748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alibri"/>
                <a:cs typeface="Arial"/>
              </a:rPr>
              <a:t>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1447920"/>
            <a:ext cx="3048120" cy="506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 محله ی م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شهر من روستای م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پیدایش شهر وروست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سفری به شهرهای باستا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کشور زیبای م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ما ایرانی هستی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81080" y="5791320"/>
            <a:ext cx="2514600" cy="4572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موضو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229600" y="645804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D69B-3743-4891-BD49-34A1C376AA0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2"/>
          <a:stretch/>
        </p:blipFill>
        <p:spPr>
          <a:xfrm>
            <a:off x="79200" y="743040"/>
            <a:ext cx="8686800" cy="563868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7162920" y="898560"/>
            <a:ext cx="1379520" cy="12193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4"/>
          <a:stretch/>
        </p:blipFill>
        <p:spPr>
          <a:xfrm>
            <a:off x="6410160" y="3413160"/>
            <a:ext cx="2428920" cy="1485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5"/>
          <a:stretch/>
        </p:blipFill>
        <p:spPr>
          <a:xfrm>
            <a:off x="6873840" y="464832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6"/>
          <a:stretch/>
        </p:blipFill>
        <p:spPr>
          <a:xfrm>
            <a:off x="3141720" y="3656160"/>
            <a:ext cx="1201680" cy="13572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7"/>
          <a:stretch/>
        </p:blipFill>
        <p:spPr>
          <a:xfrm>
            <a:off x="3505320" y="59133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8"/>
          <a:stretch/>
        </p:blipFill>
        <p:spPr>
          <a:xfrm>
            <a:off x="3141720" y="2270160"/>
            <a:ext cx="1201680" cy="14158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9"/>
          <a:stretch/>
        </p:blipFill>
        <p:spPr>
          <a:xfrm>
            <a:off x="3505320" y="5013360"/>
            <a:ext cx="892080" cy="88416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10"/>
          <a:srcRect l="0" t="0" r="0" b="6051"/>
          <a:stretch/>
        </p:blipFill>
        <p:spPr>
          <a:xfrm>
            <a:off x="2516040" y="2482920"/>
            <a:ext cx="760680" cy="9302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11"/>
          <a:stretch/>
        </p:blipFill>
        <p:spPr>
          <a:xfrm>
            <a:off x="139680" y="-36360"/>
            <a:ext cx="8686800" cy="11095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12"/>
          <a:stretch/>
        </p:blipFill>
        <p:spPr>
          <a:xfrm>
            <a:off x="3492360" y="939960"/>
            <a:ext cx="774720" cy="12697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13"/>
          <a:stretch/>
        </p:blipFill>
        <p:spPr>
          <a:xfrm>
            <a:off x="7283520" y="2286000"/>
            <a:ext cx="1098360" cy="1063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231840" y="-6480"/>
            <a:ext cx="8935920" cy="121932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7E05-C48F-4BDE-9C9A-8A3BC878D03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3127320" y="1103400"/>
            <a:ext cx="6016680" cy="52243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2666880" cy="36576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5"/>
          <a:stretch/>
        </p:blipFill>
        <p:spPr>
          <a:xfrm>
            <a:off x="2362320" y="3809880"/>
            <a:ext cx="933480" cy="40968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6"/>
          <a:stretch/>
        </p:blipFill>
        <p:spPr>
          <a:xfrm>
            <a:off x="685800" y="518148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79200" y="146160"/>
            <a:ext cx="8686800" cy="121896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44A2-F38A-4059-9335-00F51A47051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320" y="1371600"/>
            <a:ext cx="5638680" cy="5410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آ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موزش در محيط هاي واقعي و متنوع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  <a:ea typeface="B Tit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پاركها، فروشگاهها ، موزه ها ، فرهنگسراها، آثار تاریخی ،  مساجد، مراكز خدماتي چون اداره پست و آتش نشاني ، مزارع و کارگا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B Titr"/>
              </a:rPr>
              <a:t> گردش علم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7696080" y="2362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4"/>
          <a:stretch/>
        </p:blipFill>
        <p:spPr>
          <a:xfrm>
            <a:off x="57150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5"/>
          <a:stretch/>
        </p:blipFill>
        <p:spPr>
          <a:xfrm>
            <a:off x="5181480" y="4114800"/>
            <a:ext cx="3429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CD99-4BC9-4053-B431-314B63EF2C5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220968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4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يك حوزه ي يادگيري که درباره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انسان و تعامل او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با</a:t>
            </a:r>
            <a:r>
              <a:rPr b="1" lang="en-US" sz="3200" spc="-1" strike="noStrike">
                <a:solidFill>
                  <a:srgbClr val="7c4b3b"/>
                </a:solidFill>
                <a:latin typeface="Franklin Gothic Book"/>
                <a:ea typeface="B Zar"/>
              </a:rPr>
              <a:t>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محيط هاي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اجتماعي؛ فرهنگي؛ طبيعي و تحولات زندگي بشر در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گذشته؛ حال و آينده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و جنبه هاي گوناگون آن (سياسي؛ اقتصادي؛ اجتماعي و محيطي و...) بجث  می ک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689040" y="152280"/>
            <a:ext cx="777240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8229600" y="645804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ED46-06BA-4E51-9A90-357CBEE8A32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79200" y="743040"/>
            <a:ext cx="8534520" cy="56386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3"/>
          <a:srcRect l="0" t="0" r="0" b="11269"/>
          <a:stretch/>
        </p:blipFill>
        <p:spPr>
          <a:xfrm>
            <a:off x="6343560" y="990720"/>
            <a:ext cx="1962360" cy="137160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2133360" cy="175284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87480" y="5562720"/>
            <a:ext cx="1360440" cy="12636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6"/>
          <a:stretch/>
        </p:blipFill>
        <p:spPr>
          <a:xfrm>
            <a:off x="6324480" y="2819520"/>
            <a:ext cx="1868760" cy="13716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7"/>
          <a:stretch/>
        </p:blipFill>
        <p:spPr>
          <a:xfrm>
            <a:off x="4724280" y="5334120"/>
            <a:ext cx="1481400" cy="1261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283C-F0E7-4A3F-A358-B2393C13727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714680" cy="127008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901960" cy="28191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4"/>
          <a:stretch/>
        </p:blipFill>
        <p:spPr>
          <a:xfrm>
            <a:off x="0" y="163440"/>
            <a:ext cx="3200400" cy="181764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5"/>
          <a:stretch/>
        </p:blipFill>
        <p:spPr>
          <a:xfrm>
            <a:off x="6232680" y="0"/>
            <a:ext cx="2911320" cy="187020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6"/>
          <a:stretch/>
        </p:blipFill>
        <p:spPr>
          <a:xfrm>
            <a:off x="6762600" y="4981680"/>
            <a:ext cx="2381400" cy="18763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1981080" y="914400"/>
            <a:ext cx="5639040" cy="5334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ايجاد فضاي مطلوب رواني – عاطفي در كلاس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B Tit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برقراري رابطه مؤثر با دانش آموزا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وجه مناسب به توان ها؛ مشكلات خاص؛ استعداد ها و ضعف هاي رفتار فردي و اجتماع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ايجاد رابطه ي مؤثر بين دانش آموزان (روابط دوستانه؛ همكاري؛ مشاركت؛ مهارت هاي زندگي اجتماعي و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9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442C-738C-4141-98D2-CC513E8F245A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85540a"/>
                </a:solidFill>
                <a:latin typeface="Franklin Gothic Book"/>
                <a:cs typeface="B Zar"/>
              </a:rPr>
              <a:t>بخش دوم:</a:t>
            </a:r>
            <a:br>
              <a:rPr sz="2400"/>
            </a:br>
            <a:r>
              <a:rPr b="1" lang="en-US" sz="3200" spc="-1" strike="noStrike">
                <a:solidFill>
                  <a:srgbClr val="85540a"/>
                </a:solidFill>
                <a:latin typeface="Franklin Gothic Book"/>
                <a:ea typeface="B Titr"/>
              </a:rPr>
              <a:t> برنامه درسي مطالعات اجتماعی  و برنامه درسی مل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C9F7-DB09-4763-8B4F-CE1F25FFA93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60480" y="1146240"/>
            <a:ext cx="7492680" cy="56512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504960" cy="190512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4"/>
          <a:stretch/>
        </p:blipFill>
        <p:spPr>
          <a:xfrm>
            <a:off x="304920" y="-109440"/>
            <a:ext cx="8686800" cy="110952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733920" y="3733920"/>
            <a:ext cx="1828800" cy="3124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برنامه درسي م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فطرت گرايي توحي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86400" y="838080"/>
            <a:ext cx="2048040" cy="901800"/>
          </a:xfrm>
          <a:custGeom>
            <a:avLst/>
            <a:gdLst>
              <a:gd name="textAreaLeft" fmla="*/ 58320 w 2048040"/>
              <a:gd name="textAreaRight" fmla="*/ 1989720 w 2048040"/>
              <a:gd name="textAreaTop" fmla="*/ 58320 h 901800"/>
              <a:gd name="textAreaBottom" fmla="*/ 843480 h 901800"/>
            </a:gdLst>
            <a:ahLst/>
            <a:rect l="textAreaLeft" t="textAreaTop" r="textAreaRight" b="textAreaBottom"/>
            <a:pathLst>
              <a:path w="49044" h="21600">
                <a:moveTo>
                  <a:pt x="0" y="0"/>
                </a:moveTo>
                <a:lnTo>
                  <a:pt x="49044" y="0"/>
                </a:lnTo>
                <a:lnTo>
                  <a:pt x="49044" y="21600"/>
                </a:lnTo>
                <a:lnTo>
                  <a:pt x="0" y="21600"/>
                </a:lnTo>
                <a:close/>
              </a:path>
              <a:path fill="lightenLess" w="49044" h="21600">
                <a:moveTo>
                  <a:pt x="0" y="0"/>
                </a:moveTo>
                <a:lnTo>
                  <a:pt x="49044" y="0"/>
                </a:lnTo>
                <a:lnTo>
                  <a:pt x="47644" y="1400"/>
                </a:lnTo>
                <a:lnTo>
                  <a:pt x="1400" y="1400"/>
                </a:lnTo>
                <a:close/>
              </a:path>
              <a:path fill="darken" w="49044" h="21600">
                <a:moveTo>
                  <a:pt x="49044" y="0"/>
                </a:moveTo>
                <a:lnTo>
                  <a:pt x="49044" y="21600"/>
                </a:lnTo>
                <a:lnTo>
                  <a:pt x="47644" y="20200"/>
                </a:lnTo>
                <a:lnTo>
                  <a:pt x="47644" y="1400"/>
                </a:lnTo>
                <a:close/>
              </a:path>
              <a:path fill="darkenLess" w="49044" h="21600">
                <a:moveTo>
                  <a:pt x="4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44" y="20200"/>
                </a:lnTo>
                <a:close/>
              </a:path>
              <a:path fill="lighten" w="4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44" h="21600">
                <a:moveTo>
                  <a:pt x="21023" y="10800"/>
                </a:moveTo>
                <a:lnTo>
                  <a:pt x="31528" y="3794"/>
                </a:lnTo>
                <a:lnTo>
                  <a:pt x="31528" y="17806"/>
                </a:lnTo>
                <a:close/>
              </a:path>
              <a:path fill="darken" w="49044" h="21600">
                <a:moveTo>
                  <a:pt x="17515" y="3794"/>
                </a:moveTo>
                <a:lnTo>
                  <a:pt x="19178" y="3794"/>
                </a:lnTo>
                <a:lnTo>
                  <a:pt x="19178" y="17806"/>
                </a:lnTo>
                <a:lnTo>
                  <a:pt x="17515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فرهنگي – تربيت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-92160" y="-42840"/>
            <a:ext cx="9010800" cy="11160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27000" y="1447920"/>
            <a:ext cx="1981080" cy="24382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4A26-0976-436D-A13B-831E6CBE960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4"/>
          <a:stretch/>
        </p:blipFill>
        <p:spPr>
          <a:xfrm>
            <a:off x="1450800" y="749160"/>
            <a:ext cx="7772400" cy="614520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76320" y="4572000"/>
            <a:ext cx="1904760" cy="1295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B Zar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١١</a:t>
            </a:r>
            <a:r>
              <a:rPr b="1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حوزه ي يادگي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"/>
          <p:cNvPicPr/>
          <p:nvPr/>
        </p:nvPicPr>
        <p:blipFill>
          <a:blip r:embed="rId2"/>
          <a:stretch/>
        </p:blipFill>
        <p:spPr>
          <a:xfrm>
            <a:off x="304920" y="450720"/>
            <a:ext cx="8686800" cy="114012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380520" y="1600200"/>
            <a:ext cx="86108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پنج عنصر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:تعقل ،ايمان ، علم ، عمل ، اخلا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چهارعرصه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: ارتباط با خود ،  باخدا ، با خلق و  با عالم خلقت( با محوریت خدا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675B-DF01-44A2-B07F-C7948AB8289F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23184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f3cd6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ربيت يكپارچه عقلی ، ايمانی ، علمي و عملي و اخلاقي دانش آموزان به گونه اي كه بتوانند موقعيت خود را نسبت به خود ، خدا ، ديگر انسان ها و نظام خلقت به درستي درك و توانايي اصلاح مستمر موقعيت فردي و اجتماعي خويش را كسب نماين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AD78-E315-40BC-92B8-B7E5A29AE75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231840" y="5364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 txBox="1"/>
          <p:nvPr/>
        </p:nvSpPr>
        <p:spPr>
          <a:xfrm>
            <a:off x="0" y="1752480"/>
            <a:ext cx="8686800" cy="4525920"/>
          </a:xfrm>
          <a:prstGeom prst="rect">
            <a:avLst/>
          </a:prstGeom>
          <a:solidFill>
            <a:srgbClr val="f3cd60"/>
          </a:solidFill>
          <a:ln w="9360">
            <a:solidFill>
              <a:srgbClr val="f3cd6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Zar"/>
                <a:cs typeface="Tahoma"/>
              </a:rPr>
              <a:t>انتظار مي رود دانش آموزان طي دوره تحصيلات مدرسه اي ، در مجموعه عناصر پنج گانه الگوي هدف گذاري به مرتبه اي از </a:t>
            </a:r>
            <a:r>
              <a:rPr b="1" lang="hi-IN" sz="3200" spc="-1" strike="noStrike">
                <a:solidFill>
                  <a:srgbClr val="ff0000"/>
                </a:solidFill>
                <a:latin typeface="Zar"/>
                <a:cs typeface="Tahoma"/>
              </a:rPr>
              <a:t>شايستگي هاي پايه </a:t>
            </a:r>
            <a:r>
              <a:rPr b="1" lang="hi-IN" sz="3200" spc="-1" strike="noStrike">
                <a:solidFill>
                  <a:srgbClr val="4e3b30"/>
                </a:solidFill>
                <a:latin typeface="Zar"/>
                <a:cs typeface="Tahoma"/>
              </a:rPr>
              <a:t>دست يابند . اين شايستگي ها بيان تفضيل يافته هاي از هدف كلي برنامه هاي درسي وتربيتي است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5AB-AF90-479E-B577-B2078F71EDEA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0" y="146160"/>
            <a:ext cx="8686800" cy="15174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 txBox="1"/>
          <p:nvPr/>
        </p:nvSpPr>
        <p:spPr>
          <a:xfrm>
            <a:off x="457200" y="2057400"/>
            <a:ext cx="8686800" cy="45259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درك وجود خدا ، نيازها و توانمندي ها ، ظرفيت ها و ابعاد هويت متعالي خويش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صير نسبت به آثار و پيامدهاي سبك زندگي خو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دبير در صفات ، افعال و آيات خداوند متعال به عنوان خالق هست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دبر در نظام خلقت و شگفتي هاي آ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F52D-D84D-4A12-8B0E-C1F88E189876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05720" y="609480"/>
            <a:ext cx="1828800" cy="1752840"/>
          </a:xfrm>
          <a:custGeom>
            <a:avLst/>
            <a:gdLst/>
            <a:ahLst/>
            <a:rect l="l" t="t" r="r" b="b"/>
            <a:pathLst>
              <a:path w="1828800" h="1752600">
                <a:moveTo>
                  <a:pt x="0" y="438150"/>
                </a:moveTo>
                <a:lnTo>
                  <a:pt x="609595" y="438143"/>
                </a:lnTo>
                <a:lnTo>
                  <a:pt x="914400" y="0"/>
                </a:lnTo>
                <a:lnTo>
                  <a:pt x="1219205" y="438143"/>
                </a:lnTo>
                <a:lnTo>
                  <a:pt x="1828800" y="438150"/>
                </a:lnTo>
                <a:lnTo>
                  <a:pt x="1524010" y="876300"/>
                </a:lnTo>
                <a:lnTo>
                  <a:pt x="1828800" y="1314450"/>
                </a:lnTo>
                <a:lnTo>
                  <a:pt x="1219205" y="1314457"/>
                </a:lnTo>
                <a:lnTo>
                  <a:pt x="914400" y="1752600"/>
                </a:lnTo>
                <a:lnTo>
                  <a:pt x="609595" y="1314457"/>
                </a:lnTo>
                <a:lnTo>
                  <a:pt x="0" y="1314450"/>
                </a:lnTo>
                <a:lnTo>
                  <a:pt x="304790" y="876300"/>
                </a:lnTo>
                <a:lnTo>
                  <a:pt x="0" y="4381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ع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228600" y="1676520"/>
            <a:ext cx="86868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آگاهانه به توحيد ، نبوت ، معاد ، امامت ، عدل ،عالم غيب وحيات جاودانه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اور به ربوبيت و حضور حكيمانه همراه با لطف و رحمت خالق يكتا در عرصه هست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انبياء الهي ، قرآن ، پيامبر خاتم (ص ) ائمه معصومين عليهم السلام و ولايت مطلقه فقيه و نقش بي بديل  آن ها در هدايت  و رستگار ی بشر 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اور به نقش دين مبين اسلام و نظامات آن به عنوان تنها مكتب جامع و كارآمد براي تحقق حيات طيبه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ارزشمندي  ، هدفمندي و قانون مندي خلقت و باور به زيبايي هاي جهان آفرينش به عنوان مظاهر فعل و جمال خداوند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هويت الهي انسان، كرامت او و توانمندي هاي جمعي و فردي انس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7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167F-9A57-4E58-BB38-03DE265D0856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477120" y="0"/>
            <a:ext cx="2057400" cy="1600200"/>
          </a:xfrm>
          <a:custGeom>
            <a:avLst/>
            <a:gdLst/>
            <a:ahLst/>
            <a:rect l="l" t="t" r="r" b="b"/>
            <a:pathLst>
              <a:path w="2057400" h="1600200">
                <a:moveTo>
                  <a:pt x="0" y="400050"/>
                </a:moveTo>
                <a:lnTo>
                  <a:pt x="685794" y="400043"/>
                </a:lnTo>
                <a:lnTo>
                  <a:pt x="1028700" y="0"/>
                </a:lnTo>
                <a:lnTo>
                  <a:pt x="1371606" y="400043"/>
                </a:lnTo>
                <a:lnTo>
                  <a:pt x="2057400" y="400050"/>
                </a:lnTo>
                <a:lnTo>
                  <a:pt x="1714511" y="800100"/>
                </a:lnTo>
                <a:lnTo>
                  <a:pt x="2057400" y="1200150"/>
                </a:lnTo>
                <a:lnTo>
                  <a:pt x="1371606" y="1200157"/>
                </a:lnTo>
                <a:lnTo>
                  <a:pt x="1028700" y="1600200"/>
                </a:lnTo>
                <a:lnTo>
                  <a:pt x="685794" y="1200157"/>
                </a:lnTo>
                <a:lnTo>
                  <a:pt x="0" y="1200150"/>
                </a:lnTo>
                <a:lnTo>
                  <a:pt x="342889" y="800100"/>
                </a:lnTo>
                <a:lnTo>
                  <a:pt x="0" y="4000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ای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457200" y="420840"/>
            <a:ext cx="8156520" cy="110952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8A99-0E16-47B0-B099-85FDBC7AB56B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86000" y="2133720"/>
            <a:ext cx="4191120" cy="3429000"/>
          </a:xfrm>
          <a:prstGeom prst="triangle">
            <a:avLst>
              <a:gd name="adj" fmla="val 4980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19360" y="5540400"/>
            <a:ext cx="16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7c4b3b"/>
                </a:solidFill>
                <a:latin typeface="Arial"/>
                <a:cs typeface="Zar"/>
              </a:rPr>
              <a:t>جامع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rot="3415200">
            <a:off x="4145400" y="3097800"/>
            <a:ext cx="260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7c4b3b"/>
                </a:solidFill>
                <a:latin typeface="Arial"/>
                <a:cs typeface="Zar"/>
              </a:rPr>
              <a:t>مكان (محيط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rot="18187200">
            <a:off x="2178000" y="3065760"/>
            <a:ext cx="168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4b3b"/>
                </a:solidFill>
                <a:latin typeface="Arial"/>
                <a:ea typeface="Zar"/>
              </a:rPr>
              <a:t> زمان</a:t>
            </a:r>
            <a:r>
              <a:rPr b="1" lang="en-US" sz="4000" spc="-1" strike="noStrike">
                <a:solidFill>
                  <a:srgbClr val="7c4b3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457200" y="1447920"/>
            <a:ext cx="8686800" cy="5410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خود ، ظرفيت ها و هويت خويش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حق تعالي ، صفات ، افعال و آيات الهي ، معارف ديني و منابع آ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پديده ها ، روابط ، رويدادها و قوانين جهان آفرينش و چگونگي برقراري ارتباط انسان با آن ها و بهره برداري بهينه از آن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روابط ، نقش ها ، حقوق و وظايف خود و افراد و اهميت آن ها در زندگي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گذشته و حال جوامع بشري به ويژه فرهنگ و تمدن اسلام و اير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آشنايي با ويژگي هاي نظام مردم سالاري ديني و جايگاه و رسالت جهاني ايران اسلام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آشنايي با روش هاي رمز گشايي پديده ها و رمزگرداني آن ها و ابزار آن به زبان زيباشناسي و هن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4E1-4159-4703-BE85-69F659F4A0D9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315200" y="304920"/>
            <a:ext cx="1219320" cy="1295280"/>
          </a:xfrm>
          <a:custGeom>
            <a:avLst/>
            <a:gdLst/>
            <a:ahLst/>
            <a:rect l="l" t="t" r="r" b="b"/>
            <a:pathLst>
              <a:path w="1219200" h="1295400">
                <a:moveTo>
                  <a:pt x="0" y="323850"/>
                </a:moveTo>
                <a:lnTo>
                  <a:pt x="406397" y="323845"/>
                </a:lnTo>
                <a:lnTo>
                  <a:pt x="609600" y="0"/>
                </a:lnTo>
                <a:lnTo>
                  <a:pt x="812803" y="323845"/>
                </a:lnTo>
                <a:lnTo>
                  <a:pt x="1219200" y="323850"/>
                </a:lnTo>
                <a:lnTo>
                  <a:pt x="1016007" y="647700"/>
                </a:lnTo>
                <a:lnTo>
                  <a:pt x="1219200" y="971550"/>
                </a:lnTo>
                <a:lnTo>
                  <a:pt x="812803" y="971555"/>
                </a:lnTo>
                <a:lnTo>
                  <a:pt x="609600" y="1295400"/>
                </a:lnTo>
                <a:lnTo>
                  <a:pt x="406397" y="971555"/>
                </a:lnTo>
                <a:lnTo>
                  <a:pt x="0" y="971550"/>
                </a:lnTo>
                <a:lnTo>
                  <a:pt x="203193" y="647700"/>
                </a:lnTo>
                <a:lnTo>
                  <a:pt x="0" y="3238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ع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304560" y="1554120"/>
            <a:ext cx="8839080" cy="461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مل به آموزه هاي ديني و انجام آگاهانه و مومنانه واجبات و محرمات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ظرفيت هاي وجودي خود براي دست يابي به هويت متعادل و يكپارچه در مسير رشد و تعالي خود و جامعه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آداب و مهارت ها و سبك زندگي اسلامي – ايرا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فناوري اطلاعات و ارتباطات در كار و زندگ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ره گيري از مهارت هاي پايه براي شكل دهي هويت حرفه اي آينده خود به صورت مولد كارآفري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ره گيري آگاهانه از يافته هاي علمي ، هنري ، فني ، حرفه اي و بهداشتي و زيستي و تلاش موثر براي توليد وتوسعه آن ها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حفظ و تعالي محيط زيست ، ميراث فرهنگي و سرمايه هاي طبيع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مهارت هاي زبان و ادبيات فارسي و زبان عربي به عنوان زبان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مهارت هاي يك زبان خارجي در چارچوب بخش انتخاب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 نيمه تجويزي ) با رعايت اصل تثبيت و تقويت هويت اسلامي – ايرا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A7CF-DBE1-4A91-A0D5-51A1C8944D1D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238880" y="152280"/>
            <a:ext cx="1524240" cy="1143000"/>
          </a:xfrm>
          <a:custGeom>
            <a:avLst/>
            <a:gdLst/>
            <a:ahLst/>
            <a:rect l="l" t="t" r="r" b="b"/>
            <a:pathLst>
              <a:path w="1524000" h="1143000">
                <a:moveTo>
                  <a:pt x="0" y="285750"/>
                </a:moveTo>
                <a:lnTo>
                  <a:pt x="507996" y="285745"/>
                </a:lnTo>
                <a:lnTo>
                  <a:pt x="762000" y="0"/>
                </a:lnTo>
                <a:lnTo>
                  <a:pt x="1016004" y="285745"/>
                </a:lnTo>
                <a:lnTo>
                  <a:pt x="1524000" y="285750"/>
                </a:lnTo>
                <a:lnTo>
                  <a:pt x="1270008" y="571500"/>
                </a:lnTo>
                <a:lnTo>
                  <a:pt x="1524000" y="857250"/>
                </a:lnTo>
                <a:lnTo>
                  <a:pt x="1016004" y="857255"/>
                </a:lnTo>
                <a:lnTo>
                  <a:pt x="762000" y="1143000"/>
                </a:lnTo>
                <a:lnTo>
                  <a:pt x="507996" y="857255"/>
                </a:lnTo>
                <a:lnTo>
                  <a:pt x="0" y="857250"/>
                </a:lnTo>
                <a:lnTo>
                  <a:pt x="253992" y="571500"/>
                </a:lnTo>
                <a:lnTo>
                  <a:pt x="0" y="2857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رعايت تقوي الهي در تمام شئون زندگي فردي و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متعهد به ارزش هاي اخلاقي از جمله ، صدق ، صبر ، احسان و رأفت ، حسن خلق ، حيا ، شجاعت ، خويشتن داري ، قدرشناسي ، رضا ، عدالت ، قناعت ، نوع دوستي ، تكريم والدين ومعلم در شئون ومناسبات فردي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 قائل شدن براي كار و معاش حلال و داشتن روحيه تلاش مستم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مند داشتن عالم ، علم آموزي و يادگيري مادام العم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قدم بخشيدن  به منافع ملي بر گروهي ومنافع جمعي بر فرد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 قائل شدن براي مخلوقات هستي و محيط زیست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لتزام به اصول و ارزش هاي اخلاقي در استفاده از علوم و فناوري هاي نوي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6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790B-3B70-47F9-B328-CD957EB03F2E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315200" y="0"/>
            <a:ext cx="1447920" cy="1219320"/>
          </a:xfrm>
          <a:custGeom>
            <a:avLst/>
            <a:gdLst/>
            <a:ahLst/>
            <a:rect l="l" t="t" r="r" b="b"/>
            <a:pathLst>
              <a:path w="1447800" h="1219200">
                <a:moveTo>
                  <a:pt x="0" y="304800"/>
                </a:moveTo>
                <a:lnTo>
                  <a:pt x="482596" y="304795"/>
                </a:lnTo>
                <a:lnTo>
                  <a:pt x="723900" y="0"/>
                </a:lnTo>
                <a:lnTo>
                  <a:pt x="965204" y="304795"/>
                </a:lnTo>
                <a:lnTo>
                  <a:pt x="1447800" y="304800"/>
                </a:lnTo>
                <a:lnTo>
                  <a:pt x="1206508" y="609600"/>
                </a:lnTo>
                <a:lnTo>
                  <a:pt x="1447800" y="914400"/>
                </a:lnTo>
                <a:lnTo>
                  <a:pt x="965204" y="914405"/>
                </a:lnTo>
                <a:lnTo>
                  <a:pt x="723900" y="1219200"/>
                </a:lnTo>
                <a:lnTo>
                  <a:pt x="482596" y="914405"/>
                </a:lnTo>
                <a:lnTo>
                  <a:pt x="0" y="914400"/>
                </a:lnTo>
                <a:lnTo>
                  <a:pt x="241292" y="609600"/>
                </a:lnTo>
                <a:lnTo>
                  <a:pt x="0" y="304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اخلا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 txBox="1"/>
          <p:nvPr/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9360">
            <a:solidFill>
              <a:srgbClr val="f3cd6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d2a010"/>
                </a:solidFill>
                <a:latin typeface="Franklin Gothic Book"/>
                <a:cs typeface="Tahoma"/>
              </a:rPr>
              <a:t>هدف شماره 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1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 مطالعات اجتماع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تعقل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درك وجود خود ، نيازها ، توانمندي ها ، ظرفيت ها و ابعاد هويت متعالي خوي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لم 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خود ، ظرفيت ها و هويت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خويش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9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4CCA-D8E7-462A-8C88-92EF3B2B14AE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231840" y="139680"/>
            <a:ext cx="878364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04920" y="304920"/>
            <a:ext cx="86868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d2a010"/>
                </a:solidFill>
                <a:latin typeface="Franklin Gothic Book"/>
                <a:cs typeface="Tahoma"/>
              </a:rPr>
              <a:t>هدف شماره 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تعقل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صير نسبت به آثار و پيامدهاي سبك زندگي خود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لم 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پديده ها ، روابط ، رويدادهاو قوانين جهان آفرينش و چگونگي برقراري ارتباط انسان با آن ها و بهره برداري بهينه از آنان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مل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آداب و مهارت ها و سبك زندگي اسلامي – ايراني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2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1235160" y="457200"/>
            <a:ext cx="6750000" cy="601668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  <a:ea typeface="B Titr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1981080"/>
            <a:ext cx="464832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rial"/>
                <a:cs typeface="B Titr"/>
              </a:rPr>
              <a:t>با سپاس </a:t>
            </a:r>
            <a:br>
              <a:rPr sz="3400"/>
            </a:br>
            <a:r>
              <a:rPr b="1" lang="hi-IN" sz="3400" spc="-1" strike="noStrike">
                <a:solidFill>
                  <a:srgbClr val="000000"/>
                </a:solidFill>
                <a:latin typeface="Arial"/>
                <a:cs typeface="B Titr"/>
              </a:rPr>
              <a:t>موفق و پیروز باشید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B Titr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79200" y="79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6C7D-41E8-46EB-BB05-4AD7DDFF0F8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38680" y="1219320"/>
            <a:ext cx="3276720" cy="51814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مطالعات اجتماع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B Zar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يك حوزه ي يادگيري اصلي که مفاهيم اصلي خود را از ائتلاف رشته هاي گوناگون به ويژه جغرافيا؛ تاريخ و علوم اجتماعي اخذ می ک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4889520" cy="55659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231840" y="0"/>
            <a:ext cx="9375840" cy="12193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 txBox="1"/>
          <p:nvPr/>
        </p:nvSpPr>
        <p:spPr>
          <a:xfrm>
            <a:off x="152280" y="1295280"/>
            <a:ext cx="8839440" cy="5029200"/>
          </a:xfrm>
          <a:prstGeom prst="rect">
            <a:avLst/>
          </a:prstGeom>
          <a:solidFill>
            <a:srgbClr val="f3cd60"/>
          </a:solidFill>
          <a:ln w="9360">
            <a:solidFill>
              <a:srgbClr val="f3cd60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ربيت اجتماعي؛ تربيت شهروند مطلوب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پرورش مهارت هاي زندگي فردي واجتماعي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هويت بخشي: ايجاد تعلق و علاقه به وطن و حفظ كشور؛ شناخت منابع و استعدادهاي آن و انتقال ميراث فرهنگي و مشاركت اجتماع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دروني سازي ارزش هاي اخلاقي و پيشگيري از آسيب هاي اجتماع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فكر انتقادي و نقادي اجتماعي و فرهنگي بر مبناي ملاك هاي اعتقادي دين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"/>
          <p:cNvSpPr/>
          <p:nvPr/>
        </p:nvSpPr>
        <p:spPr>
          <a:xfrm>
            <a:off x="8534520" y="6858000"/>
            <a:ext cx="1218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949-3EC3-48FB-A5FF-F322D87B0BEA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457200" y="384120"/>
            <a:ext cx="8454960" cy="100656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0ED4-9ED6-49BD-B8E9-304411FD3D39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1523880"/>
            <a:ext cx="8534160" cy="4953240"/>
          </a:xfrm>
          <a:prstGeom prst="rect">
            <a:avLst/>
          </a:prstGeom>
          <a:solidFill>
            <a:srgbClr val="f3cd60"/>
          </a:solidFill>
          <a:ln w="255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 indent="4180320" algn="r" rtl="1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قويت عزت و هويت اسلامي – ايراني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رويج و دروني سازي اخلاق و ارزش هاي اسلام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شناخت حقوق و مسئوليت هاي فردي و اجتماع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شناخت ميراث فرهنگي كشور؛ استعدادها و قابليت هاي آ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گسترش بهداشت رواني و مقابله با آسيب هاي اجتماعي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قويت روحيه خود باوري؛ نشاط و اميد به آيند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-30240" y="457200"/>
            <a:ext cx="9210600" cy="9381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877C-E63D-4DF8-82EE-888AE748DE6F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3"/>
          <a:stretch/>
        </p:blipFill>
        <p:spPr>
          <a:xfrm>
            <a:off x="719280" y="4449600"/>
            <a:ext cx="1628640" cy="1778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>
            <a:off x="2971800" y="4572000"/>
            <a:ext cx="4076640" cy="190512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5"/>
          <a:stretch/>
        </p:blipFill>
        <p:spPr>
          <a:xfrm>
            <a:off x="609480" y="1752480"/>
            <a:ext cx="1847880" cy="247680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6"/>
          <a:stretch/>
        </p:blipFill>
        <p:spPr>
          <a:xfrm>
            <a:off x="5638680" y="1981080"/>
            <a:ext cx="12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7"/>
          <a:stretch/>
        </p:blipFill>
        <p:spPr>
          <a:xfrm>
            <a:off x="2819520" y="19810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7162920" y="1752480"/>
            <a:ext cx="1904760" cy="46483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مهارت هاي زندگي فردي و اجتماع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Titr"/>
              </a:rPr>
              <a:t>جهت گيري كلي در سازماندهي محتوا و آموزش حوزه مطالعات اجتماعي در برنامه درسي ملي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اپايان دوره ابتدايي و متوسطه اول:                        در دوره دوم متوسطه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e3b30"/>
                </a:solidFill>
                <a:latin typeface="Franklin Gothic Book"/>
                <a:ea typeface="B Zar"/>
              </a:rPr>
              <a:t>                                                                          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لفيقي                                        نيمه تخصصي و دروس مستقل      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8941-1B53-4D15-835D-49B6E49EDDD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53080" y="3048120"/>
            <a:ext cx="1067040" cy="1371600"/>
          </a:xfrm>
          <a:prstGeom prst="downArrow">
            <a:avLst>
              <a:gd name="adj1" fmla="val -157139"/>
              <a:gd name="adj2" fmla="val 16526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3048120"/>
            <a:ext cx="1067040" cy="1371600"/>
          </a:xfrm>
          <a:prstGeom prst="downArrow">
            <a:avLst>
              <a:gd name="adj1" fmla="val -157139"/>
              <a:gd name="adj2" fmla="val 16526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eeDownloadPowerpoint.Com</dc:creator>
  <dc:description/>
  <dc:language>en-US</dc:language>
  <cp:lastModifiedBy/>
  <dcterms:modified xsi:type="dcterms:W3CDTF">2010-12-28T09:29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