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80.wmf" ContentType="image/x-wmf"/>
  <Override PartName="/ppt/media/image56.png" ContentType="image/png"/>
  <Override PartName="/ppt/media/image55.jpeg" ContentType="image/jpeg"/>
  <Override PartName="/ppt/media/image54.png" ContentType="image/png"/>
  <Override PartName="/ppt/media/image76.jpeg" ContentType="image/jpeg"/>
  <Override PartName="/ppt/media/image53.png" ContentType="image/png"/>
  <Override PartName="/ppt/media/image50.png" ContentType="image/png"/>
  <Override PartName="/ppt/media/image104.wmf" ContentType="image/x-wmf"/>
  <Override PartName="/ppt/media/image51.png" ContentType="image/png"/>
  <Override PartName="/ppt/media/image4.jpeg" ContentType="image/jpeg"/>
  <Override PartName="/ppt/media/image49.wmf" ContentType="image/x-wmf"/>
  <Override PartName="/ppt/media/image89.gif" ContentType="image/gif"/>
  <Override PartName="/ppt/media/image48.png" ContentType="image/png"/>
  <Override PartName="/ppt/media/image47.wmf" ContentType="image/x-wmf"/>
  <Override PartName="/ppt/media/image45.png" ContentType="image/png"/>
  <Override PartName="/ppt/media/image42.gif" ContentType="image/gif"/>
  <Override PartName="/ppt/media/image44.jpeg" ContentType="image/jpeg"/>
  <Override PartName="/ppt/media/image38.png" ContentType="image/png"/>
  <Override PartName="/ppt/media/image43.jpeg" ContentType="image/jpeg"/>
  <Override PartName="/ppt/media/image28.png" ContentType="image/png"/>
  <Override PartName="/ppt/media/image93.png" ContentType="image/png"/>
  <Override PartName="/ppt/media/image37.png" ContentType="image/png"/>
  <Override PartName="/ppt/media/image33.jpeg" ContentType="image/jpeg"/>
  <Override PartName="/ppt/media/image31.png" ContentType="image/png"/>
  <Override PartName="/ppt/media/image30.jpeg" ContentType="image/jpeg"/>
  <Override PartName="/ppt/media/image11.gif" ContentType="image/gif"/>
  <Override PartName="/ppt/media/image14.png" ContentType="image/png"/>
  <Override PartName="/ppt/media/image2.png" ContentType="image/png"/>
  <Override PartName="/ppt/media/image10.jpeg" ContentType="image/jpeg"/>
  <Override PartName="/ppt/media/image5.wmf" ContentType="image/x-wmf"/>
  <Override PartName="/ppt/media/image27.jpeg" ContentType="image/jpeg"/>
  <Override PartName="/ppt/media/image111.png" ContentType="image/png"/>
  <Override PartName="/ppt/media/image7.gif" ContentType="image/gif"/>
  <Override PartName="/ppt/media/image84.gif" ContentType="image/gif"/>
  <Override PartName="/ppt/media/image87.png" ContentType="image/png"/>
  <Override PartName="/ppt/media/image41.gif" ContentType="image/gif"/>
  <Override PartName="/ppt/media/image75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88.jpeg" ContentType="image/jpeg"/>
  <Override PartName="/ppt/media/image36.png" ContentType="image/png"/>
  <Override PartName="/ppt/media/image6.png" ContentType="image/png"/>
  <Override PartName="/ppt/media/image18.png" ContentType="image/png"/>
  <Override PartName="/ppt/media/image39.gif" ContentType="image/gif"/>
  <Override PartName="/ppt/media/image9.gif" ContentType="image/gif"/>
  <Override PartName="/ppt/media/image52.png" ContentType="image/png"/>
  <Override PartName="/ppt/media/image13.gif" ContentType="image/gif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9.png" ContentType="image/png"/>
  <Override PartName="/ppt/media/image25.jpeg" ContentType="image/jpeg"/>
  <Override PartName="/ppt/media/image32.png" ContentType="image/png"/>
  <Override PartName="/ppt/media/image71.png" ContentType="image/png"/>
  <Override PartName="/ppt/media/image29.png" ContentType="image/png"/>
  <Override PartName="/ppt/media/image73.png" ContentType="image/png"/>
  <Override PartName="/ppt/media/image70.png" ContentType="image/png"/>
  <Override PartName="/ppt/media/image64.jpeg" ContentType="image/jpeg"/>
  <Override PartName="/ppt/media/image77.jpeg" ContentType="image/jpeg"/>
  <Override PartName="/ppt/media/image90.png" ContentType="image/png"/>
  <Override PartName="/ppt/media/image99.jpeg" ContentType="image/jpeg"/>
  <Override PartName="/ppt/media/image92.png" ContentType="image/png"/>
  <Override PartName="/ppt/media/image101.png" ContentType="image/png"/>
  <Override PartName="/ppt/media/image109.png" ContentType="image/png"/>
  <Override PartName="/ppt/media/image112.wmf" ContentType="image/x-wmf"/>
  <Override PartName="/ppt/media/image21.jpeg" ContentType="image/jpeg"/>
  <Override PartName="/ppt/media/image65.png" ContentType="image/png"/>
  <Override PartName="/ppt/media/image94.jpeg" ContentType="image/jpeg"/>
  <Override PartName="/ppt/media/image105.png" ContentType="image/png"/>
  <Override PartName="/ppt/media/image61.png" ContentType="image/png"/>
  <Override PartName="/ppt/media/image19.png" ContentType="image/png"/>
  <Override PartName="/ppt/media/image107.png" ContentType="image/png"/>
  <Override PartName="/ppt/media/image63.png" ContentType="image/png"/>
  <Override PartName="/ppt/media/image83.gif" ContentType="image/gif"/>
  <Override PartName="/ppt/media/image86.png" ContentType="image/png"/>
  <Override PartName="/ppt/media/image106.png" ContentType="image/png"/>
  <Override PartName="/ppt/media/image62.png" ContentType="image/png"/>
  <Override PartName="/ppt/media/image103.png" ContentType="image/png"/>
  <Override PartName="/ppt/media/image96.png" ContentType="image/png"/>
  <Override PartName="/ppt/media/image102.png" ContentType="image/png"/>
  <Override PartName="/ppt/media/image78.png" ContentType="image/png"/>
  <Override PartName="/ppt/media/image8.gif" ContentType="image/gif"/>
  <Override PartName="/ppt/media/image85.gif" ContentType="image/gif"/>
  <Override PartName="/ppt/media/image100.png" ContentType="image/png"/>
  <Override PartName="/ppt/media/image97.wmf" ContentType="image/x-wmf"/>
  <Override PartName="/ppt/media/image20.png" ContentType="image/png"/>
  <Override PartName="/ppt/media/image57.png" ContentType="image/png"/>
  <Override PartName="/ppt/media/image68.jpeg" ContentType="image/jpeg"/>
  <Override PartName="/ppt/media/image108.png" ContentType="image/png"/>
  <Override PartName="/ppt/media/image79.wmf" ContentType="image/x-wmf"/>
  <Override PartName="/ppt/media/image22.jpeg" ContentType="image/jpeg"/>
  <Override PartName="/ppt/media/image72.png" ContentType="image/png"/>
  <Override PartName="/ppt/media/image110.jpeg" ContentType="image/jpeg"/>
  <Override PartName="/ppt/media/image60.png" ContentType="image/png"/>
  <Override PartName="/ppt/media/image23.jpeg" ContentType="image/jpeg"/>
  <Override PartName="/ppt/media/image26.png" ContentType="image/png"/>
  <Override PartName="/ppt/media/image91.png" ContentType="image/png"/>
  <Override PartName="/ppt/media/image95.png" ContentType="image/png"/>
  <Override PartName="/ppt/media/image24.jpeg" ContentType="image/jpeg"/>
  <Override PartName="/ppt/media/image59.png" ContentType="image/png"/>
  <Override PartName="/ppt/media/image17.png" ContentType="image/png"/>
  <Override PartName="/ppt/media/image98.jpeg" ContentType="image/jpeg"/>
  <Override PartName="/ppt/media/image82.png" ContentType="image/png"/>
  <Override PartName="/ppt/media/image1.jpeg" ContentType="image/jpeg"/>
  <Override PartName="/ppt/media/image35.jpeg" ContentType="image/jpeg"/>
  <Override PartName="/ppt/media/image15.png" ContentType="image/png"/>
  <Override PartName="/ppt/media/image3.png" ContentType="image/png"/>
  <Override PartName="/ppt/media/image40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dt" idx="58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ftr" idx="59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 type="sldNum" idx="60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73FA-9CBE-4E2B-AA09-7D1F7A654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3E65C5F3-AD2B-46C0-9F83-C45EE7A0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BE5CD7EB-C376-4966-B27B-D10E4EC1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fld id="{D60A07A2-1FB7-41CF-ADB1-34DEDA746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97F1-851C-4651-B4DD-F91616D0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B16-5378-4EC5-AAF2-F3B7BD90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710A1-BD15-4ED5-B658-60E97D5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EAC99-43DE-410C-98E1-E4422225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E6ADE-0085-4C50-AD1D-C3B15FAB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CE802-264F-40E2-9F0F-D421C99A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78C65-9B3E-4EFE-81E0-0650023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79E56-1721-4F6C-8034-A0A5363F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3AD71-F123-4C2B-A69A-36002832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0DB4B-421A-4B08-9E8A-FEB52B37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4D2D3-A65A-4DCC-A97B-3557A51B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236E-B7F9-4F61-B168-E6664373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33B-2833-48D4-A78A-18D4DC3C6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14A94-7FB5-47DB-89F5-F4F2D37E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BD819-3E9D-4878-BBCB-FCA2788B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7154B-06D8-4583-8197-08F7BC59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54F02-33C0-4390-8B66-D185D6AF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98C80-05DF-4548-B9A1-5BCF9A6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D1C25-322E-403D-9F8B-9963F267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5D4B4-CA36-404B-A00C-ACF758C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7F2D5-B82E-47D2-ADC6-326E5E44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051F5-D119-4AC4-B5C6-4185AC04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B0762-4982-4AC6-86E0-9493F0F8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5A9-6C4E-4D6E-9EC2-B4497581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732F1-4143-410B-82D0-077DD430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0F52C-2E50-4640-A3E7-9919B229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E8DF9-3DC4-4868-B884-9800B7B4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F1F7-6D15-4E77-812E-6F07F1BF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D233B-914C-4B5F-9D2F-A9B2ACE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4EDAD-F1F9-4AB9-B81E-9AABAD6E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3334F-C656-4140-8205-02FBF440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C1F0B-5BA2-4C04-9B73-B1A2ACE5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A831B-5A12-42E8-9139-8A3223E6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F7FF4-57CA-4008-BACA-875E43E9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9AD3-30EF-40C6-B104-C0B84045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51CF-15C2-4822-81EB-B7CF792C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5F0F3-34C6-4910-9CF1-0202A647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D6593-5F2A-4A97-BFE6-53AAC40CD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BA6E7-ACAB-4DD5-BD3C-3169069E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925A7-8F78-4602-A23F-9FD514D3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F5C0B-5A63-4979-AE49-5D1315F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85980-99C7-4A83-8173-EE88A541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533BA-4B75-470D-A8B2-AF2B6C90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85C32-8A01-411D-80DA-35274A4A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A8C9-258B-4EDA-AB8E-399213EA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F1B-A230-45B5-8786-25056D50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E7B23-995E-4768-8F92-48BEE130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A00E5-FAE1-46C6-8C9B-2CE2453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5CE6B-DF15-4FF2-9691-8BFBCCE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EFBD-C790-476F-B204-9CBE4AC1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6E8D3-31A3-4218-A052-7C2BB18D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6E162A-7D8D-4749-B4D7-2C086265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51EAB-DCEB-4D54-9341-EFE64233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23711-B6F9-4328-89BD-A411F6E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AB258-8617-4C8E-A57E-01F671FD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AEB8A-3A7E-4FDB-A605-FCC678B0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5F6E-2A63-4199-9566-3A96E435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04F1C-9B9A-409D-96AF-C9B0CB6F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049E7-38D5-463C-9759-72D5B3BB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25190-33BC-4E11-BBF6-D454698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D79E8-64FD-47C8-9DB3-FECD8A81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EE6ED-0988-4123-8EDF-9798C25B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3B835-1109-45E7-BAA4-7FB9091B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FDA3C0-A531-4B1A-869B-EEBDB6A5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B6EE4-EF04-4FAE-8044-283503EF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3FFCA-01F1-427B-8C0A-72076E54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01953-FABD-44D0-86DE-F6574C9E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CF33-AE1B-4184-86FF-E28E01D9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17731-5019-4ECC-9C3E-EE047C7C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1633D-D30F-4142-8F51-4F3F6EA9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3B447-3655-425A-943D-598C699E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6EF467-C612-4721-A7D7-729CEFF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4C608-66CD-4DCC-8D2B-FC72D912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A08D45-D0FA-4F99-95BE-E480AC95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8A7C5-DD7A-499F-8CA5-23257757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CA98CF-BFDC-449C-ABF8-F39CEE0F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5238E-4F3A-4A55-8FA9-F50A4582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8A1A53-D4EC-4474-9CFC-A0C8FD84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ED5-92FE-40C0-830C-A43A6250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64BFC3-BFF2-431F-8481-B677E89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0BB00-DB9D-4121-B94C-4BABEFD8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BD3C4-A711-463F-A844-4C603A3F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5F388-8659-4258-B386-67932A2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71D00-C112-467F-895A-FCE7606D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08929-6615-454D-970D-0FF7C06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50AC6-3C4B-4563-BE41-C9FCD925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BA0A3-F2BE-421E-8BB0-7A91A35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29DE1-E669-4ECA-87D4-B1D6638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633C6-BD38-455F-B675-51C00978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369-6A67-4394-AABD-DF288067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C4DFB-7733-4B93-99B4-8C40217B5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E6D40-ED8F-45E4-8F5D-490B5857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AF66C-E3E9-45CF-9E46-1DB13E2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F5432-7BBC-4BF6-8F8B-31291F17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37E55-9997-46D7-9B4A-E3F5373A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FBE52-7901-4CE3-B848-758CA79E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D5EC7-0125-460E-8A97-39A385A9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46EF0-9C91-48C8-8E6F-67C5970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45FC8-7500-4FE2-A2B2-CABB0EE5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62C61D-0181-4F0F-B813-AD0FB90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B23B-B3CE-4A4D-9252-C3F73A3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6AFA59-79DB-4B14-8999-D62B535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874EC8-0C74-4111-AB20-BA9D0C69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33FE4-FCC8-4AEF-8FB0-B4E89963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9FAD2-2CCC-42FE-B568-AB368DB4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85B0B-E66E-4796-AC38-009460A0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D28F82-C0B5-4DEF-9240-A33B3C84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BC2F9-C695-4220-BFA0-B1DCEA17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C115B8-804B-4883-A92D-03028FF4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240E0-8A7C-472D-A75D-0D752B6A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523DF-A264-4110-9F54-95B07F3B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89B-E32E-4897-BB40-A54C2F72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E1B1-A2D2-46B2-A2B4-D130CB96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4BC71B-DE97-4671-AB87-ADF97D79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FDA853-27EC-4449-A459-A423CE94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29259-62AD-4012-B820-C85C1C0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2C063C-5E1B-4CC3-A523-7E10AA75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2396A9-37C1-43AA-918A-0527D2B8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D4C1F8-4C0E-4F49-91E5-BBAA5029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4B4D37-5A73-455B-91E2-CC731483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E6691-091D-4D9F-AC32-6E81BF5C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277B6-487E-4CE9-A4EA-D0D37A1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EBB29-DBAC-486F-8B92-BC08F19C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1206-0A28-491E-B053-B61C713F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E6EF8-CE7B-4824-ADB9-D4FFB125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78466-E556-491B-903A-B90DBDA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60312-C9A1-427D-A7C2-B37485D7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85FB1-1441-46BE-9A7D-D24AEFEA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A428A-778A-495D-BAC7-056A805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93299E-67AE-4E21-937C-048B3377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E5BBC-D601-4D59-A6B3-72222399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97A99-FB8A-4349-AE07-77C75B30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490A9-217F-4830-A3BB-5FAC2371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09FDB-9E87-4B38-8FDF-62AFF210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6F15-751E-4658-9789-45F9D2C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3A57A2-D80F-4DCF-9F52-8F461C70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6611D8-EE7F-4BC1-BF87-C1B45718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3138E-7889-48F4-8A86-FC1C6AD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F36B1E-FC97-4C4A-A46A-66E1C76B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9DC8D-ACB7-41CF-B171-B11035E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F75297-5CD1-4E83-A9A7-85CAE5C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22829-8734-41A3-9F6C-B3064240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0632F-20E5-4593-A06F-A8432E9B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AFD72-5010-4160-A299-BE61EBFC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94A6-AD1F-485D-9DD9-341366AE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1579-D8D4-44F9-8630-BAD5777B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9916-8BBE-480C-80F0-B52953A9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47F71-B556-468A-8833-4EDFF14E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147F-BE2C-4930-9234-CE5051E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90C9-B5C5-4B50-80A2-8FB396D1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8C8B-96C5-4705-BE1A-0672C4F9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FBD-2DC5-4734-B214-A9A043F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7504-A151-4798-BE12-FFA9D96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8AF3-870F-472E-9B80-A454D4D5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B052A-EDAA-42F2-93EF-D9FADC2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F3B7E-4E62-410B-B0A9-19B488D3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6CC0-AABC-4E1F-83FE-302DA16E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9602D-299F-4853-AAB2-5B80DB78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A57FA-0848-4C43-B41F-B658A0B4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9A58D-7D35-42A3-B126-A5C5A5CD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491A0-710C-4744-91C6-2AA9BA6D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6608-34F6-4047-9417-4C82804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EAD-EDEE-47A9-94A7-295A549A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A637A-7F5D-4212-A2BE-4EB816B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2D05-1DB5-4912-B06C-F88C0D6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90345-D488-4C84-83EA-6E89E995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DAB15-6ED2-416D-AF14-04E9469F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8F137-FE0C-4927-A1CE-F972F473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C45B-1FC5-49EB-94CB-BCAC51F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BBE9-1317-4902-84C9-40399410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85A1-7E89-4865-8B38-A36A1681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77E2-1921-4F95-9A83-5428202E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BDE9F-ED37-4150-A2F2-CC57C350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726-D2F3-4920-811B-EECA171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56F96-B07D-4C3F-B279-95F3CC7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7BDC-E977-4572-BBDA-2C7F436E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3C01A-2EB6-4AB5-8558-D0C32872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6656F-E809-4F03-83F7-46725D28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8575-0F76-420D-9385-56730D7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ED7B6-2C11-427B-99AC-29DF586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3284E-67C0-451C-A4CA-1EFA9583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9FC93-D139-4582-A366-E665D0EE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C18E-A3E6-4948-87C4-79E30903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7A0CC-D2C5-4036-A039-844F6B1E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964-2FBE-46B6-A2FB-E2986E51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77AA6-F2D5-45A6-9F8C-EFF0D9F8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9169-E900-4FF8-B5BC-12BF6B64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03E6A-EEA0-446F-A96C-E77E37AC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4CCC6-86FD-4DB3-8933-2009D441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54CF-5276-42EF-8DF6-6D32C296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097A7-1D9F-43EF-8842-A22D4CE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A300-DF23-4F1C-A83D-F93137E6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E7211-CEE7-4E18-95EF-86DDDDE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38836-B36B-416C-853E-B6F2BD2E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41FD-AE06-4D65-A8D5-E52111B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1BD-D59C-4BCD-AD94-BDD6A13E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20C93-CDF7-426B-8FE6-F67DFF21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59AD2-4BFD-4B95-988A-65CC9A8B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1369-00DA-4C4E-8C84-7317DCB2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AA47-5231-4BCF-9C2F-8CF71490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EE5E-1FE0-4165-BB97-9BE33547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AC52A-38AE-4EDC-A152-8E4BE0C5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9CF8-4BC8-441A-900C-CE1C6AD7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FD3BA-CCC3-4040-9AD2-A7D8AAE9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92B0D-822C-4061-B8D5-140E10A6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DEB6B-55F6-46BB-903F-86FC5620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720-8D5F-4A96-A9DE-DBC23850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7ADFB-77B8-49C0-A334-B6582A49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DF0A3-0092-4D99-8D58-C0E7E138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90811-C80C-4C5F-88C3-EEC312CE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6A774-B4E0-4236-8276-ED89C7FC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5E945-8E55-4A4C-9C2D-76797CD0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A09C5-2040-4490-BE3B-0811FEF6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AA764-A94F-4080-9288-0A6DBF7B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A69F6-CB19-47C2-88A4-B3D62BAA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D312B-5BA6-4EF6-93F5-F63914B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7D18-E88A-4232-B134-573677CD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297-ED64-43B8-B1DC-23E084E1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EB229-9013-4DE6-A0AB-8C5A5CE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3015A-B283-4B69-BA66-227D9B04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A59BF-8215-47C6-89EC-F699E432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D19FD-8D7B-46B6-A1D6-34068E6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9D9E6-53A9-45A6-A28D-8BCB2D1C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9E7F6-6078-4124-8E02-F7868F25B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EB13E-CF38-499C-A015-AAA6B861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730B4-6B5B-4719-867F-6DDEFCD0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983AF-D2B5-414B-97BD-CE91A32E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6D34F-6A62-4B39-AF57-A9CED6B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D869-BCEF-40F0-A061-CB752D0FE23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165F-FB11-4A86-A1E1-1AAF75129D8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5083-423B-4F4A-871B-33F19F9E5A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418F-42A0-4469-AAB1-6157D9948B3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AC27-2834-4E8B-94B5-BC824BE936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D465-32FF-4326-B40B-48BA36C959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5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5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0F87-4B32-4B6E-9D77-55FC7B2F6D6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41B2-B100-46AE-A93A-AA91C559A3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6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6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F455-8352-430F-9D1A-71497E3D68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5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B4E1-E11C-4D34-A3B1-6276BDE3EB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76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76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04" name="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1F7-9F2B-4B23-9796-72ED96D6C7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812" name="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815" name="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943F-0776-4FFE-800E-B61D0BA0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3B50-DF8F-410E-8871-195C3696DE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3C4E-5762-4C37-99D9-EAF3F9BF13C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8A8-0983-4F37-8909-826EA71224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DE27-8527-4383-A9E4-4E9BD54CE50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5B37-14EE-44D7-BF59-60C6CBEE82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3D69-A16B-4AEE-AFD2-9D61EFE43B6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3F5B-EDE8-4A16-AA24-F77EE38BA5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40.png"/><Relationship Id="rId5" Type="http://schemas.openxmlformats.org/officeDocument/2006/relationships/image" Target="../media/image41.gif"/><Relationship Id="rId6" Type="http://schemas.openxmlformats.org/officeDocument/2006/relationships/image" Target="../media/image42.gif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image" Target="../media/image11.gif"/><Relationship Id="rId8" Type="http://schemas.openxmlformats.org/officeDocument/2006/relationships/image" Target="../media/image12.jpeg"/><Relationship Id="rId9" Type="http://schemas.openxmlformats.org/officeDocument/2006/relationships/image" Target="../media/image13.gi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jpe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jpeg"/><Relationship Id="rId8" Type="http://schemas.openxmlformats.org/officeDocument/2006/relationships/image" Target="../media/image75.jpeg"/><Relationship Id="rId9" Type="http://schemas.openxmlformats.org/officeDocument/2006/relationships/image" Target="../media/image76.jpeg"/><Relationship Id="rId10" Type="http://schemas.openxmlformats.org/officeDocument/2006/relationships/image" Target="../media/image77.jpeg"/><Relationship Id="rId11" Type="http://schemas.openxmlformats.org/officeDocument/2006/relationships/image" Target="../media/image78.png"/><Relationship Id="rId12" Type="http://schemas.openxmlformats.org/officeDocument/2006/relationships/image" Target="../media/image79.wmf"/><Relationship Id="rId13" Type="http://schemas.openxmlformats.org/officeDocument/2006/relationships/image" Target="../media/image80.wmf"/><Relationship Id="rId14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gif"/><Relationship Id="rId5" Type="http://schemas.openxmlformats.org/officeDocument/2006/relationships/image" Target="../media/image84.gif"/><Relationship Id="rId6" Type="http://schemas.openxmlformats.org/officeDocument/2006/relationships/image" Target="../media/image85.gif"/><Relationship Id="rId7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88.jpeg"/><Relationship Id="rId5" Type="http://schemas.openxmlformats.org/officeDocument/2006/relationships/image" Target="../media/image89.gif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jpeg"/><Relationship Id="rId7" Type="http://schemas.openxmlformats.org/officeDocument/2006/relationships/image" Target="../media/image95.png"/><Relationship Id="rId8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4.jpeg"/><Relationship Id="rId3" Type="http://schemas.openxmlformats.org/officeDocument/2006/relationships/image" Target="../media/image96.png"/><Relationship Id="rId4" Type="http://schemas.openxmlformats.org/officeDocument/2006/relationships/image" Target="../media/image97.wmf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101.png"/><Relationship Id="rId4" Type="http://schemas.openxmlformats.org/officeDocument/2006/relationships/image" Target="../media/image102.png"/><Relationship Id="rId5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3.png"/><Relationship Id="rId3" Type="http://schemas.openxmlformats.org/officeDocument/2006/relationships/image" Target="../media/image104.wmf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jpeg"/><Relationship Id="rId3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1.png"/><Relationship Id="rId3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2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539640" y="617400"/>
            <a:ext cx="8136000" cy="5908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195120" y="-73080"/>
            <a:ext cx="8680680" cy="19749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 txBox="1"/>
          <p:nvPr/>
        </p:nvSpPr>
        <p:spPr>
          <a:xfrm>
            <a:off x="228600" y="179856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0a22e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زمان؛ تداوم و تغيير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كان و فضا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فرهنگ و هويت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نظام اجتماع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نابع و فعاليت هاي اقتصاد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264A-D678-4D84-ACEC-60B75CF75A4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3"/>
          <a:stretch/>
        </p:blipFill>
        <p:spPr>
          <a:xfrm>
            <a:off x="228600" y="1798560"/>
            <a:ext cx="3429000" cy="21686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9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10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2900"/>
                            </p:stCondLst>
                            <p:childTnLst>
                              <p:par>
                                <p:cTn id="10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000" fill="hold"/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7900"/>
                            </p:stCondLst>
                            <p:childTnLst>
                              <p:par>
                                <p:cTn id="113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5000" fill="hold"/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2900"/>
                            </p:stCondLst>
                            <p:childTnLst>
                              <p:par>
                                <p:cTn id="11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0" name="" descr=""/>
          <p:cNvPicPr/>
          <p:nvPr/>
        </p:nvPicPr>
        <p:blipFill>
          <a:blip r:embed="rId2"/>
          <a:stretch/>
        </p:blipFill>
        <p:spPr>
          <a:xfrm>
            <a:off x="146160" y="152280"/>
            <a:ext cx="8845560" cy="93348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2B5E-B796-4746-9C9F-52BCC356FD7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749160" y="1060560"/>
            <a:ext cx="8029800" cy="5340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91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742-DB75-4B63-94EA-8CCC9F2696C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3"/>
          <a:stretch/>
        </p:blipFill>
        <p:spPr>
          <a:xfrm>
            <a:off x="30492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79200" y="0"/>
            <a:ext cx="8686800" cy="100656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76320" y="838080"/>
            <a:ext cx="8991360" cy="563904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4EDA-A032-477E-8B96-473358C6E8C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2"/>
          <a:stretch/>
        </p:blipFill>
        <p:spPr>
          <a:xfrm>
            <a:off x="0" y="128520"/>
            <a:ext cx="9144000" cy="1621080"/>
          </a:xfrm>
          <a:prstGeom prst="rect">
            <a:avLst/>
          </a:prstGeom>
          <a:ln w="0">
            <a:noFill/>
          </a:ln>
        </p:spPr>
      </p:pic>
      <p:sp>
        <p:nvSpPr>
          <p:cNvPr id="920" name=""/>
          <p:cNvSpPr txBox="1"/>
          <p:nvPr/>
        </p:nvSpPr>
        <p:spPr>
          <a:xfrm>
            <a:off x="228600" y="1828440"/>
            <a:ext cx="8686800" cy="43275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رسي و كاو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شارك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برقراري ارتباط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خلاقيت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واكنش شخصي و اظهار نظر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595-AF63-4359-B360-B353E6AC970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3"/>
          <a:stretch/>
        </p:blipFill>
        <p:spPr>
          <a:xfrm>
            <a:off x="287280" y="3809880"/>
            <a:ext cx="21510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 txBox="1"/>
          <p:nvPr/>
        </p:nvSpPr>
        <p:spPr>
          <a:xfrm>
            <a:off x="-76320" y="3047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رويكرد يادگيرنده – محور با نقش تسهيل گر معل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ادگيري مادام العمر – خود يادگ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عميق و پايداري  يادگيري از طريق در گير شدن با موضوعات محيطي و اجتماع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جهز شدن به طيف وسيعي از مهارت ها در قالب مهارت هاي كاوشگري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5641-2D96-4BBF-8FB9-3DE25674DF6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7423200" cy="1752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FDEC-369A-4BD8-895B-EA960E22ADC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3"/>
          <a:stretch/>
        </p:blipFill>
        <p:spPr>
          <a:xfrm>
            <a:off x="4495680" y="1295280"/>
            <a:ext cx="1405080" cy="7891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4"/>
          <a:stretch/>
        </p:blipFill>
        <p:spPr>
          <a:xfrm>
            <a:off x="237960" y="1268280"/>
            <a:ext cx="4864320" cy="415152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5"/>
          <a:stretch/>
        </p:blipFill>
        <p:spPr>
          <a:xfrm>
            <a:off x="3886200" y="449568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6"/>
          <a:stretch/>
        </p:blipFill>
        <p:spPr>
          <a:xfrm>
            <a:off x="4724280" y="327672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7"/>
          <a:stretch/>
        </p:blipFill>
        <p:spPr>
          <a:xfrm>
            <a:off x="4267080" y="2362320"/>
            <a:ext cx="1067040" cy="8380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8"/>
          <a:stretch/>
        </p:blipFill>
        <p:spPr>
          <a:xfrm>
            <a:off x="6477120" y="137160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1143000" y="1752120"/>
            <a:ext cx="7391520" cy="4449960"/>
          </a:xfrm>
          <a:prstGeom prst="rect">
            <a:avLst/>
          </a:prstGeom>
          <a:solidFill>
            <a:srgbClr val="f8e19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عدالت جويي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حق طلبي و مسئوليت پذير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عاو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2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ميهن دوستي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E08A-7746-47EC-8B24-9AD78AF6FCA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2819520" cy="37004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1066680" y="2743200"/>
            <a:ext cx="533520" cy="5335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" y="3009960"/>
            <a:ext cx="762120" cy="609480"/>
          </a:xfrm>
          <a:custGeom>
            <a:avLst/>
            <a:gdLst/>
            <a:ahLst/>
            <a:rect l="l" t="t" r="r" b="b"/>
            <a:pathLst>
              <a:path w="762000" h="609600">
                <a:moveTo>
                  <a:pt x="381000" y="152400"/>
                </a:moveTo>
                <a:cubicBezTo>
                  <a:pt x="539750" y="-203200"/>
                  <a:pt x="1158875" y="152400"/>
                  <a:pt x="381000" y="609600"/>
                </a:cubicBezTo>
                <a:cubicBezTo>
                  <a:pt x="-396875" y="152400"/>
                  <a:pt x="222250" y="-203200"/>
                  <a:pt x="381000" y="1524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19320" y="32004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3733920"/>
            <a:ext cx="457200" cy="761760"/>
          </a:xfrm>
          <a:custGeom>
            <a:avLst/>
            <a:gdLst/>
            <a:ahLst/>
            <a:rect l="l" t="t" r="r" b="b"/>
            <a:pathLst>
              <a:path w="457200" h="762000">
                <a:moveTo>
                  <a:pt x="0" y="291057"/>
                </a:moveTo>
                <a:lnTo>
                  <a:pt x="174636" y="291059"/>
                </a:lnTo>
                <a:lnTo>
                  <a:pt x="228600" y="0"/>
                </a:lnTo>
                <a:lnTo>
                  <a:pt x="282564" y="291059"/>
                </a:lnTo>
                <a:lnTo>
                  <a:pt x="457200" y="291057"/>
                </a:lnTo>
                <a:lnTo>
                  <a:pt x="315916" y="470940"/>
                </a:lnTo>
                <a:lnTo>
                  <a:pt x="369882" y="761998"/>
                </a:lnTo>
                <a:lnTo>
                  <a:pt x="228600" y="582112"/>
                </a:lnTo>
                <a:lnTo>
                  <a:pt x="87318" y="761998"/>
                </a:lnTo>
                <a:lnTo>
                  <a:pt x="141284" y="470940"/>
                </a:lnTo>
                <a:lnTo>
                  <a:pt x="0" y="291057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4"/>
          <a:stretch/>
        </p:blipFill>
        <p:spPr>
          <a:xfrm>
            <a:off x="1476360" y="2590920"/>
            <a:ext cx="609480" cy="53316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1247760" y="3505320"/>
            <a:ext cx="45720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11462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0DD-C795-423D-B449-7DF1C653475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7" name="" descr=""/>
          <p:cNvPicPr/>
          <p:nvPr/>
        </p:nvPicPr>
        <p:blipFill>
          <a:blip r:embed="rId3"/>
          <a:stretch/>
        </p:blipFill>
        <p:spPr>
          <a:xfrm>
            <a:off x="0" y="3948120"/>
            <a:ext cx="5105520" cy="290988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2552760" y="4267080"/>
            <a:ext cx="1714320" cy="685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هد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286000" y="1600200"/>
            <a:ext cx="5943600" cy="22860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ز هر حوزه ي موضوعي  یک هدف انتخاب شده است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1E28-B883-43AB-B7A8-9E4A467C54B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2"/>
          <a:stretch/>
        </p:blipFill>
        <p:spPr>
          <a:xfrm>
            <a:off x="139680" y="841320"/>
            <a:ext cx="8699400" cy="5711760"/>
          </a:xfrm>
          <a:prstGeom prst="rect">
            <a:avLst/>
          </a:prstGeom>
          <a:ln w="0">
            <a:noFill/>
          </a:ln>
        </p:spPr>
      </p:pic>
      <p:pic>
        <p:nvPicPr>
          <p:cNvPr id="952" name="" descr=""/>
          <p:cNvPicPr/>
          <p:nvPr/>
        </p:nvPicPr>
        <p:blipFill>
          <a:blip r:embed="rId3"/>
          <a:stretch/>
        </p:blipFill>
        <p:spPr>
          <a:xfrm>
            <a:off x="152280" y="23184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2"/>
          <a:stretch/>
        </p:blipFill>
        <p:spPr>
          <a:xfrm>
            <a:off x="933480" y="542880"/>
            <a:ext cx="7772400" cy="351648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933480" y="3484440"/>
            <a:ext cx="7021440" cy="263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Book"/>
                <a:ea typeface="B Zar"/>
              </a:rPr>
              <a:t>-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4B2-5482-43B0-857F-E387D50EC48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580600" y="-884160"/>
            <a:ext cx="246672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3"/>
          <a:stretch/>
        </p:blipFill>
        <p:spPr>
          <a:xfrm>
            <a:off x="0" y="5029200"/>
            <a:ext cx="1362240" cy="132876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4"/>
          <a:stretch/>
        </p:blipFill>
        <p:spPr>
          <a:xfrm>
            <a:off x="152280" y="304812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5"/>
          <a:stretch/>
        </p:blipFill>
        <p:spPr>
          <a:xfrm>
            <a:off x="7467480" y="4343400"/>
            <a:ext cx="1238400" cy="22147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6"/>
          <a:stretch/>
        </p:blipFill>
        <p:spPr>
          <a:xfrm>
            <a:off x="6019920" y="5329080"/>
            <a:ext cx="1371600" cy="1528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7"/>
          <a:stretch/>
        </p:blipFill>
        <p:spPr>
          <a:xfrm>
            <a:off x="3276720" y="5810400"/>
            <a:ext cx="1904760" cy="10476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8"/>
          <a:stretch/>
        </p:blipFill>
        <p:spPr>
          <a:xfrm>
            <a:off x="6629400" y="3814920"/>
            <a:ext cx="914400" cy="144288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9"/>
          <a:stretch/>
        </p:blipFill>
        <p:spPr>
          <a:xfrm>
            <a:off x="1371600" y="5638680"/>
            <a:ext cx="838080" cy="8668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9CCF-940D-4AFE-8264-A5EBD6AD6E2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139680" y="1066680"/>
            <a:ext cx="8699400" cy="5486400"/>
          </a:xfrm>
          <a:prstGeom prst="rect">
            <a:avLst/>
          </a:prstGeom>
          <a:ln w="0">
            <a:noFill/>
          </a:ln>
        </p:spPr>
      </p:pic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304920" y="79200"/>
            <a:ext cx="8686800" cy="1006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FB8-4824-42DB-AB91-B31687B541B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2"/>
          <a:stretch/>
        </p:blipFill>
        <p:spPr>
          <a:xfrm>
            <a:off x="1816200" y="371520"/>
            <a:ext cx="7456320" cy="6005520"/>
          </a:xfrm>
          <a:prstGeom prst="rect">
            <a:avLst/>
          </a:prstGeom>
          <a:ln w="0">
            <a:noFill/>
          </a:ln>
        </p:spPr>
      </p:pic>
      <p:pic>
        <p:nvPicPr>
          <p:cNvPr id="958" name="" descr=""/>
          <p:cNvPicPr/>
          <p:nvPr/>
        </p:nvPicPr>
        <p:blipFill>
          <a:blip r:embed="rId3"/>
          <a:stretch/>
        </p:blipFill>
        <p:spPr>
          <a:xfrm>
            <a:off x="-50760" y="0"/>
            <a:ext cx="29462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4AC8-FAA1-44B5-A3FC-AAD0BE35247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2"/>
          <a:stretch/>
        </p:blipFill>
        <p:spPr>
          <a:xfrm>
            <a:off x="219240" y="231840"/>
            <a:ext cx="8705520" cy="1901880"/>
          </a:xfrm>
          <a:prstGeom prst="rect">
            <a:avLst/>
          </a:prstGeom>
          <a:ln w="0">
            <a:noFill/>
          </a:ln>
        </p:spPr>
      </p:pic>
      <p:pic>
        <p:nvPicPr>
          <p:cNvPr id="961" name="" descr=""/>
          <p:cNvPicPr/>
          <p:nvPr/>
        </p:nvPicPr>
        <p:blipFill>
          <a:blip r:embed="rId3"/>
          <a:stretch/>
        </p:blipFill>
        <p:spPr>
          <a:xfrm>
            <a:off x="291960" y="1908000"/>
            <a:ext cx="8560080" cy="2206800"/>
          </a:xfrm>
          <a:prstGeom prst="rect">
            <a:avLst/>
          </a:prstGeom>
          <a:ln w="0">
            <a:noFill/>
          </a:ln>
        </p:spPr>
      </p:pic>
      <p:pic>
        <p:nvPicPr>
          <p:cNvPr id="962" name="" descr=""/>
          <p:cNvPicPr/>
          <p:nvPr/>
        </p:nvPicPr>
        <p:blipFill>
          <a:blip r:embed="rId4"/>
          <a:stretch/>
        </p:blipFill>
        <p:spPr>
          <a:xfrm>
            <a:off x="231840" y="3833640"/>
            <a:ext cx="8620200" cy="3036960"/>
          </a:xfrm>
          <a:prstGeom prst="rect">
            <a:avLst/>
          </a:prstGeom>
          <a:ln w="0">
            <a:noFill/>
          </a:ln>
        </p:spPr>
      </p:pic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1371600" y="-92160"/>
            <a:ext cx="6864480" cy="8733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D79A-F6DB-4242-BC4C-AD24D6041D3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9124920" cy="6267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C3EA-DE86-47F4-934D-04F291868262}" type="slidenum">
              <a:rPr b="1" lang="en-US" sz="14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" descr=""/>
          <p:cNvPicPr/>
          <p:nvPr/>
        </p:nvPicPr>
        <p:blipFill>
          <a:blip r:embed="rId2"/>
          <a:stretch/>
        </p:blipFill>
        <p:spPr>
          <a:xfrm>
            <a:off x="231840" y="1079640"/>
            <a:ext cx="8631000" cy="5717880"/>
          </a:xfrm>
          <a:prstGeom prst="rect">
            <a:avLst/>
          </a:prstGeom>
          <a:ln w="0">
            <a:noFill/>
          </a:ln>
        </p:spPr>
      </p:pic>
      <p:sp>
        <p:nvSpPr>
          <p:cNvPr id="968" name=""/>
          <p:cNvSpPr/>
          <p:nvPr/>
        </p:nvSpPr>
        <p:spPr>
          <a:xfrm>
            <a:off x="5334120" y="244440"/>
            <a:ext cx="3581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0000"/>
                </a:solidFill>
                <a:latin typeface="Arial"/>
                <a:cs typeface="B Titr"/>
              </a:rPr>
              <a:t>مثال هایی  از فعالیت های کاوشگر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76320" y="228600"/>
            <a:ext cx="5486400" cy="549360"/>
            <a:chOff x="76320" y="228600"/>
            <a:chExt cx="5486400" cy="549360"/>
          </a:xfrm>
        </p:grpSpPr>
        <p:sp>
          <p:nvSpPr>
            <p:cNvPr id="970" name=""/>
            <p:cNvSpPr/>
            <p:nvPr/>
          </p:nvSpPr>
          <p:spPr>
            <a:xfrm>
              <a:off x="4229280" y="228600"/>
              <a:ext cx="13334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مهارت‌هاي كاوشگر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320" y="228600"/>
              <a:ext cx="415296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0000"/>
                  </a:solidFill>
                  <a:latin typeface="Times New Roman"/>
                  <a:cs typeface="B Zar"/>
                </a:rPr>
                <a:t>بررسي و كاوش، برقراري ارتباط، خلاقيت، مشاركت، واكنش شخصي و اظهار‌نظ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2928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627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320" y="228600"/>
              <a:ext cx="0" cy="54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6320" y="2286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320" y="77796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2"/>
          <a:stretch/>
        </p:blipFill>
        <p:spPr>
          <a:xfrm>
            <a:off x="0" y="231840"/>
            <a:ext cx="8881920" cy="11462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25F-4969-4474-BB99-93BCFC78ABC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3"/>
          <a:stretch/>
        </p:blipFill>
        <p:spPr>
          <a:xfrm>
            <a:off x="0" y="1143000"/>
            <a:ext cx="3276720" cy="1876320"/>
          </a:xfrm>
          <a:prstGeom prst="rect">
            <a:avLst/>
          </a:prstGeom>
          <a:ln w="0">
            <a:noFill/>
          </a:ln>
        </p:spPr>
      </p:pic>
      <p:sp>
        <p:nvSpPr>
          <p:cNvPr id="980" name=""/>
          <p:cNvSpPr/>
          <p:nvPr/>
        </p:nvSpPr>
        <p:spPr>
          <a:xfrm>
            <a:off x="3276720" y="1447920"/>
            <a:ext cx="5410080" cy="5105160"/>
          </a:xfrm>
          <a:prstGeom prst="rect">
            <a:avLst/>
          </a:prstGeom>
          <a:solidFill>
            <a:srgbClr val="f8e19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تاب درسي :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6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فصل و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22</a:t>
            </a: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درهر فصل دو يا چند حوزه ي موضوعي و مفاهيم كليدي  آنها تلفيق شده است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كار برگه هاي آخر كتاب  فعاليت هاي اضافي نيست بلكه فعاليت هايي است كه در فرآيند ياددهي بايد انجام شوندو آموزش بدون آن ها تكميل نمي شود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220968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5"/>
          <a:stretch/>
        </p:blipFill>
        <p:spPr>
          <a:xfrm>
            <a:off x="1219320" y="4952880"/>
            <a:ext cx="190476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225-A98C-4401-A91F-04E2C4F50A4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1511280" y="1438200"/>
            <a:ext cx="3487680" cy="40244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7560" y="748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000000"/>
                </a:solidFill>
                <a:latin typeface="Calibri"/>
                <a:cs typeface="Arial"/>
              </a:rPr>
              <a:t>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410080" y="1447920"/>
            <a:ext cx="3048120" cy="506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 محله ی م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شهر من روستای من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پیدایش شهر وروست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 – سفری به شهرهای باستان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کشور زیبای م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B Titr"/>
              </a:rPr>
              <a:t>- ما ایرانی هستی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981080" y="5791320"/>
            <a:ext cx="2514600" cy="4572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موضو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748-C354-49CD-8557-003C65F7DA5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0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686800" cy="5638680"/>
          </a:xfrm>
          <a:prstGeom prst="rect">
            <a:avLst/>
          </a:prstGeom>
          <a:ln w="0">
            <a:noFill/>
          </a:ln>
        </p:spPr>
      </p:pic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7162920" y="898560"/>
            <a:ext cx="1379520" cy="121932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4"/>
          <a:stretch/>
        </p:blipFill>
        <p:spPr>
          <a:xfrm>
            <a:off x="6410160" y="3413160"/>
            <a:ext cx="2428920" cy="1485720"/>
          </a:xfrm>
          <a:prstGeom prst="rect">
            <a:avLst/>
          </a:prstGeom>
          <a:ln w="0">
            <a:noFill/>
          </a:ln>
        </p:spPr>
      </p:pic>
      <p:pic>
        <p:nvPicPr>
          <p:cNvPr id="993" name="" descr=""/>
          <p:cNvPicPr/>
          <p:nvPr/>
        </p:nvPicPr>
        <p:blipFill>
          <a:blip r:embed="rId5"/>
          <a:stretch/>
        </p:blipFill>
        <p:spPr>
          <a:xfrm>
            <a:off x="6873840" y="4648320"/>
            <a:ext cx="1889280" cy="188892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6"/>
          <a:stretch/>
        </p:blipFill>
        <p:spPr>
          <a:xfrm>
            <a:off x="3141720" y="3656160"/>
            <a:ext cx="1201680" cy="13572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7"/>
          <a:stretch/>
        </p:blipFill>
        <p:spPr>
          <a:xfrm>
            <a:off x="3505320" y="591336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8"/>
          <a:stretch/>
        </p:blipFill>
        <p:spPr>
          <a:xfrm>
            <a:off x="3141720" y="2270160"/>
            <a:ext cx="1201680" cy="141588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9"/>
          <a:stretch/>
        </p:blipFill>
        <p:spPr>
          <a:xfrm>
            <a:off x="3505320" y="5013360"/>
            <a:ext cx="892080" cy="88416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10"/>
          <a:srcRect l="0" t="0" r="0" b="6051"/>
          <a:stretch/>
        </p:blipFill>
        <p:spPr>
          <a:xfrm>
            <a:off x="2516040" y="2482920"/>
            <a:ext cx="760680" cy="9302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11"/>
          <a:stretch/>
        </p:blipFill>
        <p:spPr>
          <a:xfrm>
            <a:off x="139680" y="-36360"/>
            <a:ext cx="8686800" cy="11095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2"/>
          <a:stretch/>
        </p:blipFill>
        <p:spPr>
          <a:xfrm>
            <a:off x="3492360" y="939960"/>
            <a:ext cx="774720" cy="126972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3"/>
          <a:stretch/>
        </p:blipFill>
        <p:spPr>
          <a:xfrm>
            <a:off x="7283520" y="2286000"/>
            <a:ext cx="1098360" cy="1063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231840" y="-6480"/>
            <a:ext cx="8935920" cy="121932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D8E4-4D78-41C1-8D26-203D3C96F5A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4" name="" descr=""/>
          <p:cNvPicPr/>
          <p:nvPr/>
        </p:nvPicPr>
        <p:blipFill>
          <a:blip r:embed="rId3"/>
          <a:stretch/>
        </p:blipFill>
        <p:spPr>
          <a:xfrm>
            <a:off x="3127320" y="1103400"/>
            <a:ext cx="6016680" cy="5224320"/>
          </a:xfrm>
          <a:prstGeom prst="rect">
            <a:avLst/>
          </a:prstGeom>
          <a:ln w="0">
            <a:noFill/>
          </a:ln>
        </p:spPr>
      </p:pic>
      <p:pic>
        <p:nvPicPr>
          <p:cNvPr id="1005" name="" descr=""/>
          <p:cNvPicPr/>
          <p:nvPr/>
        </p:nvPicPr>
        <p:blipFill>
          <a:blip r:embed="rId4"/>
          <a:stretch/>
        </p:blipFill>
        <p:spPr>
          <a:xfrm>
            <a:off x="533520" y="838080"/>
            <a:ext cx="2666880" cy="365760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5"/>
          <a:stretch/>
        </p:blipFill>
        <p:spPr>
          <a:xfrm>
            <a:off x="2362320" y="3809880"/>
            <a:ext cx="933480" cy="409680"/>
          </a:xfrm>
          <a:prstGeom prst="rect">
            <a:avLst/>
          </a:prstGeom>
          <a:ln w="0">
            <a:noFill/>
          </a:ln>
        </p:spPr>
      </p:pic>
      <p:pic>
        <p:nvPicPr>
          <p:cNvPr id="1007" name="" descr=""/>
          <p:cNvPicPr/>
          <p:nvPr/>
        </p:nvPicPr>
        <p:blipFill>
          <a:blip r:embed="rId6"/>
          <a:stretch/>
        </p:blipFill>
        <p:spPr>
          <a:xfrm>
            <a:off x="685800" y="518148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" descr=""/>
          <p:cNvPicPr/>
          <p:nvPr/>
        </p:nvPicPr>
        <p:blipFill>
          <a:blip r:embed="rId2"/>
          <a:stretch/>
        </p:blipFill>
        <p:spPr>
          <a:xfrm>
            <a:off x="79200" y="146160"/>
            <a:ext cx="8686800" cy="12189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CFA-F030-4200-8232-E327453A526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6320" y="1371600"/>
            <a:ext cx="5638680" cy="5410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آ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Titr"/>
              </a:rPr>
              <a:t>موزش در محيط هاي واقعي و متنوع</a:t>
            </a:r>
            <a:r>
              <a:rPr b="1" lang="en-US" sz="24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پاركها، فروشگاهها ، موزه ها ، فرهنگسراها، آثار تاریخی ،  مساجد، مراكز خدماتي چون اداره پست و آتش نشاني ، مزارع و کارگاه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  <a:ea typeface="B Titr"/>
              </a:rPr>
              <a:t> گردش علم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7696080" y="2362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2" name="" descr=""/>
          <p:cNvPicPr/>
          <p:nvPr/>
        </p:nvPicPr>
        <p:blipFill>
          <a:blip r:embed="rId4"/>
          <a:stretch/>
        </p:blipFill>
        <p:spPr>
          <a:xfrm>
            <a:off x="57150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1013" name="" descr=""/>
          <p:cNvPicPr/>
          <p:nvPr/>
        </p:nvPicPr>
        <p:blipFill>
          <a:blip r:embed="rId5"/>
          <a:stretch/>
        </p:blipFill>
        <p:spPr>
          <a:xfrm>
            <a:off x="5181480" y="4114800"/>
            <a:ext cx="3429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CA1C-1D4B-4022-83D2-C993FB250435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3520" y="22096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يك حوزه ي يادگيري که درباره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انسان و تعامل او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با</a:t>
            </a:r>
            <a:r>
              <a:rPr b="1" lang="en-US" sz="3200" spc="-1" strike="noStrike">
                <a:solidFill>
                  <a:srgbClr val="7c4b3b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حيط هاي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اجتماعي؛ فرهنگي؛ طبيعي و تحولات زندگي بشر در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گذشته؛ حال و آينده </a:t>
            </a: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Zar"/>
              </a:rPr>
              <a:t>و جنبه هاي گوناگون آن (سياسي؛ اقتصادي؛ اجتماعي و محيطي و...) بجث 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4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689040" y="152280"/>
            <a:ext cx="7772400" cy="1852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8229600" y="645804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AAA5-680C-457F-9095-388B60C0D29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2"/>
          <a:stretch/>
        </p:blipFill>
        <p:spPr>
          <a:xfrm>
            <a:off x="79200" y="743040"/>
            <a:ext cx="8534520" cy="563868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3"/>
          <a:srcRect l="0" t="0" r="0" b="11269"/>
          <a:stretch/>
        </p:blipFill>
        <p:spPr>
          <a:xfrm>
            <a:off x="6343560" y="990720"/>
            <a:ext cx="1962360" cy="137160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6248520" y="4495680"/>
            <a:ext cx="2133360" cy="175284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87480" y="5562720"/>
            <a:ext cx="1360440" cy="1263600"/>
          </a:xfrm>
          <a:prstGeom prst="rect">
            <a:avLst/>
          </a:prstGeom>
          <a:ln w="0">
            <a:noFill/>
          </a:ln>
        </p:spPr>
      </p:pic>
      <p:pic>
        <p:nvPicPr>
          <p:cNvPr id="1019" name="" descr=""/>
          <p:cNvPicPr/>
          <p:nvPr/>
        </p:nvPicPr>
        <p:blipFill>
          <a:blip r:embed="rId6"/>
          <a:stretch/>
        </p:blipFill>
        <p:spPr>
          <a:xfrm>
            <a:off x="6324480" y="2819520"/>
            <a:ext cx="1868760" cy="1371600"/>
          </a:xfrm>
          <a:prstGeom prst="rect">
            <a:avLst/>
          </a:prstGeom>
          <a:ln w="0">
            <a:noFill/>
          </a:ln>
        </p:spPr>
      </p:pic>
      <p:pic>
        <p:nvPicPr>
          <p:cNvPr id="1020" name="" descr=""/>
          <p:cNvPicPr/>
          <p:nvPr/>
        </p:nvPicPr>
        <p:blipFill>
          <a:blip r:embed="rId7"/>
          <a:stretch/>
        </p:blipFill>
        <p:spPr>
          <a:xfrm>
            <a:off x="4724280" y="5334120"/>
            <a:ext cx="1481400" cy="1261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18C-DFD4-46B0-9AAD-1CBE418815F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2" name="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14680" cy="1270080"/>
          </a:xfrm>
          <a:prstGeom prst="rect">
            <a:avLst/>
          </a:prstGeom>
          <a:ln w="0">
            <a:noFill/>
          </a:ln>
        </p:spPr>
      </p:pic>
      <p:pic>
        <p:nvPicPr>
          <p:cNvPr id="1023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2901960" cy="2819160"/>
          </a:xfrm>
          <a:prstGeom prst="rect">
            <a:avLst/>
          </a:prstGeom>
          <a:ln w="0">
            <a:noFill/>
          </a:ln>
        </p:spPr>
      </p:pic>
      <p:pic>
        <p:nvPicPr>
          <p:cNvPr id="1024" name="" descr=""/>
          <p:cNvPicPr/>
          <p:nvPr/>
        </p:nvPicPr>
        <p:blipFill>
          <a:blip r:embed="rId4"/>
          <a:stretch/>
        </p:blipFill>
        <p:spPr>
          <a:xfrm>
            <a:off x="0" y="163440"/>
            <a:ext cx="3200400" cy="1817640"/>
          </a:xfrm>
          <a:prstGeom prst="rect">
            <a:avLst/>
          </a:prstGeom>
          <a:ln w="0">
            <a:noFill/>
          </a:ln>
        </p:spPr>
      </p:pic>
      <p:pic>
        <p:nvPicPr>
          <p:cNvPr id="1025" name="" descr=""/>
          <p:cNvPicPr/>
          <p:nvPr/>
        </p:nvPicPr>
        <p:blipFill>
          <a:blip r:embed="rId5"/>
          <a:stretch/>
        </p:blipFill>
        <p:spPr>
          <a:xfrm>
            <a:off x="6232680" y="0"/>
            <a:ext cx="2911320" cy="187020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6"/>
          <a:stretch/>
        </p:blipFill>
        <p:spPr>
          <a:xfrm>
            <a:off x="6762600" y="4981680"/>
            <a:ext cx="2381400" cy="18763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1981080" y="914400"/>
            <a:ext cx="5639040" cy="53341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Franklin Gothic Book"/>
                <a:cs typeface="B Titr"/>
              </a:rPr>
              <a:t>ايجاد فضاي مطلوب رواني – عاطفي در كلاس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B Tit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برقراري رابطه مؤثر با دانش آموزان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وجه مناسب به توان ها؛ مشكلات خاص؛ استعداد ها و ضعف هاي رفتار فردي و اجتماع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ايجاد رابطه ي مؤثر بين دانش آموزان (روابط دوستانه؛ همكاري؛ مشاركت؛ مهارت هاي زندگي اجتماعي و 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9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967-237A-41BA-B44A-4B7982EB5F3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85540a"/>
                </a:solidFill>
                <a:latin typeface="Franklin Gothic Book"/>
                <a:cs typeface="B Zar"/>
              </a:rPr>
              <a:t>بخش دوم:</a:t>
            </a:r>
            <a:br>
              <a:rPr sz="2400"/>
            </a:br>
            <a:r>
              <a:rPr b="1" lang="en-US" sz="3200" spc="-1" strike="noStrike">
                <a:solidFill>
                  <a:srgbClr val="85540a"/>
                </a:solidFill>
                <a:latin typeface="Franklin Gothic Book"/>
                <a:ea typeface="B Titr"/>
              </a:rPr>
              <a:t> برنامه درسي مطالعات اجتماعی  و برنامه درسی مل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push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81ED-64A3-42C5-9E52-82BD0DF7ED0D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" descr=""/>
          <p:cNvPicPr/>
          <p:nvPr/>
        </p:nvPicPr>
        <p:blipFill>
          <a:blip r:embed="rId2"/>
          <a:stretch/>
        </p:blipFill>
        <p:spPr>
          <a:xfrm>
            <a:off x="60480" y="1146240"/>
            <a:ext cx="7492680" cy="5651280"/>
          </a:xfrm>
          <a:prstGeom prst="rect">
            <a:avLst/>
          </a:prstGeom>
          <a:ln w="0">
            <a:noFill/>
          </a:ln>
        </p:spPr>
      </p:pic>
      <p:pic>
        <p:nvPicPr>
          <p:cNvPr id="1034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3504960" cy="190512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4"/>
          <a:stretch/>
        </p:blipFill>
        <p:spPr>
          <a:xfrm>
            <a:off x="304920" y="-109440"/>
            <a:ext cx="8686800" cy="11095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3733920" y="3733920"/>
            <a:ext cx="1828800" cy="312408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برنامه درسي ملي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طرت گرايي توحي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486400" y="838080"/>
            <a:ext cx="2048040" cy="901800"/>
          </a:xfrm>
          <a:custGeom>
            <a:avLst/>
            <a:gdLst>
              <a:gd name="textAreaLeft" fmla="*/ 58320 w 2048040"/>
              <a:gd name="textAreaRight" fmla="*/ 1989720 w 2048040"/>
              <a:gd name="textAreaTop" fmla="*/ 58320 h 901800"/>
              <a:gd name="textAreaBottom" fmla="*/ 843480 h 901800"/>
            </a:gdLst>
            <a:ahLst/>
            <a:rect l="textAreaLeft" t="textAreaTop" r="textAreaRight" b="textAreaBottom"/>
            <a:pathLst>
              <a:path w="49044" h="21600">
                <a:moveTo>
                  <a:pt x="0" y="0"/>
                </a:moveTo>
                <a:lnTo>
                  <a:pt x="49044" y="0"/>
                </a:lnTo>
                <a:lnTo>
                  <a:pt x="49044" y="21600"/>
                </a:lnTo>
                <a:lnTo>
                  <a:pt x="0" y="21600"/>
                </a:lnTo>
                <a:close/>
              </a:path>
              <a:path fill="lightenLess" w="49044" h="21600">
                <a:moveTo>
                  <a:pt x="0" y="0"/>
                </a:moveTo>
                <a:lnTo>
                  <a:pt x="49044" y="0"/>
                </a:lnTo>
                <a:lnTo>
                  <a:pt x="47644" y="1400"/>
                </a:lnTo>
                <a:lnTo>
                  <a:pt x="1400" y="1400"/>
                </a:lnTo>
                <a:close/>
              </a:path>
              <a:path fill="darken" w="49044" h="21600">
                <a:moveTo>
                  <a:pt x="49044" y="0"/>
                </a:moveTo>
                <a:lnTo>
                  <a:pt x="49044" y="21600"/>
                </a:lnTo>
                <a:lnTo>
                  <a:pt x="47644" y="20200"/>
                </a:lnTo>
                <a:lnTo>
                  <a:pt x="47644" y="1400"/>
                </a:lnTo>
                <a:close/>
              </a:path>
              <a:path fill="darkenLess" w="49044" h="21600">
                <a:moveTo>
                  <a:pt x="490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44" y="20200"/>
                </a:lnTo>
                <a:close/>
              </a:path>
              <a:path fill="lighten" w="490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044" h="21600">
                <a:moveTo>
                  <a:pt x="21023" y="10800"/>
                </a:moveTo>
                <a:lnTo>
                  <a:pt x="31528" y="3794"/>
                </a:lnTo>
                <a:lnTo>
                  <a:pt x="31528" y="17806"/>
                </a:lnTo>
                <a:close/>
              </a:path>
              <a:path fill="darken" w="49044" h="21600">
                <a:moveTo>
                  <a:pt x="17515" y="3794"/>
                </a:moveTo>
                <a:lnTo>
                  <a:pt x="19178" y="3794"/>
                </a:lnTo>
                <a:lnTo>
                  <a:pt x="19178" y="17806"/>
                </a:lnTo>
                <a:lnTo>
                  <a:pt x="17515" y="17806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فرهنگي – تربيتي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" descr=""/>
          <p:cNvPicPr/>
          <p:nvPr/>
        </p:nvPicPr>
        <p:blipFill>
          <a:blip r:embed="rId2"/>
          <a:stretch/>
        </p:blipFill>
        <p:spPr>
          <a:xfrm>
            <a:off x="-92160" y="-42840"/>
            <a:ext cx="9010800" cy="1116000"/>
          </a:xfrm>
          <a:prstGeom prst="rect">
            <a:avLst/>
          </a:prstGeom>
          <a:ln w="0">
            <a:noFill/>
          </a:ln>
        </p:spPr>
      </p:pic>
      <p:pic>
        <p:nvPicPr>
          <p:cNvPr id="1039" name="" descr=""/>
          <p:cNvPicPr/>
          <p:nvPr/>
        </p:nvPicPr>
        <p:blipFill>
          <a:blip r:embed="rId3"/>
          <a:stretch/>
        </p:blipFill>
        <p:spPr>
          <a:xfrm>
            <a:off x="27000" y="1447920"/>
            <a:ext cx="1981080" cy="243828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6E02-67D5-4F2D-8FD4-92248832182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4"/>
          <a:stretch/>
        </p:blipFill>
        <p:spPr>
          <a:xfrm>
            <a:off x="1450800" y="749160"/>
            <a:ext cx="7772400" cy="614520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76320" y="4572000"/>
            <a:ext cx="1904760" cy="1295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  <a:ea typeface="B Zar"/>
              </a:rPr>
              <a:t> </a:t>
            </a: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١١</a:t>
            </a:r>
            <a:r>
              <a:rPr b="1" lang="hi-IN" sz="18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حوزه ي يادگي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" descr=""/>
          <p:cNvPicPr/>
          <p:nvPr/>
        </p:nvPicPr>
        <p:blipFill>
          <a:blip r:embed="rId2"/>
          <a:stretch/>
        </p:blipFill>
        <p:spPr>
          <a:xfrm>
            <a:off x="304920" y="450720"/>
            <a:ext cx="8686800" cy="114012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 txBox="1"/>
          <p:nvPr/>
        </p:nvSpPr>
        <p:spPr>
          <a:xfrm>
            <a:off x="380520" y="1600200"/>
            <a:ext cx="8610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پنج عنصر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تعقل ،ايمان ، علم ، عمل ، اخلاق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</a:t>
            </a: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Tahoma"/>
              </a:rPr>
              <a:t>چهارعرصه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: ارتباط با خود ،  باخدا ، با خلق و  با عالم خلقت( با محوریت خدا 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A202-178A-4CF4-A649-B0AECAEFDC7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" descr=""/>
          <p:cNvPicPr/>
          <p:nvPr/>
        </p:nvPicPr>
        <p:blipFill>
          <a:blip r:embed="rId2"/>
          <a:stretch/>
        </p:blipFill>
        <p:spPr>
          <a:xfrm>
            <a:off x="231840" y="4572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solidFill>
            <a:srgbClr val="f3cd6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ربيت يكپارچه عقلی ، ايمانی ، علمي و عملي و اخلاقي دانش آموزان به گونه اي كه بتوانند موقعيت خود را نسبت به خود ، خدا ، ديگر انسان ها و نظام خلقت به درستي درك و توانايي اصلاح مستمر موقعيت فردي و اجتماعي خويش را كسب نمايند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8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F17-FE0F-4CE9-8635-059E2A36314A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231840" y="536400"/>
            <a:ext cx="8686800" cy="98748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 txBox="1"/>
          <p:nvPr/>
        </p:nvSpPr>
        <p:spPr>
          <a:xfrm>
            <a:off x="0" y="1752480"/>
            <a:ext cx="8686800" cy="452592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انتظار مي رود دانش آموزان طي دوره تحصيلات مدرسه اي ، در مجموعه عناصر پنج گانه الگوي هدف گذاري به مرتبه اي از </a:t>
            </a:r>
            <a:r>
              <a:rPr b="1" lang="hi-IN" sz="3200" spc="-1" strike="noStrike">
                <a:solidFill>
                  <a:srgbClr val="ff0000"/>
                </a:solidFill>
                <a:latin typeface="Zar"/>
                <a:cs typeface="Tahoma"/>
              </a:rPr>
              <a:t>شايستگي هاي پايه </a:t>
            </a:r>
            <a:r>
              <a:rPr b="1" lang="hi-IN" sz="3200" spc="-1" strike="noStrike">
                <a:solidFill>
                  <a:srgbClr val="4e3b30"/>
                </a:solidFill>
                <a:latin typeface="Zar"/>
                <a:cs typeface="Tahoma"/>
              </a:rPr>
              <a:t>دست يابند . اين شايستگي ها بيان تفضيل يافته هاي از هدف كلي برنامه هاي درسي وتربيتي است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1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070A-4B3F-4E30-AF52-1DA7540F6099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" descr=""/>
          <p:cNvPicPr/>
          <p:nvPr/>
        </p:nvPicPr>
        <p:blipFill>
          <a:blip r:embed="rId2"/>
          <a:stretch/>
        </p:blipFill>
        <p:spPr>
          <a:xfrm>
            <a:off x="0" y="146160"/>
            <a:ext cx="8686800" cy="1517400"/>
          </a:xfrm>
          <a:prstGeom prst="rect">
            <a:avLst/>
          </a:prstGeom>
          <a:ln w="0">
            <a:noFill/>
          </a:ln>
        </p:spPr>
      </p:pic>
      <p:sp>
        <p:nvSpPr>
          <p:cNvPr id="1053" name=""/>
          <p:cNvSpPr txBox="1"/>
          <p:nvPr/>
        </p:nvSpPr>
        <p:spPr>
          <a:xfrm>
            <a:off x="457200" y="2057400"/>
            <a:ext cx="8686800" cy="45259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دا ، نيازها و توانمندي ها ، ظرفيت ها و ابعاد هويت متعالي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ير در صفات ، افعال و آيات خداوند متعال به عنوان خالق هستي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دبر در نظام خلقت و شگفتي هاي آن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A555-E5A2-4E54-83ED-97DDDBDA8D8E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05720" y="609480"/>
            <a:ext cx="1828800" cy="1752840"/>
          </a:xfrm>
          <a:custGeom>
            <a:avLst/>
            <a:gdLst/>
            <a:ahLst/>
            <a:rect l="l" t="t" r="r" b="b"/>
            <a:pathLst>
              <a:path w="1828800" h="1752600">
                <a:moveTo>
                  <a:pt x="0" y="438150"/>
                </a:moveTo>
                <a:lnTo>
                  <a:pt x="609595" y="438143"/>
                </a:lnTo>
                <a:lnTo>
                  <a:pt x="914400" y="0"/>
                </a:lnTo>
                <a:lnTo>
                  <a:pt x="1219205" y="438143"/>
                </a:lnTo>
                <a:lnTo>
                  <a:pt x="1828800" y="438150"/>
                </a:lnTo>
                <a:lnTo>
                  <a:pt x="1524010" y="876300"/>
                </a:lnTo>
                <a:lnTo>
                  <a:pt x="1828800" y="1314450"/>
                </a:lnTo>
                <a:lnTo>
                  <a:pt x="1219205" y="1314457"/>
                </a:lnTo>
                <a:lnTo>
                  <a:pt x="914400" y="1752600"/>
                </a:lnTo>
                <a:lnTo>
                  <a:pt x="609595" y="1314457"/>
                </a:lnTo>
                <a:lnTo>
                  <a:pt x="0" y="1314450"/>
                </a:lnTo>
                <a:lnTo>
                  <a:pt x="304790" y="876300"/>
                </a:lnTo>
                <a:lnTo>
                  <a:pt x="0" y="4381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تع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228600" y="167652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آگاهانه به توحيد ، نبوت ، معاد ، امامت ، عدل ،عالم غيب وحيات جاودان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ربوبيت و حضور حكيمانه همراه با لطف و رحمت خالق يكتا در عرصه هست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نبياء الهي ، قرآن ، پيامبر خاتم (ص ) ائمه معصومين عليهم السلام و ولايت مطلقه فقيه و نقش بي بديل  آن ها در هدايت  و رستگار ی بشر 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اور به نقش دين مبين اسلام و نظامات آن به عنوان تنها مكتب جامع و كارآمد براي تحقق حيات طيبه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ارزشمندي  ، هدفمندي و قانون مندي خلقت و باور به زيبايي هاي جهان آفرينش به عنوان مظاهر فعل و جمال خداوند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يمان به هويت الهي انسان، كرامت او و توانمندي هاي جمعي و فردي انس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7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1E8-B168-4803-8E04-A8857F725CB8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477120" y="0"/>
            <a:ext cx="2057400" cy="1600200"/>
          </a:xfrm>
          <a:custGeom>
            <a:avLst/>
            <a:gdLst/>
            <a:ahLst/>
            <a:rect l="l" t="t" r="r" b="b"/>
            <a:pathLst>
              <a:path w="2057400" h="1600200">
                <a:moveTo>
                  <a:pt x="0" y="400050"/>
                </a:moveTo>
                <a:lnTo>
                  <a:pt x="685794" y="400043"/>
                </a:lnTo>
                <a:lnTo>
                  <a:pt x="1028700" y="0"/>
                </a:lnTo>
                <a:lnTo>
                  <a:pt x="1371606" y="400043"/>
                </a:lnTo>
                <a:lnTo>
                  <a:pt x="2057400" y="400050"/>
                </a:lnTo>
                <a:lnTo>
                  <a:pt x="1714511" y="800100"/>
                </a:lnTo>
                <a:lnTo>
                  <a:pt x="2057400" y="1200150"/>
                </a:lnTo>
                <a:lnTo>
                  <a:pt x="1371606" y="1200157"/>
                </a:lnTo>
                <a:lnTo>
                  <a:pt x="1028700" y="1600200"/>
                </a:lnTo>
                <a:lnTo>
                  <a:pt x="685794" y="1200157"/>
                </a:lnTo>
                <a:lnTo>
                  <a:pt x="0" y="1200150"/>
                </a:lnTo>
                <a:lnTo>
                  <a:pt x="342889" y="800100"/>
                </a:lnTo>
                <a:lnTo>
                  <a:pt x="0" y="4000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یم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2"/>
          <a:stretch/>
        </p:blipFill>
        <p:spPr>
          <a:xfrm>
            <a:off x="457200" y="420840"/>
            <a:ext cx="8156520" cy="110952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58E-22F0-459B-9415-38907BD7302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86000" y="2133720"/>
            <a:ext cx="4191120" cy="3429000"/>
          </a:xfrm>
          <a:prstGeom prst="triangle">
            <a:avLst>
              <a:gd name="adj" fmla="val 498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519360" y="5540400"/>
            <a:ext cx="164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جامع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rot="3415200">
            <a:off x="4145400" y="3097800"/>
            <a:ext cx="260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7c4b3b"/>
                </a:solidFill>
                <a:latin typeface="Arial"/>
                <a:cs typeface="Zar"/>
              </a:rPr>
              <a:t>مكان (محيط 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rot="18187200">
            <a:off x="2178000" y="3065760"/>
            <a:ext cx="168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b3b"/>
                </a:solidFill>
                <a:latin typeface="Arial"/>
                <a:ea typeface="Zar"/>
              </a:rPr>
              <a:t> زمان</a:t>
            </a:r>
            <a:r>
              <a:rPr b="1" lang="en-US" sz="4000" spc="-1" strike="noStrike">
                <a:solidFill>
                  <a:srgbClr val="7c4b3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 txBox="1"/>
          <p:nvPr/>
        </p:nvSpPr>
        <p:spPr>
          <a:xfrm>
            <a:off x="457200" y="1447920"/>
            <a:ext cx="8686800" cy="5410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 خويش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حق تعالي ، صفات ، افعال و آيات الهي ، معارف ديني و منابع آ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 و قوانين جهان آفرينش و چگونگي برقراري ارتباط انسان با آن ها و بهره برداري بهينه از آن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روابط ، نقش ها ، حقوق و وظايف خود و افراد و اهميت آن ها در زند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گذشته و حال جوامع بشري به ويژه فرهنگ و تمدن اسلام و ايرا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ويژگي هاي نظام مردم سالاري ديني و جايگاه و رسالت جهاني ايران اسلام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آشنايي با روش هاي رمز گشايي پديده ها و رمزگرداني آن ها و ابزار آن به زبان زيباشناسي و هن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0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E5F3-6F9B-4CA3-8CC1-B73C40E71664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315200" y="304920"/>
            <a:ext cx="1219320" cy="1295280"/>
          </a:xfrm>
          <a:custGeom>
            <a:avLst/>
            <a:gdLst/>
            <a:ahLst/>
            <a:rect l="l" t="t" r="r" b="b"/>
            <a:pathLst>
              <a:path w="1219200" h="1295400">
                <a:moveTo>
                  <a:pt x="0" y="323850"/>
                </a:moveTo>
                <a:lnTo>
                  <a:pt x="406397" y="323845"/>
                </a:lnTo>
                <a:lnTo>
                  <a:pt x="609600" y="0"/>
                </a:lnTo>
                <a:lnTo>
                  <a:pt x="812803" y="323845"/>
                </a:lnTo>
                <a:lnTo>
                  <a:pt x="1219200" y="323850"/>
                </a:lnTo>
                <a:lnTo>
                  <a:pt x="1016007" y="647700"/>
                </a:lnTo>
                <a:lnTo>
                  <a:pt x="1219200" y="971550"/>
                </a:lnTo>
                <a:lnTo>
                  <a:pt x="812803" y="971555"/>
                </a:lnTo>
                <a:lnTo>
                  <a:pt x="609600" y="1295400"/>
                </a:lnTo>
                <a:lnTo>
                  <a:pt x="406397" y="971555"/>
                </a:lnTo>
                <a:lnTo>
                  <a:pt x="0" y="971550"/>
                </a:lnTo>
                <a:lnTo>
                  <a:pt x="203193" y="647700"/>
                </a:lnTo>
                <a:lnTo>
                  <a:pt x="0" y="3238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ل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04560" y="1554120"/>
            <a:ext cx="8839080" cy="4618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مل به آموزه هاي ديني و انجام آگاهانه و مومنانه واجبات و محرمات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ظرفيت هاي وجودي خود براي دست يابي به هويت متعادل و يكپارچه در مسير رشد و تعالي خود و جامعه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فناوري اطلاعات و ارتباطات در كار و زندگ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از مهارت هاي پايه براي شكل دهي هويت حرفه اي آينده خود به صورت مولد كارآفري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ره گيري آگاهانه از يافته هاي علمي ، هنري ، فني ، حرفه اي و بهداشتي و زيستي و تلاش موثر براي توليد وتوسعه آن ها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حفظ و تعالي محيط زيست ، ميراث فرهنگي و سرمايه هاي طبيع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زبان و ادبيات فارسي و زبان عربي به عنوان زبان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مهارت هاي يك زبان خارجي در چارچوب بخش انتخاب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 نيمه تجويزي ) با رعايت اصل تثبيت و تقويت هويت اسلامي – ايراني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 algn="r" rtl="1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AD9-1A1A-4582-A900-7F471C69CDF7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152280"/>
            <a:ext cx="1524240" cy="1143000"/>
          </a:xfrm>
          <a:custGeom>
            <a:avLst/>
            <a:gdLst/>
            <a:ahLst/>
            <a:rect l="l" t="t" r="r" b="b"/>
            <a:pathLst>
              <a:path w="1524000" h="1143000">
                <a:moveTo>
                  <a:pt x="0" y="285750"/>
                </a:moveTo>
                <a:lnTo>
                  <a:pt x="507996" y="285745"/>
                </a:lnTo>
                <a:lnTo>
                  <a:pt x="762000" y="0"/>
                </a:lnTo>
                <a:lnTo>
                  <a:pt x="1016004" y="285745"/>
                </a:lnTo>
                <a:lnTo>
                  <a:pt x="1524000" y="285750"/>
                </a:lnTo>
                <a:lnTo>
                  <a:pt x="1270008" y="571500"/>
                </a:lnTo>
                <a:lnTo>
                  <a:pt x="1524000" y="857250"/>
                </a:lnTo>
                <a:lnTo>
                  <a:pt x="1016004" y="857255"/>
                </a:lnTo>
                <a:lnTo>
                  <a:pt x="762000" y="1143000"/>
                </a:lnTo>
                <a:lnTo>
                  <a:pt x="507996" y="857255"/>
                </a:lnTo>
                <a:lnTo>
                  <a:pt x="0" y="857250"/>
                </a:lnTo>
                <a:lnTo>
                  <a:pt x="253992" y="571500"/>
                </a:lnTo>
                <a:lnTo>
                  <a:pt x="0" y="28575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عم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رعايت تقوي الهي در تمام شئون زندگي فردي و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متعهد به ارزش هاي اخلاقي از جمله ، صدق ، صبر ، احسان و رأفت ، حسن خلق ، حيا ، شجاعت ، خويشتن داري ، قدرشناسي ، رضا ، عدالت ، قناعت ، نوع دوستي ، تكريم والدين ومعلم در شئون ومناسبات فردي اجتماع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كار و معاش حلال و داشتن روحيه تلاش مست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مند داشتن عالم ، علم آموزي و يادگيري مادام العمر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تقدم بخشيدن  به منافع ملي بر گروهي ومنافع جمعي بر فردي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رزش قائل شدن براي مخلوقات هستي و محيط زیست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التزام به اصول و ارزش هاي اخلاقي در استفاده از علوم و فناوري هاي نوين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6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B06B-0983-40D6-8F7F-CA2A1F244EF1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315200" y="0"/>
            <a:ext cx="1447920" cy="1219320"/>
          </a:xfrm>
          <a:custGeom>
            <a:avLst/>
            <a:gdLst/>
            <a:ahLst/>
            <a:rect l="l" t="t" r="r" b="b"/>
            <a:pathLst>
              <a:path w="1447800" h="1219200">
                <a:moveTo>
                  <a:pt x="0" y="304800"/>
                </a:moveTo>
                <a:lnTo>
                  <a:pt x="482596" y="304795"/>
                </a:lnTo>
                <a:lnTo>
                  <a:pt x="723900" y="0"/>
                </a:lnTo>
                <a:lnTo>
                  <a:pt x="965204" y="304795"/>
                </a:lnTo>
                <a:lnTo>
                  <a:pt x="1447800" y="304800"/>
                </a:lnTo>
                <a:lnTo>
                  <a:pt x="1206508" y="609600"/>
                </a:lnTo>
                <a:lnTo>
                  <a:pt x="1447800" y="914400"/>
                </a:lnTo>
                <a:lnTo>
                  <a:pt x="965204" y="914405"/>
                </a:lnTo>
                <a:lnTo>
                  <a:pt x="723900" y="1219200"/>
                </a:lnTo>
                <a:lnTo>
                  <a:pt x="482596" y="914405"/>
                </a:lnTo>
                <a:lnTo>
                  <a:pt x="0" y="914400"/>
                </a:lnTo>
                <a:lnTo>
                  <a:pt x="241292" y="609600"/>
                </a:lnTo>
                <a:lnTo>
                  <a:pt x="0" y="3048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Franklin Gothic Book"/>
                <a:cs typeface="Tahoma"/>
              </a:rPr>
              <a:t>اخلا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9360">
            <a:solidFill>
              <a:srgbClr val="f3cd6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1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 مطالعات اجتماع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درك وجود خود ، نيازها ، توانمندي ها ، ظرفيت ها و ابعاد هويت متعالي خويش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شناخت خود ، ظرفيت ها و هويت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 خويش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69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E4A-3981-427F-AD45-5DBE7D8C214F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2"/>
          <a:stretch/>
        </p:blipFill>
        <p:spPr>
          <a:xfrm>
            <a:off x="231840" y="139680"/>
            <a:ext cx="8783640" cy="27795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304920" y="304920"/>
            <a:ext cx="86868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d2a010"/>
                </a:solidFill>
                <a:latin typeface="Franklin Gothic Book"/>
                <a:cs typeface="Tahoma"/>
              </a:rPr>
              <a:t>هدف شماره </a:t>
            </a:r>
            <a:r>
              <a:rPr b="1" lang="en-US" sz="3200" spc="-1" strike="noStrike">
                <a:solidFill>
                  <a:srgbClr val="d2a010"/>
                </a:solidFill>
                <a:latin typeface="Franklin Gothic Book"/>
                <a:ea typeface="Tahoma"/>
              </a:rPr>
              <a:t>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تعقل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صير نسبت به آثار و پيامدهاي سبك زندگي خود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لم )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علم نسبت به پديده ها ، روابط ، رويدادهاو قوانين جهان آفرينش و چگونگي برقراري ارتباط انسان با آن ها و بهره برداري بهينه از آنان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(عمل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4e3b30"/>
                </a:solidFill>
                <a:latin typeface="Franklin Gothic Book"/>
                <a:cs typeface="Tahoma"/>
              </a:rPr>
              <a:t>به كارگيري آداب و مهارت ها و سبك زندگي اسلامي – ايراني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  <a:ea typeface="Tahoma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2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" descr=""/>
          <p:cNvPicPr/>
          <p:nvPr/>
        </p:nvPicPr>
        <p:blipFill>
          <a:blip r:embed="rId2"/>
          <a:stretch/>
        </p:blipFill>
        <p:spPr>
          <a:xfrm>
            <a:off x="1235160" y="457200"/>
            <a:ext cx="6750000" cy="6016680"/>
          </a:xfrm>
          <a:prstGeom prst="rect">
            <a:avLst/>
          </a:prstGeom>
          <a:ln w="0">
            <a:noFill/>
          </a:ln>
        </p:spPr>
      </p:pic>
      <p:sp>
        <p:nvSpPr>
          <p:cNvPr id="1074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  <a:ea typeface="B Titr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600200" y="1981080"/>
            <a:ext cx="464832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با سپاس </a:t>
            </a:r>
            <a:br>
              <a:rPr sz="3400"/>
            </a:br>
            <a:r>
              <a:rPr b="1" lang="hi-IN" sz="3400" spc="-1" strike="noStrike">
                <a:solidFill>
                  <a:srgbClr val="000000"/>
                </a:solidFill>
                <a:latin typeface="Arial"/>
                <a:cs typeface="B Titr"/>
              </a:rPr>
              <a:t>موفق و پیروز باشید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B Titr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0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79200" y="79200"/>
            <a:ext cx="8686800" cy="100656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F92-AD4D-45C4-B971-1A3CE1378EE6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638680" y="1219320"/>
            <a:ext cx="3276720" cy="518148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Franklin Gothic Book"/>
                <a:cs typeface="B Zar"/>
              </a:rPr>
              <a:t>مطالعات اجتماع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  <a:ea typeface="B Zar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يك حوزه ي يادگيري اصلي که مفاهيم اصلي خود را از ائتلاف رشته هاي گوناگون به ويژه جغرافيا؛ تاريخ و علوم اجتماعي اخذ می ک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4889520" cy="556596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231840" y="0"/>
            <a:ext cx="9375840" cy="12193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 txBox="1"/>
          <p:nvPr/>
        </p:nvSpPr>
        <p:spPr>
          <a:xfrm>
            <a:off x="152280" y="1295280"/>
            <a:ext cx="8839440" cy="5029200"/>
          </a:xfrm>
          <a:prstGeom prst="rect">
            <a:avLst/>
          </a:prstGeom>
          <a:solidFill>
            <a:srgbClr val="f3cd60"/>
          </a:solidFill>
          <a:ln w="9360">
            <a:solidFill>
              <a:srgbClr val="f3cd60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بيت اجتماعي؛ تربيت شهروند مطلوب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پرورش مهارت هاي زندگي فردي واجتماعي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هويت بخشي: ايجاد تعلق و علاقه به وطن و حفظ كشور؛ شناخت منابع و استعدادهاي آن و انتقال ميراث فرهنگي و مشاركت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7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دروني سازي ارزش هاي اخلاقي و پيشگيري از آسيب هاي اجتماع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84400" indent="-284400" algn="r" rtl="1">
              <a:lnSpc>
                <a:spcPct val="15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فكر انتقادي و نقادي اجتماعي و فرهنگي بر مبناي ملاك هاي اعتقادي ديني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"/>
          <p:cNvSpPr/>
          <p:nvPr/>
        </p:nvSpPr>
        <p:spPr>
          <a:xfrm>
            <a:off x="8534520" y="6858000"/>
            <a:ext cx="12189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08F-3759-4404-ACB0-B50886BA05AC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8454960" cy="1006560"/>
          </a:xfrm>
          <a:prstGeom prst="rect">
            <a:avLst/>
          </a:prstGeom>
          <a:ln w="0">
            <a:noFill/>
          </a:ln>
        </p:spPr>
      </p:pic>
      <p:sp>
        <p:nvSpPr>
          <p:cNvPr id="892" name="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DD3-51D3-42E7-B33F-315E8F381333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04920" y="1523880"/>
            <a:ext cx="8534160" cy="4953240"/>
          </a:xfrm>
          <a:prstGeom prst="rect">
            <a:avLst/>
          </a:prstGeom>
          <a:solidFill>
            <a:srgbClr val="f3cd60"/>
          </a:solidFill>
          <a:ln w="25560">
            <a:solidFill>
              <a:srgbClr val="fbee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indent="4180320" algn="r" rtl="1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عزت و هويت اسلامي – ايران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ترويج و دروني سازي اخلاق و ارزش هاي اسلام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شناخت حقوق و مسئوليت هاي فردي و اجتماع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شناخت ميراث فرهنگي كشور؛ استعدادها و قابليت هاي آ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Franklin Gothic Book"/>
                <a:cs typeface="B Zar"/>
              </a:rPr>
              <a:t>گسترش بهداشت رواني و مقابله با آسيب هاي اجتماعي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  <a:ea typeface="B Zar"/>
              </a:rPr>
              <a:t> تقويت روحيه خود باوري؛ نشاط و اميد به آيند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-30240" y="457200"/>
            <a:ext cx="9210600" cy="93816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A40-3155-4C70-8A91-6A487547E372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3"/>
          <a:stretch/>
        </p:blipFill>
        <p:spPr>
          <a:xfrm>
            <a:off x="719280" y="4449600"/>
            <a:ext cx="1628640" cy="177804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2971800" y="4572000"/>
            <a:ext cx="4076640" cy="190512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5"/>
          <a:stretch/>
        </p:blipFill>
        <p:spPr>
          <a:xfrm>
            <a:off x="609480" y="1752480"/>
            <a:ext cx="1847880" cy="247680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6"/>
          <a:stretch/>
        </p:blipFill>
        <p:spPr>
          <a:xfrm>
            <a:off x="5638680" y="1981080"/>
            <a:ext cx="1295640" cy="22860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7"/>
          <a:stretch/>
        </p:blipFill>
        <p:spPr>
          <a:xfrm>
            <a:off x="2819520" y="19810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7162920" y="1752480"/>
            <a:ext cx="1904760" cy="464832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Franklin Gothic Book"/>
                <a:cs typeface="B Zar"/>
              </a:rPr>
              <a:t>مهارت هاي زندگي فردي و اجتماع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9360">
            <a:solidFill>
              <a:srgbClr val="f0a22e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603b14"/>
                </a:solidFill>
                <a:latin typeface="Franklin Gothic Book"/>
                <a:cs typeface="B Titr"/>
              </a:rPr>
              <a:t>جهت گيري كلي در سازماندهي محتوا و آموزش حوزه مطالعات اجتماعي در برنامه درسي ملي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اپايان دوره ابتدايي و متوسطه اول:                        در دوره دوم متوسطه: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e3b30"/>
                </a:solidFill>
                <a:latin typeface="Franklin Gothic Book"/>
                <a:ea typeface="B Zar"/>
              </a:rPr>
              <a:t>                                                                            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4e3b30"/>
                </a:solidFill>
                <a:latin typeface="Franklin Gothic Book"/>
                <a:cs typeface="B Zar"/>
              </a:rPr>
              <a:t>تلفيقي                                        نيمه تخصصي و دروس مستقل          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3" name="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6DC7-806D-4531-986F-8E9C98B801E0}" type="slidenum">
              <a:rPr b="0" lang="en-US" sz="1200" spc="-1" strike="noStrike">
                <a:solidFill>
                  <a:srgbClr val="d38e27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553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981080" y="3048120"/>
            <a:ext cx="1067040" cy="1371600"/>
          </a:xfrm>
          <a:prstGeom prst="downArrow">
            <a:avLst>
              <a:gd name="adj1" fmla="val -157139"/>
              <a:gd name="adj2" fmla="val 16526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9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eDownloadPowerpoint.Com</dc:creator>
  <dc:description/>
  <dc:language>en-US</dc:language>
  <cp:lastModifiedBy/>
  <dcterms:modified xsi:type="dcterms:W3CDTF">2010-12-28T09:29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