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EA3-2A35-4F8D-93C0-AC523DDD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0A2-47B3-4586-BEF5-FE80536C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1F5-45C1-4159-9945-4D485F7D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7FB-1D23-4A82-B2CE-2D9A4881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752E-3481-4BBD-88E6-C8262627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1752-762C-4741-857F-B056B948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5AD3-7A67-476F-B9BF-B72902BB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9A43-2ABA-454B-9317-5EA9482E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C428-1078-418F-AB0C-68AD31E4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EAF8-6BBF-49D0-A0A1-864AB6F9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65A1-7FDA-4B71-9A9F-3D1998EA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376-8155-4CD6-A2BE-B7D4F296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BD92-F269-4333-8FD6-9E2B8AF1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BEBD-2A8B-4018-ABF8-06A11EB5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02A5-5C82-4F40-A079-FBCAA0A2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F5D7-3427-40FA-95B5-AF6CFF2C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1935-BA2F-4D18-8277-F7B66CE6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ACF-0982-4590-B686-AA3B2FF5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5D9-3F51-459F-96F7-E77AC2E5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7A6-F12C-4072-82A6-04665CE8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9CB-C7DE-4227-9571-75611EBF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131-4151-491A-8314-A8362393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293-62E4-490A-B5E9-E741488D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0BF-456B-4B87-845D-0604FC16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9109-70CE-4367-9D5F-6DC331C500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D71D-B054-483C-B2EA-DADC34FEBE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1080" y="776160"/>
            <a:ext cx="838836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«</a:t>
            </a:r>
            <a:r>
              <a:rPr b="0" lang="fa-IR" sz="8800" spc="-1" strike="noStrike">
                <a:solidFill>
                  <a:srgbClr val="ffc000"/>
                </a:solidFill>
                <a:latin typeface="Arial"/>
                <a:cs typeface="2  Aseman"/>
              </a:rPr>
              <a:t>بسم الله الرحمن الرحیم</a:t>
            </a: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41440" y="2214360"/>
            <a:ext cx="8061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600" spc="-1" strike="noStrike">
                <a:solidFill>
                  <a:srgbClr val="ff0000"/>
                </a:solidFill>
                <a:latin typeface="Verdana"/>
                <a:cs typeface="B Titr"/>
              </a:rPr>
              <a:t>موضوع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 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: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قوانین و مقررات رشته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3</a:t>
            </a: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ورزشی فوتبال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Verdana"/>
                <a:cs typeface="B Titr"/>
              </a:rPr>
              <a:t>خطاهای قابل اخراج</a:t>
            </a:r>
            <a:br>
              <a:rPr sz="2400"/>
            </a:br>
            <a:r>
              <a:rPr b="1" lang="fa-IR" sz="2400" spc="-1" strike="noStrike">
                <a:solidFill>
                  <a:srgbClr val="ffff66"/>
                </a:solidFill>
                <a:latin typeface="Verdana"/>
                <a:ea typeface="B Lotu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 هر یک از 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فت خطای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، اخراج شده و کارت قرمز می گیر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خطای شدید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برخورد شدید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ف انداختن روی حریف یا هر شخص دیگ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فرصت آشکار گل را با دست زدن عمدی به توپ، از تیم حریف سلب نماید (بجز دروازه بان در محوطه جریمه خودش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فرصت آشکار گل را از حرکت رو به جلو حریف با خطاهایی که جریمه آن ضربه آزاد یا پنالتی می باشد، سلب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استفاده از الفاظ اهانت آمیز، بی احترامی یا فحش و یا حرکاتی همچون ژِست زد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7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ومین اخطار را در همان مسابقه دریافت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ی که اخراج شده باید زمین بازی و محوطه فنی را ترک کند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66"/>
                </a:solidFill>
                <a:latin typeface="Verdana"/>
                <a:cs typeface="B Lotus"/>
              </a:rPr>
              <a:t>ضربه پنالتی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قتی که بازیکنی یکی از خطاهای ده گانه که جریمه اش ضربه آزاد مستقیم است، در داخل محوطه جریمه خودش و زمانی که توپ در جریان باشد را انجام دهد، یک ضربه پنالتی برای تیم مقابل اعلام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ز ضربه مستقیم پنالتی گل محسوب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در پایان هر نیمه یا پایان وقت اضافی، پنالتی روی دهد اجازه داده می شود که ضربه پنالتی زده شو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law13-2"/>
          <p:cNvPicPr/>
          <p:nvPr/>
        </p:nvPicPr>
        <p:blipFill>
          <a:blip r:embed="rId1"/>
          <a:stretch/>
        </p:blipFill>
        <p:spPr>
          <a:xfrm>
            <a:off x="2987640" y="1125360"/>
            <a:ext cx="3097080" cy="1800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-71640"/>
            <a:ext cx="822960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Verdana"/>
                <a:cs typeface="_MRT_Khodkar"/>
              </a:rPr>
              <a:t>در موقع زدن ضربه پنالتی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می بایستی ثابت روی نقطه پنالتی قرار گیر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 زننده پنالتی باید به طور مشخص معرف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روی خط دروازه روبروی زننده ضربه پنالتی و بین تیرهای عمودی دروازه قرا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گیرد، تا با ضربه به توپ، ضربه پنالتی زده ش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موقعیت سایر بازیکنان بجز زننده ضربه: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ر داخل زمین بازی باشند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خارج از محوطه جریمه باش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ه فاصله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5/9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متر از نقطه پنالتی باش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ا زمانی که بازیکنان وضعیتی برابر قانون نداشته باشند، داور برای زدن پنالتی علامت نمی ده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rd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1774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8152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66"/>
                </a:solidFill>
                <a:latin typeface="Verdana"/>
                <a:cs typeface="B Lotus"/>
              </a:rPr>
              <a:t>توپ در بازی و خارج از با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- توپ خارج از باز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خارج از بازی است زمانی که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. تمام توپ از روی خط دروازه یا خط طولی از روی زمین یا هوا عبور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. بازی به وسیله داور متوقف شده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-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توپ در داخل بازی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در همه اوقات داخل بازی است و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همچنین شامل وقتی که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. توپ در اثر برخورد به تیرهای دروازه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یا تیرک پرچم گوشه برگشت کند و د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داخل زمین بازی باقی بما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. توپ در اثر برخورد به داور یا کم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داور، موقعی که آنها داخل زمین باز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ستند به زمین بازی بر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6" descr="law9"/>
          <p:cNvPicPr/>
          <p:nvPr/>
        </p:nvPicPr>
        <p:blipFill>
          <a:blip r:embed="rId1"/>
          <a:stretch/>
        </p:blipFill>
        <p:spPr>
          <a:xfrm>
            <a:off x="179280" y="3284640"/>
            <a:ext cx="4248360" cy="322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  <a:cs typeface="B Lotus"/>
              </a:rPr>
              <a:t>روش امتیاز دادن (گل زدن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به ثمر رسیدن گ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قتی که تمام توپ از روی خط دروازه بین تیرهای عمودی و زیر تیر افقی عبور کند و قوانین بازی توسط تیمی که گل برای او محاسبه می شود نقض نشده باشد، گل محسوب م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4" descr="law10"/>
          <p:cNvPicPr/>
          <p:nvPr/>
        </p:nvPicPr>
        <p:blipFill>
          <a:blip r:embed="rId1"/>
          <a:stretch/>
        </p:blipFill>
        <p:spPr>
          <a:xfrm>
            <a:off x="684360" y="2924280"/>
            <a:ext cx="4103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15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66"/>
                </a:solidFill>
                <a:latin typeface="Verdana"/>
                <a:cs typeface="B Lotus"/>
              </a:rPr>
              <a:t>پرتاب اوت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پرتاب توپ اوت روشی برای آغاز مجدد بازی محسوب می گردد. از پرتاب 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وت، گل محسوب نمی گردد. زمانی پرتاب توپ اوت اعلام می گرد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وقتی که تمام توپ از روی خط طولی، از روی زمین یا هوا عبور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از نقطه ای که توپ از خط طولی عبور کرده، پرتاب اوت انجام م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پرتاب توپ اوت توسط بازیکن تیم مقابل بازیکنی که آخرین بار توپ را لمس کرده انجام م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law15"/>
          <p:cNvPicPr/>
          <p:nvPr/>
        </p:nvPicPr>
        <p:blipFill>
          <a:blip r:embed="rId1"/>
          <a:stretch/>
        </p:blipFill>
        <p:spPr>
          <a:xfrm>
            <a:off x="3132000" y="3500280"/>
            <a:ext cx="1743120" cy="29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66"/>
                </a:solidFill>
                <a:latin typeface="Verdana"/>
                <a:cs typeface="B Titr"/>
              </a:rPr>
              <a:t>ضربه کرن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ضربه کرنر روشی برای آغاز مجدد بازی می باش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رود مستقیم ضربه کرنر به دروازه حریف گل محسوب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مانی ضربه کرنر اعلام می گردد که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مام توپ، توسط بازیکن مدافع از روی خط دروازه (خط عرضی زمین) از روی زمین یا هوا به بیرون از زمین رفته باش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ضربه آزاد غیرمستقیم، مستقیماً وارد دروازه زننده ضربه شود، یک ضربه کرنر برای تیم حریف اعلام می شو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law17"/>
          <p:cNvPicPr/>
          <p:nvPr/>
        </p:nvPicPr>
        <p:blipFill>
          <a:blip r:embed="rId1"/>
          <a:stretch/>
        </p:blipFill>
        <p:spPr>
          <a:xfrm>
            <a:off x="1258920" y="3573360"/>
            <a:ext cx="2895480" cy="309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6868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cs typeface="B Lotus"/>
              </a:rPr>
              <a:t>خطاها و رفتار ناشایست به صورت زیر جریمه می شوند:</a:t>
            </a:r>
            <a:br>
              <a:rPr sz="1800"/>
            </a:br>
            <a:r>
              <a:rPr b="1" lang="fa-IR" sz="1800" spc="-1" strike="noStrike">
                <a:solidFill>
                  <a:srgbClr val="ffff00"/>
                </a:solidFill>
                <a:latin typeface="Verdana"/>
                <a:ea typeface="B Titr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  <a:ea typeface="B Titr"/>
              </a:rPr>
              <a:t>- ضربه آزاد مستقیم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ea typeface="B Titr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    اگر بازیکنی هر یک از شش خطای زیر را به طریقی که به تشخیص داور با بی ملاحظگی و با استفاده از نیروی بیش از حد انجام دهد، یک ضربه آزاد مستقیم به نفع تیم مقابل اعلام خواهد شد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لگد زدن و یا اقدام به لگد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پشت پا زدن و یا اقدام به پشت پا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پریدن روی بازیک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تنه زدن به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زدن و یا اقدام به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هل دادن حریف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Round Diagonal Corner Rectangle 3" descr=""/>
          <p:cNvPicPr/>
          <p:nvPr/>
        </p:nvPicPr>
        <p:blipFill>
          <a:blip r:embed="rId1"/>
          <a:stretch/>
        </p:blipFill>
        <p:spPr>
          <a:xfrm>
            <a:off x="334800" y="103320"/>
            <a:ext cx="8547120" cy="282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law12"/>
          <p:cNvPicPr/>
          <p:nvPr/>
        </p:nvPicPr>
        <p:blipFill>
          <a:blip r:embed="rId2"/>
          <a:stretch/>
        </p:blipFill>
        <p:spPr>
          <a:xfrm>
            <a:off x="785880" y="428616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، هر یک از چهار خطای زیر را مرتکب شود، یک ضربه آزاد 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رای تیم مقابل اعلام خواهد ش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کل روی حریف، برای کسب توپ در شرایطی که قبل از لمس توپ با حریف برخورد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گرفتن حری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ف انداختن روی حری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ست زدن عمدی به توپ (جز برای دروازه بان در داخل محوطه جریمه خو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یک ضربه آزاد مستقیم از محلی که خطا اتفاق افتاده زده م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r>
              <a:rPr b="1" lang="fa-IR" sz="3600" spc="-1" strike="noStrike">
                <a:solidFill>
                  <a:srgbClr val="36e63a"/>
                </a:solidFill>
                <a:latin typeface="Verdana"/>
                <a:cs typeface="_MRT_Khodkar"/>
              </a:rPr>
              <a:t>ضربه پنال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اگر هریک از ده خطای بالا به وسیله بازیکن درداخل محوطه جریمه خود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صورت پذیرد، یک ضربه پنالتی به نفع تیم حریف اعلام می گردد. در اعلام ضر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پنالتی، وضعیت توپ ملاک نیست، اما توپ باید در جریان بازی باشد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Titr"/>
              </a:rPr>
              <a:t>2- 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cs typeface="B Titr"/>
              </a:rPr>
              <a:t>ضربه آزاد غیر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 به تشخیص داور، هریک از خطاهای زیر را مرتکب شود، یک ضربه آزاد غیرمستقیم به نفع تیم مقابل اعلام می شو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ازی کردن به نحو خطرنا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سد کر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جلوگیری از رها کردن توپ با دست توسط دروازه بان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 هر خطای دیگری که در قانون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2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پیش بینی نشده باشد انجام دهد، و بازی برای دادن اخطار یا اخراج متوقف شود، ضربه آزاد غیرمستقیم از محلی که خطا اتفاق افتاده اجرا می شو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یا اگر 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cs typeface="B Lotus"/>
              </a:rPr>
              <a:t>دروازه بان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در داخل محوطه جریمه خود، هر یک از 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cs typeface="B Lotus"/>
              </a:rPr>
              <a:t>پنج خطای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چنانچه دروازه بان توپ را بیش از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ثانیه در اختیار داشته باش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عد از رها کردن توپ، قبل از اینکه توپ توسط بازیکن دیگری لمس شده باشد، آن را دوباره با دستهایش لمس کن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چنانچه توپ عمداً توسط بازیکن همدسته دروازه بان با پا به طرف او زده شد و توپ را با دستهایش لمس نمای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توپ را از پرتاب اوت توسط همدسته اش با دستهایش لمس نماید. (بجز دروازه بان در محوطه جریمه خودش)</a:t>
            </a:r>
            <a:br>
              <a:rPr sz="2000"/>
            </a:b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- تنبیهات انضباط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تنها برای بازیکنان و جانشینان و بازیکنان تعویض شده می توان از کارت زرد و قرمز استفاده کر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98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98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98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98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cc00"/>
                </a:solidFill>
                <a:latin typeface="Verdana"/>
                <a:ea typeface="_MRT_Khodkar"/>
              </a:rPr>
              <a:t>- خطاهای قابل اخطار</a:t>
            </a:r>
            <a:br>
              <a:rPr sz="2400"/>
            </a:br>
            <a:r>
              <a:rPr b="1" lang="fa-IR" sz="2400" spc="-1" strike="noStrike">
                <a:solidFill>
                  <a:srgbClr val="ffff66"/>
                </a:solidFill>
                <a:latin typeface="Verdana"/>
                <a:ea typeface="B Lotu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 هر یک از 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فت خطای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، اخطار و کارت زرد می گیر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رفتار غیر ورزشی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مخالفت خود را با کلمات و عمل نشان ده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مصرانه قوانین بازی را نقض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آغاز مجدد بازی را به تأخیر انداز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عدم رعایت فاصله، در ضربات آزاد، ضربه کرنر و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دون اجازه داور، وارد یا دوباره وارد زمین باز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7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عمداً زمین بازی را بدون اجازه داور ترک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4:37:15Z</dcterms:created>
  <dc:creator>Love Maker</dc:creator>
  <dc:description/>
  <dc:language>en-US</dc:language>
  <cp:lastModifiedBy>aytak</cp:lastModifiedBy>
  <dcterms:modified xsi:type="dcterms:W3CDTF">2020-05-03T15:05:44Z</dcterms:modified>
  <cp:revision>72</cp:revision>
  <dc:subject/>
  <dc:title>تاریخچه فوتبال</dc:title>
</cp:coreProperties>
</file>