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E8D-424C-4EE9-9767-1889ABB6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985-A55C-4447-835A-5F5E3EA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4E3-7899-4257-988F-5442FFD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221-6810-4B72-AAF5-852F8B4C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A2B-E366-4EDD-93DF-3E8C522F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401-43DE-4977-BA0F-1A0E2DBB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CC53-252E-45A3-A642-3575D0B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215-DD11-43CE-8FA5-294FDFD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E78A-D929-4242-B684-2548F98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116-560F-4840-A768-0C6BE7C4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221-63BD-451F-B6B4-2D38DC1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CFA-7F1A-45C0-AA9E-F0EC9E29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E9D-EC2F-4F40-84D6-7694B0D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B20-FBAD-4E10-8676-B564276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D15-9736-4CB3-A64E-BB9DF51F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CB4-7BFA-4388-9057-60F018E1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4A2-C1FE-4E6D-9304-7FC54EBB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5D0-A838-40A4-BC4D-79B68DE3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A0C-1890-43D1-98D5-924E9E0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CE5-C0AD-40D0-905C-3BD9D7B8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2EA-6086-4488-82E5-BE87626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1F3-A0FE-4F90-8E37-AAD193E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829-869F-4F95-9C0B-3C7C23F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14D-084E-4F34-9FC6-4812FE10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5D79-876A-413A-9A20-7F06C670042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67B-B48E-4EE4-ADDD-C59C93BE1FC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C73-2F79-4814-A43D-25BAD7261E0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E49-20F7-4CFA-BFC9-D1404172795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عضلان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استقامت عضلانی کیفیتی است که یک دسته از عضلات بتوانندیک حرکت را در مدت طولانی تکرار کنند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در این قسمت نمونه هایی از تمرینات استقامتی آورد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 می شود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26B-9648-4168-B7A8-41276EB39DA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219320" y="1066680"/>
          <a:ext cx="73911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5"/>
          <p:cNvSpPr/>
          <p:nvPr/>
        </p:nvSpPr>
        <p:spPr>
          <a:xfrm>
            <a:off x="1219320" y="1066680"/>
            <a:ext cx="746748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تمرینات تکراری :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. تمرین طناب زدن با جلیقه سنگی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19720" y="594360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49A-08CD-473D-9701-4493C92691D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52480" y="2362320"/>
          <a:ext cx="670572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670572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5"/>
          <p:cNvSpPr/>
          <p:nvPr/>
        </p:nvSpPr>
        <p:spPr>
          <a:xfrm>
            <a:off x="1371600" y="1219320"/>
            <a:ext cx="7315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 تمرین افزایش استقامت عضلات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1BF-A689-426D-B349-FBE09BC240E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1143000" y="762120"/>
          <a:ext cx="731520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3152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1219320" y="914400"/>
            <a:ext cx="731520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تمرین زانو بلند جفت یا تک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419720" y="51814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EB6F-E8C3-4B2C-98B0-0E87BAE3C27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905120" y="1905120"/>
          <a:ext cx="5715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1371600" y="914400"/>
            <a:ext cx="7315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تمرینات دو نفر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8F20-D3F9-469F-BDC6-51BF117B6BA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قلبی تنفس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استقامت قلبی تنفسی از کیفیتهای بدنی پیشرفته هوازی است که معمولا با تمرینات طولانی انجام میشود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نمونه ای از تمرینات استقامتی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18E-9849-48C6-992E-8BE1113DFF5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استقامت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بالا وپایین رفتن روی چهار پای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طناب زد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یدنهای طولان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های کوتا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کار روی پ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استفاده از تمرینات دایرها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052-8A40-4E74-B0EC-6B4BCE90429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066680" y="1905120"/>
          <a:ext cx="731520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152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1143000" y="762120"/>
            <a:ext cx="76201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نمونه ای از تمرینات دایره ا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58B-F015-4031-8743-840C1018567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E73-72D3-4C75-BE31-F16E82285D9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Verdana"/>
              </a:rPr>
              <a:t>تمرینهای آمادگی جسمانی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6066-46A1-44F4-9082-88D69F81338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قدرت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کشش از بارفیکس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رازو نشست زانو خ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یپ پارال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7BD-8DD7-4395-A1E7-D83F1A34B9B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1219320" y="1295280"/>
          <a:ext cx="773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73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1143000" y="1371600"/>
            <a:ext cx="7772400" cy="2362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.استفاده از کش یا فنرهای ورزش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E57-70F8-42BD-83E9-E4B0391385E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300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295280" y="533520"/>
            <a:ext cx="73915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استفاده از توپ مدیسین با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038480" y="64008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5FFE-88C5-40CF-A682-89EEFF219CB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76520" y="2286000"/>
          <a:ext cx="662940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66294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4343400" y="58672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43000" y="1066680"/>
            <a:ext cx="762012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.استفاده از وسایل متفرقه وابتکاری وتو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96E-1831-4E8B-96FD-88BF035825D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676520" y="1752480"/>
          <a:ext cx="6753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753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5"/>
          <p:cNvSpPr/>
          <p:nvPr/>
        </p:nvSpPr>
        <p:spPr>
          <a:xfrm>
            <a:off x="1219320" y="914400"/>
            <a:ext cx="73152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 ابتکار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724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5600-EB3C-4ABB-9D77-A69DA7E0B52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19320" y="457200"/>
          <a:ext cx="7270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270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1219320" y="609480"/>
            <a:ext cx="739116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استفاده از یار کمک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343400" y="6019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79D1-55BD-4DF9-8DFD-7BA07510F8B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توان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توان عضلانی عبارت است از کاربرد قدرت عضلانی در واحد زما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نواع زانو بلن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ارت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یدنی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تاب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9:21Z</dcterms:modified>
  <cp:revision>95</cp:revision>
  <dc:subject/>
  <dc:title>آموزش هند بال</dc:title>
</cp:coreProperties>
</file>