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0E0-FB70-4AD1-B361-8CBFD20B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0EF-808D-4A4D-9D01-C528259F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0C5-8FFB-4B34-9BE0-DF74823F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B39-1999-4D4A-961F-0A54C95E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F65-A8AA-4DEC-9796-A429188A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6FDA-1C48-4CF5-839E-23C42E11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A8E2-E268-4C78-8AB0-22140E87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A6ED-E405-4AA1-B122-20271D96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4DE3-F223-4326-996D-A535A41F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CE42-DEC2-407B-94EF-8CC491A4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BDEB-164B-423E-ABD7-DE167632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F2C-6752-473A-BFD5-8ADF1E63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20B0-7277-43EF-952D-999E15A4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1D1A-2485-46FB-963D-54E9809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2AEA-26AC-4F15-B90E-47D6556A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BD89-309F-4886-B46B-1EBF2D93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9DC4-229A-439D-9D78-282ED6A5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C5B-E39E-47A5-B46F-2FE415D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5F6-28D7-4765-A99F-77B4BB20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8A9-0B23-4F7A-A5E4-7F69A32C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ED9-D875-4BD3-BF96-C3D57D83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78A-0C46-46F6-A824-5C639C1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2DC-4E58-41C9-ADD1-2D7A5BA0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10E-DE71-4A70-BF17-272BBAD4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C1CD-7DC2-4104-84E8-A12AE9E0BBA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65F-168F-4D66-B185-87859830F2F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1E26-9880-4136-B759-87BF593AF13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1600200" y="838080"/>
            <a:ext cx="6095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b3535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سم الله الرحمن الرحیم</a:t>
            </a:r>
            <a:endParaRPr b="0" lang="en-US" sz="1800" spc="1" strike="noStrike">
              <a:ln w="9360">
                <a:solidFill>
                  <a:srgbClr val="cb3535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0F5D-5A2B-4269-8AE7-874346FA465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اصول گرم کرد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گرم کردن عبارت است از آمادگی روانی وجسمانی ورزشکاران و جلوگیری از آسیب دیدگی در حین تمرین ومسابق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F7D4-DBAD-4E2F-A6EA-E678AC3EC6A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6666"/>
                </a:solidFill>
                <a:latin typeface="Arial"/>
              </a:rPr>
              <a:t>اصول گرم کردن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1465200" y="1828800"/>
          <a:ext cx="708516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1828800"/>
                    <a:ext cx="70851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65C7-1343-47F1-B130-64782BE797D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295280" y="304920"/>
          <a:ext cx="7481880" cy="58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74818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EBFA-CF68-4C36-92E1-72C6B2A8E13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990720" y="457200"/>
          <a:ext cx="76467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6467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3A2B-8D96-4C48-B0B0-FE2E1115ADA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676520" y="457200"/>
          <a:ext cx="7162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7162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7"/>
          <p:cNvGraphicFramePr/>
          <p:nvPr/>
        </p:nvGraphicFramePr>
        <p:xfrm>
          <a:off x="1733400" y="2967120"/>
          <a:ext cx="6667560" cy="13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2967120"/>
                    <a:ext cx="666756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AA65-2932-4A76-89B8-63F1C6F461F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-657720"/>
            <a:ext cx="7313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2209680" y="342900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پای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3200400" y="304920"/>
            <a:ext cx="2381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موفق باشی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2:26Z</dcterms:created>
  <dc:creator>Administrator</dc:creator>
  <dc:description/>
  <dc:language>en-US</dc:language>
  <cp:lastModifiedBy>aytak</cp:lastModifiedBy>
  <dcterms:modified xsi:type="dcterms:W3CDTF">2020-05-03T15:20:49Z</dcterms:modified>
  <cp:revision>95</cp:revision>
  <dc:subject/>
  <dc:title>آموزش هند بال</dc:title>
</cp:coreProperties>
</file>