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B40-77D9-4826-B8DE-0B034DC4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07D-9206-499C-A7B0-31CE6D35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5F1-81CA-4680-A931-54C0A12E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325-DC10-4229-A11D-FF220AB3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A628-9483-40B6-9CD7-20567651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F2E3D-70F1-4395-AB92-4477A17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FF75-1D8E-4B99-ACC7-DAE37500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6FC6-B696-4307-B171-D3246B17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7AEC-FB5A-46E4-B695-AB11AB25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D22C-EC7A-4389-9D0F-58F9C8DA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073B-0175-4CEC-B0D2-A65BE5F6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BC5-8B3B-4284-85D2-4707632A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EE16-D848-4F36-8865-39C43C2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DDE-C232-4676-9F81-08691072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DA02-D1D1-4A42-9957-7E2E16C2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560A-35B0-484A-8644-99154783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6376-56D4-4671-85A3-3097FD2A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C2E2-D87C-4C84-873E-29C5AA63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4C3-4CA1-4044-BC1F-34562CD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4A7E-1BDC-4B52-9CE7-ACA9E24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BD1-A585-43E0-BE32-AA3C803A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DE2-5DD0-495B-8EC9-2C1748EF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C08-3DA1-4A55-962C-FA5D8B21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26D-01D5-43BC-BBF3-8256367E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21C1-0856-4C68-8722-CC08D23C65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EA45-E580-4C99-9A8B-3AA6920068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aneshnameh.roshd.ir/mavara/mavara-index.php?page=&#1576;&#1585;&#1586;&#1740;&#1604;" TargetMode="External"/><Relationship Id="rId2" Type="http://schemas.openxmlformats.org/officeDocument/2006/relationships/hyperlink" Target="http://daneshnameh.roshd.ir/mavara/mavara-index.php?page=&#1575;&#1740;&#1578;&#1575;&#1604;&#1740;&#1575;" TargetMode="External"/><Relationship Id="rId3" Type="http://schemas.openxmlformats.org/officeDocument/2006/relationships/hyperlink" Target="http://daneshnameh.roshd.ir/mavara/mavara-index.php?page=&#1605;&#1587;&#1575;&#1576;&#1602;&#1607;" TargetMode="External"/><Relationship Id="rId4" Type="http://schemas.openxmlformats.org/officeDocument/2006/relationships/hyperlink" Target="http://daneshnameh.roshd.ir/mavara/mavara-index.php?page=&#1605;&#1587;&#1575;&#1576;&#1602;&#1575;&#1578;" TargetMode="External"/><Relationship Id="rId5" Type="http://schemas.openxmlformats.org/officeDocument/2006/relationships/hyperlink" Target="http://daneshnameh.roshd.ir/mavara/mavara-index.php?page=&#1576;&#1604;&#1688;&#1740;&#1705;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sociation-footbal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rfo.ir/footballpedia/afc" TargetMode="External"/><Relationship Id="rId2" Type="http://schemas.openxmlformats.org/officeDocument/2006/relationships/hyperlink" Target="http://www.irfo.ir/footballpedia/afc" TargetMode="External"/><Relationship Id="rId3" Type="http://schemas.openxmlformats.org/officeDocument/2006/relationships/hyperlink" Target="http://www.irfo.ir/footballpedia/caf" TargetMode="External"/><Relationship Id="rId4" Type="http://schemas.openxmlformats.org/officeDocument/2006/relationships/hyperlink" Target="http://www.irfo.ir/footballpedia/caf" TargetMode="External"/><Relationship Id="rId5" Type="http://schemas.openxmlformats.org/officeDocument/2006/relationships/hyperlink" Target="http://www.irfo.ir/footballpedia/concacaf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1080" y="776160"/>
            <a:ext cx="838836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«</a:t>
            </a:r>
            <a:r>
              <a:rPr b="0" lang="fa-IR" sz="8800" spc="-1" strike="noStrike">
                <a:solidFill>
                  <a:srgbClr val="ffc000"/>
                </a:solidFill>
                <a:latin typeface="Arial"/>
                <a:cs typeface="2  Aseman"/>
              </a:rPr>
              <a:t>بسم الله الرحمن الرحیم</a:t>
            </a:r>
            <a:r>
              <a:rPr b="0" lang="fa-IR" sz="4000" spc="-1" strike="noStrike">
                <a:solidFill>
                  <a:srgbClr val="ffc000"/>
                </a:solidFill>
                <a:latin typeface="Arial"/>
                <a:ea typeface="2  Aseman"/>
              </a:rPr>
              <a:t>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41440" y="2214360"/>
            <a:ext cx="80611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5600" spc="-1" strike="noStrike">
                <a:solidFill>
                  <a:srgbClr val="ff0000"/>
                </a:solidFill>
                <a:latin typeface="Verdana"/>
                <a:cs typeface="B Titr"/>
              </a:rPr>
              <a:t>موضوع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 </a:t>
            </a:r>
            <a:r>
              <a:rPr b="0" lang="fa-IR" sz="5600" spc="-1" strike="noStrike">
                <a:solidFill>
                  <a:srgbClr val="ff0000"/>
                </a:solidFill>
                <a:latin typeface="Verdana"/>
                <a:ea typeface="B Titr"/>
              </a:rPr>
              <a:t>: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قوانین و مقررات رشته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 </a:t>
            </a:r>
            <a:r>
              <a:rPr b="0" lang="en-US" sz="6600" spc="-1" strike="noStrike">
                <a:solidFill>
                  <a:srgbClr val="00b050"/>
                </a:solidFill>
                <a:latin typeface="IranNastaliq"/>
              </a:rPr>
              <a:t>1</a:t>
            </a:r>
            <a:r>
              <a:rPr b="0" lang="fa-IR" sz="6600" spc="-1" strike="noStrike">
                <a:solidFill>
                  <a:srgbClr val="00b050"/>
                </a:solidFill>
                <a:latin typeface="IranNastaliq"/>
              </a:rPr>
              <a:t>ورزشی فوتبال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7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untitled"/>
          <p:cNvPicPr/>
          <p:nvPr/>
        </p:nvPicPr>
        <p:blipFill>
          <a:blip r:embed="rId1"/>
          <a:stretch/>
        </p:blipFill>
        <p:spPr>
          <a:xfrm>
            <a:off x="250920" y="237960"/>
            <a:ext cx="864216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601 -0.46945 C 0.30382 -0.44584 0.16163 -0.42246 0.16667 -0.35093 C 0.1717 -0.27987 0.50399 -0.1007 0.47621 -0.04237 C 0.44844 0.01643 0.07882 -0.00672 1.11111E-006 4.44444E-006 E">
                                      <p:cBhvr>
                                        <p:cTn id="122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B Lotus"/>
              </a:rPr>
              <a:t>تاریخچه فوتبال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826920" y="1412640"/>
            <a:ext cx="7561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وتبال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894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ز کشور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1"/>
              </a:rPr>
              <a:t>برزی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وع شد . این ورزش به وسیله  چارلز میلر برزیلی که اجداد او انگلیسی بودند به مردم برزیل معرفی ش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7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سابقه ای بین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2"/>
              </a:rPr>
              <a:t>ایتالیا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 برزیل برگزار شد . هیچ کس تصور نمی کرد که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80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میلیون نفر از مردم جهان ناظر بر اجرای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3"/>
              </a:rPr>
              <a:t>مسابق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اشند</a:t>
            </a:r>
            <a:r>
              <a:rPr b="1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 بین المللی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04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نیان گزاری شد .ا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فدراسیو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وظیفه دارد که به نحوه ی اجرا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4"/>
              </a:rPr>
              <a:t>مسابقات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نظارت داشته باشد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.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قوانین فوتبال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دون موافقت و تصویب سای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کشورهای عضو فدراسیون تغییر نمی کند . در سال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192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بازیکنان فوتبال د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مسابقات المپ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ar-SA" sz="2600" spc="-1" strike="noStrike" u="sng">
                <a:solidFill>
                  <a:srgbClr val="ffffcc"/>
                </a:solidFill>
                <a:uFillTx/>
                <a:latin typeface="Verdana"/>
                <a:cs typeface="B Lotus"/>
                <a:hlinkClick r:id="rId5"/>
              </a:rPr>
              <a:t>بلژیک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شرکت کردند و در سال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ea typeface="B Lotus"/>
              </a:rPr>
              <a:t>1930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ea typeface="B Lotus"/>
              </a:rPr>
              <a:t> اولین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جام جهانی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در کشور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c000"/>
                </a:solidFill>
                <a:latin typeface="Verdana"/>
                <a:cs typeface="B Lotus"/>
              </a:rPr>
              <a:t>اروگوئه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1" lang="ar-SA" sz="2600" spc="-1" strike="noStrike">
                <a:solidFill>
                  <a:srgbClr val="ffffff"/>
                </a:solidFill>
                <a:latin typeface="Verdana"/>
                <a:cs typeface="B Lotus"/>
              </a:rPr>
              <a:t>برگزار شد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B Lotus"/>
              </a:rPr>
              <a:t> </a:t>
            </a:r>
            <a:r>
              <a:rPr b="0" lang="fa-IR" sz="2600" spc="-1" strike="noStrike">
                <a:solidFill>
                  <a:srgbClr val="ffffff"/>
                </a:solidFill>
                <a:latin typeface="Verdana"/>
                <a:ea typeface="B Lotu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4358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00"/>
                </a:solidFill>
                <a:latin typeface="Times New Roman"/>
                <a:cs typeface="2  Kidnap"/>
              </a:rPr>
              <a:t>فیفا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خفف کلمه فرانسو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Fédération Internationale de Football Associati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و انگلیسی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International Federation of Association Footbal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فیفا سازمان اداره کننده و قانون گذار بین الملل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fa-IR" sz="26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1"/>
              </a:rPr>
              <a:t>فوتبال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جهان است. دفتر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مرکزی و اجرایی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headquarter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ین سازمان در شهر زوریخ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Zürich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کشور سوییس قرار دارد و ریاست کنونی آن نیز به عهده سپ بلاتر است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9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فریقای جنوبی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2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آرژانتین و شیلی و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13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ایالات متحد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ه عضویت این فدراسیون جهانی در آمدند که این موضوع باعث شد تا اعضای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آن فقط کشورهای اروپایی نباشند. فدراسیون فوتبال ایران نیز در سال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20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ه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50200" indent="0" algn="r" rtl="1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عضویت فیفا در آمد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3588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400" indent="0" algn="r" rtl="1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ffffff"/>
                </a:solidFill>
                <a:latin typeface="Times New Roman"/>
                <a:cs typeface="B Lotus"/>
              </a:rPr>
              <a:t>با گسترش فوتبال بویژه در کشورهای اروپایی در اوایل قرن بیستم، جای خالی یک اتحادیه بین المللی جهت کنترل فوتبال جهان احساس می شد. در روز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21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می 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1904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بالاخره فیفا در شهر پاریس توسط هفت کشور سوئیس، دانمارک، هلند، سوئد، فرانسه، بلژیک و اسپانیا تاسیس شد و اولین عضوهای این فدراسیون همین هفت کشور بودند. البته کشور اسپانیا از طریق فدراسیون فوتبالش عضو این سازمان نشد بلکه این کلوب فوتبال مادرید - باشگاه رئال مادرید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eal Madrid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امروزی - بود که عضو فیفا شد. روبرت گورین (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Robert Guérin</a:t>
            </a:r>
            <a:r>
              <a:rPr b="1" lang="fa-IR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) فرانسوی به عنوان اولین رئیس این فدراسیون انتخاب شد. نام این سازمان بدین خاطر فرانسوی انتخاب شد که تاسیس آن در فرانسه بود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.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Down Ribbon 2"/>
          <p:cNvSpPr/>
          <p:nvPr/>
        </p:nvSpPr>
        <p:spPr>
          <a:xfrm>
            <a:off x="285840" y="214200"/>
            <a:ext cx="8358120" cy="1000080"/>
          </a:xfrm>
          <a:custGeom>
            <a:avLst/>
            <a:gdLst>
              <a:gd name="textAreaLeft" fmla="*/ 2089440 w 8358120"/>
              <a:gd name="textAreaRight" fmla="*/ 6268680 w 8358120"/>
              <a:gd name="textAreaTop" fmla="*/ 16668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      تاریخچه فیف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384120" y="480960"/>
            <a:ext cx="9540720" cy="56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  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1"/>
              </a:rPr>
              <a:t>AFC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2"/>
              </a:rPr>
              <a:t>کنفدراسیون فوتبال آسیا</a:t>
            </a:r>
            <a:r>
              <a:rPr b="1" lang="fa-IR" sz="2200" spc="-1" strike="noStrike">
                <a:solidFill>
                  <a:srgbClr val="c00000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(منطقه: آسیا و استرالی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3"/>
              </a:rPr>
              <a:t>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</a:t>
            </a:r>
            <a:r>
              <a:rPr b="0" lang="fa-IR" sz="2200" spc="-1" strike="noStrike" u="sng">
                <a:solidFill>
                  <a:srgbClr val="ffffcc"/>
                </a:solidFill>
                <a:uFillTx/>
                <a:latin typeface="Times New Roman"/>
                <a:cs typeface="B Lotus"/>
                <a:hlinkClick r:id="rId4"/>
              </a:rPr>
              <a:t>کنفدراسیون فوتبال آفریقا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(منطقه: آفریقا)</a:t>
            </a:r>
            <a:br>
              <a:rPr sz="2200"/>
            </a:b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0" lang="en-US" sz="2200" spc="-1" strike="noStrike" u="sng">
                <a:solidFill>
                  <a:srgbClr val="ffffcc"/>
                </a:solidFill>
                <a:uFillTx/>
                <a:latin typeface="Times New Roman"/>
                <a:ea typeface="B Lotus"/>
                <a:hlinkClick r:id="rId5"/>
              </a:rPr>
              <a:t>CONCACAF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- کنفدراسیون فوتبال آمریکای شمالی و مرکزی، و اتحادیه کارابی (منطقه: آمریکای شمالی و آمریکای مرکزی)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CONMEBOL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آمریکای جنوبی (منطقه: آمریکای جنوبی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OFC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کنفدراسیون فوتبال اقیانوسیه (منطقه: اقیانوسیه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-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UEFA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r>
              <a:rPr b="1" lang="fa-IR" sz="2200" spc="-1" strike="noStrike">
                <a:solidFill>
                  <a:srgbClr val="ffffff"/>
                </a:solidFill>
                <a:latin typeface="Times New Roman"/>
                <a:cs typeface="B Lotus"/>
              </a:rPr>
              <a:t>اتحادیه فوتبال اروپا (منطقه: اروپا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B Lotus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Picture 3" descr="FIFA Confederations"/>
          <p:cNvPicPr/>
          <p:nvPr/>
        </p:nvPicPr>
        <p:blipFill>
          <a:blip r:embed="rId6"/>
          <a:stretch/>
        </p:blipFill>
        <p:spPr>
          <a:xfrm>
            <a:off x="1619280" y="3500280"/>
            <a:ext cx="568944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3" descr=""/>
          <p:cNvPicPr/>
          <p:nvPr/>
        </p:nvPicPr>
        <p:blipFill>
          <a:blip r:embed="rId1"/>
          <a:stretch/>
        </p:blipFill>
        <p:spPr>
          <a:xfrm>
            <a:off x="274680" y="30240"/>
            <a:ext cx="899784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1d1d"/>
              </a:solidFill>
              <a:latin typeface="Arial"/>
              <a:ea typeface="B Lotus"/>
            </a:endParaRPr>
          </a:p>
        </p:txBody>
      </p:sp>
      <p:pic>
        <p:nvPicPr>
          <p:cNvPr id="168" name="Diagram 4" descr=""/>
          <p:cNvPicPr/>
          <p:nvPr/>
        </p:nvPicPr>
        <p:blipFill>
          <a:blip r:embed="rId1"/>
          <a:stretch/>
        </p:blipFill>
        <p:spPr>
          <a:xfrm>
            <a:off x="360360" y="1298520"/>
            <a:ext cx="8429760" cy="5632560"/>
          </a:xfrm>
          <a:prstGeom prst="rect">
            <a:avLst/>
          </a:prstGeom>
          <a:ln w="0">
            <a:noFill/>
          </a:ln>
        </p:spPr>
      </p:pic>
      <p:pic>
        <p:nvPicPr>
          <p:cNvPr id="169" name="Diagram 3" descr=""/>
          <p:cNvPicPr/>
          <p:nvPr/>
        </p:nvPicPr>
        <p:blipFill>
          <a:blip r:embed="rId2"/>
          <a:stretch/>
        </p:blipFill>
        <p:spPr>
          <a:xfrm>
            <a:off x="1231920" y="-49320"/>
            <a:ext cx="68263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learning_football-law_field-dimensions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4:37:15Z</dcterms:created>
  <dc:creator>Love Maker</dc:creator>
  <dc:description/>
  <dc:language>en-US</dc:language>
  <cp:lastModifiedBy>aytak</cp:lastModifiedBy>
  <dcterms:modified xsi:type="dcterms:W3CDTF">2020-05-03T14:59:42Z</dcterms:modified>
  <cp:revision>73</cp:revision>
  <dc:subject/>
  <dc:title>تاریخچه فوتبال</dc:title>
</cp:coreProperties>
</file>