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3C7-87F2-4D66-A872-EBA50204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88E-75B2-463A-9016-D3A3BD4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28D-53ED-4216-AB33-84CDC385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828-3345-408C-8DD2-6FD1659B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5239-71AB-4412-A44D-445D5B71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D36D-A0F6-492E-B796-695E9C1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FA50-5556-496E-8489-09B17162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88F6-6548-45B0-A15C-A38B7D00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887A-EB48-4B51-8DFF-C10707CD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ABA9-5B2D-4CF0-B243-73873A35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8007-EFEE-4038-94B1-BDA01BB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3A9-9CB4-4AAA-AB07-335B9AC6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E28B-4230-46C1-96F9-29BF334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84C7-3E72-46A9-BE96-C7AD0EF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8F83-8A9F-4D32-9141-03C51762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CBB8-58B9-4C81-BC41-48C28E6D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0929-4CF5-44E7-9561-5B110BE1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AC56-C9AB-4466-9DD5-37B56478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603-E12A-4AF2-8C47-13785E4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741-69BA-4FC0-A406-702F59BB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2EB-5729-4185-8149-9E9E31A3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44F-47E4-46B6-8C7D-D10A5E6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B50-7113-403D-8EE5-ED73F8CE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63B-640B-4D75-A4A0-1D18E21C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3BE-1B68-48FF-84C8-4A9389E78B2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CF9D-9C8C-4B15-A7A1-A12426025C2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6B1E-FBE3-4C30-9F90-F440F74B4E9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DEED-D516-4224-B884-CBBD5C49027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عضلان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استقامت عضلانی کیفیتی است که یک دسته از عضلات بتوانندیک حرکت را در مدت طولانی تکرار کنند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در این قسمت نمونه هایی از تمرینات استقامتی آورد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900" spc="-1" strike="noStrike">
                <a:solidFill>
                  <a:srgbClr val="000000"/>
                </a:solidFill>
                <a:latin typeface="Verdana"/>
              </a:rPr>
              <a:t> می شود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A625-3B09-4618-9B44-1D4DBA97EDE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219320" y="1066680"/>
          <a:ext cx="739116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739116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5"/>
          <p:cNvSpPr/>
          <p:nvPr/>
        </p:nvSpPr>
        <p:spPr>
          <a:xfrm>
            <a:off x="1219320" y="1066680"/>
            <a:ext cx="7467480" cy="228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تمرینات تکراری :</a:t>
            </a:r>
            <a:br>
              <a:rPr sz="4000"/>
            </a:b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4000" spc="-1" strike="noStrike">
                <a:solidFill>
                  <a:srgbClr val="000000"/>
                </a:solidFill>
                <a:latin typeface="Verdana"/>
              </a:rPr>
              <a:t>. تمرین طناب زدن با جلیقه سنگی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419720" y="5943600"/>
            <a:ext cx="1066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3693-81B0-4EAE-8564-F08F298C452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1752480" y="2362320"/>
          <a:ext cx="670572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670572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5"/>
          <p:cNvSpPr/>
          <p:nvPr/>
        </p:nvSpPr>
        <p:spPr>
          <a:xfrm>
            <a:off x="1371600" y="1219320"/>
            <a:ext cx="731520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 تمرین افزایش استقامت عضلات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FD0-FF9B-4ED0-A80D-EC253D35C4B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1143000" y="762120"/>
          <a:ext cx="7315200" cy="48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3152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1219320" y="914400"/>
            <a:ext cx="7315200" cy="14479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تمرین زانو بلند جفت یا تک پا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419720" y="51814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CB8F-2DF9-4EC9-AFA0-23E1690889D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905120" y="1905120"/>
          <a:ext cx="57150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05120"/>
                    <a:ext cx="5715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1371600" y="914400"/>
            <a:ext cx="731520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تمرینات دو نفره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E3C5-5ECA-4403-91BA-92457CFC1FF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مربوط به استقامت قلبی تنفس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استقامت قلبی تنفسی از کیفیتهای بدنی پیشرفته هوازی است که معمولا با تمرینات طولانی انجام میشود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300" spc="-1" strike="noStrike">
                <a:solidFill>
                  <a:srgbClr val="000000"/>
                </a:solidFill>
                <a:latin typeface="Verdana"/>
              </a:rPr>
              <a:t>نمونه ای از تمرینات استقامتی 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D7E1-0D1A-4078-964E-28D09F0C8E2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6666"/>
                </a:solidFill>
                <a:latin typeface="Arial"/>
              </a:rPr>
              <a:t>تمرینات استقامتی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بالا وپایین رفتن روی چهار پای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طناب زد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یدنهای طولان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دوهای کوتا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کار روی پله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استفاده از تمرینات دایرها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7" dur="1" fill="hold"/>
                                  <p:tgtEl>
                                    <p:spTgt spid="15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6E4C-EB86-4B85-9799-2D7EEE7C7D0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066680" y="1905120"/>
          <a:ext cx="7315200" cy="43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05120"/>
                    <a:ext cx="731520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5"/>
          <p:cNvSpPr/>
          <p:nvPr/>
        </p:nvSpPr>
        <p:spPr>
          <a:xfrm>
            <a:off x="1143000" y="762120"/>
            <a:ext cx="7620120" cy="1143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نمونه ای از تمرینات دایره ا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2EA7-44E1-4B6D-AE18-797C53D2E826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7608-9584-4D56-B1B4-CBA43799AAE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000000"/>
                </a:solidFill>
                <a:latin typeface="Verdana"/>
              </a:rPr>
              <a:t>تمرینهای آمادگی جسمانی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D3CC-E8D4-4896-9AF1-2BC452A5EDD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قدرت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کشش از بارفیکس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رازو نشست زانو خ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.دیپ پارالل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FE88-8DAB-47DA-82E8-01A91F13AA6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1219320" y="1295280"/>
          <a:ext cx="7737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7737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Rectangle 5"/>
          <p:cNvSpPr/>
          <p:nvPr/>
        </p:nvSpPr>
        <p:spPr>
          <a:xfrm>
            <a:off x="1143000" y="1371600"/>
            <a:ext cx="7772400" cy="2362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lang="fa-IR" sz="3600" spc="-1" strike="noStrike">
                <a:solidFill>
                  <a:srgbClr val="006666"/>
                </a:solidFill>
                <a:latin typeface="Verdana"/>
              </a:rPr>
              <a:t>.استفاده از کش یا فنرهای ورزش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6AD9-9E82-46D4-814A-5A5A4B326EBB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6093000" cy="46483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1295280" y="533520"/>
            <a:ext cx="739152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fa-IR" sz="3600" spc="-1" strike="noStrike">
                <a:solidFill>
                  <a:srgbClr val="000000"/>
                </a:solidFill>
                <a:latin typeface="Verdana"/>
              </a:rPr>
              <a:t>.استفاده از توپ مدیسین با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4038480" y="640080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58E-8060-4317-A884-DD5F72826FCE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676520" y="2286000"/>
          <a:ext cx="662940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86000"/>
                    <a:ext cx="66294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5"/>
          <p:cNvSpPr/>
          <p:nvPr/>
        </p:nvSpPr>
        <p:spPr>
          <a:xfrm>
            <a:off x="4343400" y="58672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1143000" y="1066680"/>
            <a:ext cx="762012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.استفاده از وسایل متفرقه وابتکاری وتو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F395-48FA-4976-9367-0540CD1AB1F0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676520" y="1752480"/>
          <a:ext cx="6753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6753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5"/>
          <p:cNvSpPr/>
          <p:nvPr/>
        </p:nvSpPr>
        <p:spPr>
          <a:xfrm>
            <a:off x="1219320" y="914400"/>
            <a:ext cx="7315200" cy="12193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 ابتکار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191120" y="4724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FDA2-C9A9-4C1B-B6A4-80B3214CBDB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219320" y="457200"/>
          <a:ext cx="72705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72705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"/>
          <p:cNvSpPr/>
          <p:nvPr/>
        </p:nvSpPr>
        <p:spPr>
          <a:xfrm>
            <a:off x="1219320" y="609480"/>
            <a:ext cx="7391160" cy="1295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.استفاده از یار کمک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343400" y="601992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AF9E-3A71-4D6A-88E6-FB3CC3A3CC0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66"/>
                </a:solidFill>
                <a:latin typeface="Arial"/>
              </a:rPr>
              <a:t>تمرینات مربوط به توان عضلان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توان عضلانی عبارت است از کاربرد قدرت عضلانی در واحد زمان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نواع زانو بلند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ارت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یدنی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پرتابه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 algn="r" rtl="1">
              <a:spcBef>
                <a:spcPts val="7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Verdana"/>
              </a:rPr>
              <a:t>استفاده از وسای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9:21Z</dcterms:modified>
  <cp:revision>95</cp:revision>
  <dc:subject/>
  <dc:title>آموزش هند بال</dc:title>
</cp:coreProperties>
</file>