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9DC-D21E-47A9-9478-F7ED4320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1A3-2889-4EAE-A35E-3B2EC0D3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1EC-C330-4DF2-A35A-3B58CA75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3B3-D200-4F37-AD76-83DDE71B4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F586-92A0-48F2-B6D8-CF6C3098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CC09-60AA-4A06-9100-30A2C43E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5146-E887-4DEA-B6C3-0530517C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76D1-49DE-43F0-9CDC-90A7D801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103E-D0E7-4528-BD59-AAF32527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F419-741C-4A34-91A6-0147483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E218-8CE7-42BE-ACF8-F009B9B1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53C-82C7-4132-8259-1F04571E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7E37-A894-44F4-A4F7-77BE0A9B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D8C2-19F6-4C24-8598-EC6D2358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2F0B-5A48-43AD-98D7-E26D046F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0651-060C-4136-85D9-73F9B349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EF91-85BC-41E3-89DB-C50A9287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E1A-6226-4D7C-A1E0-FD303C02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AA7-2068-4398-8EE2-4B3238B2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D29-0EF7-44A9-93E6-A1BD7AC8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C08-F857-44AA-9F97-87F90B36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820-5895-4E77-9D22-105C06B0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EAE-6171-4062-97F3-9B80E473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4A00-0080-4D5E-821B-DF9A8880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506A-3054-43AA-B394-62E73A1E0074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آموزش هندبال </a:t>
            </a: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0657-7510-4E98-A187-AFF0DE1B60A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5A0-A6C4-4103-8500-5B4F630B9D2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1600200" y="838080"/>
            <a:ext cx="60958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b3535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بسم الله الرحمن الرحیم</a:t>
            </a:r>
            <a:endParaRPr b="0" lang="en-US" sz="1800" spc="1" strike="noStrike">
              <a:ln w="9360">
                <a:solidFill>
                  <a:srgbClr val="cb3535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FBA4-4B13-4B9A-ACE7-763E9AFA1C97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Verdana"/>
              </a:rPr>
              <a:t>اصول گرم کرد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 rtl="1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Verdana"/>
              </a:rPr>
              <a:t>گرم کردن عبارت است از آمادگی روانی وجسمانی ورزشکاران و جلوگیری از آسیب دیدگی در حین تمرین ومسابق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1249-06BB-49C7-BED6-B564B345A885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6666"/>
                </a:solidFill>
                <a:latin typeface="Arial"/>
              </a:rPr>
              <a:t>اصول گرم کردن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1465200" y="1828800"/>
          <a:ext cx="708516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1828800"/>
                    <a:ext cx="708516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A3C-2960-423C-A2A1-660015DACFC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295280" y="304920"/>
          <a:ext cx="7481880" cy="587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74818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FA26-017C-4D7E-9A1D-4AD1EAE6D67C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990720" y="457200"/>
          <a:ext cx="764676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6467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0DC-7FE4-4FE4-8D4D-6E69BD08448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676520" y="457200"/>
          <a:ext cx="716256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57200"/>
                    <a:ext cx="716256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7"/>
          <p:cNvGraphicFramePr/>
          <p:nvPr/>
        </p:nvGraphicFramePr>
        <p:xfrm>
          <a:off x="1733400" y="2967120"/>
          <a:ext cx="6667560" cy="13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3400" y="2967120"/>
                    <a:ext cx="6667560" cy="13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C42A-4F99-4D71-9334-745E0A8237B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-657720"/>
            <a:ext cx="7313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2209680" y="3429000"/>
            <a:ext cx="4800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پای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4" name="WordArt 8"/>
          <p:cNvSpPr txBox="1"/>
          <p:nvPr/>
        </p:nvSpPr>
        <p:spPr>
          <a:xfrm>
            <a:off x="3200400" y="304920"/>
            <a:ext cx="2381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موفق باشی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2:26Z</dcterms:created>
  <dc:creator>Administrator</dc:creator>
  <dc:description/>
  <dc:language>en-US</dc:language>
  <cp:lastModifiedBy>aytak</cp:lastModifiedBy>
  <dcterms:modified xsi:type="dcterms:W3CDTF">2020-05-03T15:20:49Z</dcterms:modified>
  <cp:revision>95</cp:revision>
  <dc:subject/>
  <dc:title>آموزش هند بال</dc:title>
</cp:coreProperties>
</file>