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B43-804A-4B01-B8BB-0ED3FEDE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9E3-A87A-4958-9030-7F3D255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A5E-C3D3-4E8C-BA3E-463C2632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18D-9176-4F6E-AF09-12B54EC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36AD-C908-4CC4-B0F8-C82149D1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5A3-8B29-4912-9660-E8738A5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687E-6677-4A65-BE39-CDD001A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8871-F2EF-47A7-BDDD-34896E1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AF6A-C1DE-474F-8078-C4C0647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E779-3F40-485B-8042-4466E97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1367-A930-41ED-A7E7-DFA6DF3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9FB-B43D-4F64-8BF0-DA5C0B15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9048-F3BF-4A2E-A0C6-9AF57BF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AAE-C2BF-4880-837D-8834E0B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55AC-BFEA-4B36-A50F-FC8CAB9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7350-8D14-4393-860F-FECAD8FD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221-0885-46D4-A557-92C3A793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C10-28AD-4411-9F87-082EDB4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27C-CDFF-4B0F-A20E-52CFB6B4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A67-B291-4E83-B902-39A49BD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002-12DF-4D90-9056-398C45B8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851-3345-4EF4-8685-B60CD04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3A4-E5AC-4120-ADBB-1050D88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25A-271C-464F-8CB9-7939EA19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FD8B-5AAB-43D8-A154-17E8A3D619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1AD4-730C-4913-8A2D-F2484E3822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3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Verdana"/>
                <a:cs typeface="B Titr"/>
              </a:rPr>
              <a:t>خطاهای قابل اخراج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راج شده و کارت قرمز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خطای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برخورد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 یا هر شخص دیگ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با دست زدن عمدی به توپ، از تیم حریف سلب نماید (بجز دروازه بان در محوطه جریمه خودش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از حرکت رو به جلو حریف با خطاهایی که جریمه آن ضربه آزاد یا پنالتی می باشد، سلب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ستفاده از الفاظ اهانت آمیز، بی احترامی یا فحش و یا حرکاتی همچون ژِست زد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ومین اخطار را در همان مسابقه دریافت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ی که اخراج شده باید زمین بازی و محوطه فنی را ترک کن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Verdana"/>
                <a:cs typeface="B Lotus"/>
              </a:rPr>
              <a:t>ضربه پنالت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بازیکنی یکی از خطاهای ده گانه که جریمه اش ضربه آزاد مستقیم است، در داخل محوطه جریمه خودش و زمانی که توپ در جریان باشد را انجام دهد، یک ضربه پنالتی برای تیم مقابل اعلام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ز ضربه مستقیم پنالتی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در پایان هر نیمه یا پایان وقت اضافی، پنالتی روی دهد اجازه داده می شود که ضربه پنالتی زده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law13-2"/>
          <p:cNvPicPr/>
          <p:nvPr/>
        </p:nvPicPr>
        <p:blipFill>
          <a:blip r:embed="rId1"/>
          <a:stretch/>
        </p:blipFill>
        <p:spPr>
          <a:xfrm>
            <a:off x="2987640" y="1125360"/>
            <a:ext cx="3097080" cy="180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Verdana"/>
                <a:cs typeface="_MRT_Khodkar"/>
              </a:rPr>
              <a:t>در موقع زدن ضربه پنالتی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می بایستی ثابت روی نقطه پنالتی قرار گیر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زننده پنالتی باید به طور مشخص معرف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روی خط دروازه روبروی زننده ضربه پنالتی و بین تیرهای عمودی دروازه قرا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گیرد، تا با ضربه به توپ، ضربه پنالتی زده ش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موقعیت سایر بازیکنان بجز زننده ضربه: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ر داخل زمین بازی باشن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خارج از محوطه جریمه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ه فاصله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5/9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متر از نقطه پنالتی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ا زمانی که بازیکنان وضعیتی برابر قانون نداشته باشند، داور برای زدن پنالتی علامت نمی ده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1774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8152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Lotus"/>
              </a:rPr>
              <a:t>توپ در بازی و خارج از با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 توپ خارج از باز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خارج از بازی است زمان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تمام توپ از روی خط دروازه یا خط طول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بازی به وسیله داور متوقف شده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توپ در داخل بازی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در همه اوقات داخل بازی است و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همچنین شامل وقت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تیرهای درواز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یا تیرک پرچم گوشه برگشت کند و د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خل زمین بازی باقی بما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داور یا کم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ور، موقعی که آنها داخل زمین باز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ستند به زمین بازی بر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6" descr="law9"/>
          <p:cNvPicPr/>
          <p:nvPr/>
        </p:nvPicPr>
        <p:blipFill>
          <a:blip r:embed="rId1"/>
          <a:stretch/>
        </p:blipFill>
        <p:spPr>
          <a:xfrm>
            <a:off x="179280" y="3284640"/>
            <a:ext cx="4248360" cy="32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  <a:cs typeface="B Lotus"/>
              </a:rPr>
              <a:t>روش امتیاز دادن (گل زدن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به ثمر رسیدن گ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تمام توپ از روی خط دروازه بین تیرهای عمودی و زیر تیر افقی عبور کند و قوانین بازی توسط تیمی که گل برای او محاسبه می شود نقض نشده باشد، گل محسوب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law10"/>
          <p:cNvPicPr/>
          <p:nvPr/>
        </p:nvPicPr>
        <p:blipFill>
          <a:blip r:embed="rId1"/>
          <a:stretch/>
        </p:blipFill>
        <p:spPr>
          <a:xfrm>
            <a:off x="684360" y="2924280"/>
            <a:ext cx="410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66"/>
                </a:solidFill>
                <a:latin typeface="Verdana"/>
                <a:cs typeface="B Lotus"/>
              </a:rPr>
              <a:t>پرتاب اوت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رتاب توپ اوت روشی برای آغاز مجدد بازی محسوب می گردد. از پرتاب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وت، گل محسوب نمی گردد. زمانی پرتاب توپ اوت اعلام می گرد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وقتی که تمام توپ از روی خط طولی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ز نقطه ای که توپ از خط طولی عبور کرده، پرتاب اوت انجام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پرتاب توپ اوت توسط بازیکن تیم مقابل بازیکنی که آخرین بار توپ را لمس کرده انجام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law15"/>
          <p:cNvPicPr/>
          <p:nvPr/>
        </p:nvPicPr>
        <p:blipFill>
          <a:blip r:embed="rId1"/>
          <a:stretch/>
        </p:blipFill>
        <p:spPr>
          <a:xfrm>
            <a:off x="3132000" y="3500280"/>
            <a:ext cx="17431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Titr"/>
              </a:rPr>
              <a:t>ضربه کرن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ضربه کرنر روشی برای آغاز مجدد بازی می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رود مستقیم ضربه کرنر به دروازه حریف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مانی ضربه کرنر اعلام می گردد که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مام توپ، توسط بازیکن مدافع از روی خط دروازه (خط عرضی زمین) از روی زمین یا هوا به بیرون از زمین رفته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ضربه آزاد غیرمستقیم، مستقیماً وارد دروازه زننده ضربه شود، یک ضربه کرنر برای تیم حریف اعلام می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law17"/>
          <p:cNvPicPr/>
          <p:nvPr/>
        </p:nvPicPr>
        <p:blipFill>
          <a:blip r:embed="rId1"/>
          <a:stretch/>
        </p:blipFill>
        <p:spPr>
          <a:xfrm>
            <a:off x="1258920" y="3573360"/>
            <a:ext cx="289548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686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cs typeface="B Lotus"/>
              </a:rPr>
              <a:t>خطاها و رفتار ناشایست به صورت زیر جریمه می شوند:</a:t>
            </a:r>
            <a:br>
              <a:rPr sz="1800"/>
            </a:br>
            <a:r>
              <a:rPr b="1" lang="fa-IR" sz="1800" spc="-1" strike="noStrike">
                <a:solidFill>
                  <a:srgbClr val="ffff00"/>
                </a:solidFill>
                <a:latin typeface="Verdana"/>
                <a:ea typeface="B Titr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  <a:ea typeface="B Titr"/>
              </a:rPr>
              <a:t>- ضربه آزاد مستقیم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ea typeface="B Titr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    اگر بازیکنی هر یک از شش خطای زیر را به طریقی که به تشخیص داور با بی ملاحظگی و با استفاده از نیروی بیش از حد انجام دهد، یک ضربه آزاد مستقیم به نفع تیم مقابل اعلام خواهد شد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لگد زدن و یا اقدام به لگد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شت پا زدن و یا اقدام به پشت پا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ریدن روی بازیک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تنه زدن به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زدن و یا اقدام به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هل دادن حری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Round Diagonal Corner Rectangle 3" descr=""/>
          <p:cNvPicPr/>
          <p:nvPr/>
        </p:nvPicPr>
        <p:blipFill>
          <a:blip r:embed="rId1"/>
          <a:stretch/>
        </p:blipFill>
        <p:spPr>
          <a:xfrm>
            <a:off x="334800" y="103320"/>
            <a:ext cx="85471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aw12"/>
          <p:cNvPicPr/>
          <p:nvPr/>
        </p:nvPicPr>
        <p:blipFill>
          <a:blip r:embed="rId2"/>
          <a:stretch/>
        </p:blipFill>
        <p:spPr>
          <a:xfrm>
            <a:off x="785880" y="428616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، هر یک از چهار خطای زیر را مرتکب شود، یک ضربه آزاد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رای تیم مقابل اعلام خواهد ش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کل روی حریف، برای کسب توپ در شرایطی که قبل از لمس توپ با حریف برخورد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گرفتن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ست زدن عمدی به توپ (جز برای دروازه بان در داخل محوطه جریمه خو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یک ضربه آزاد مستقیم از محلی که خطا اتفاق افتاده زده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fa-IR" sz="3600" spc="-1" strike="noStrike">
                <a:solidFill>
                  <a:srgbClr val="36e63a"/>
                </a:solidFill>
                <a:latin typeface="Verdana"/>
                <a:cs typeface="_MRT_Khodkar"/>
              </a:rPr>
              <a:t>ضربه پنال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اگر هریک از ده خطای بالا به وسیله بازیکن درداخل محوطه جریمه خود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صورت پذیرد، یک ضربه پنالتی به نفع تیم حریف اعلام می گردد. در اعلام ضر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نالتی، وضعیت توپ ملاک نیست، اما توپ باید در جریان بازی باشد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Titr"/>
              </a:rPr>
              <a:t>2- 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cs typeface="B Titr"/>
              </a:rPr>
              <a:t>ضربه آزاد غیر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به تشخیص داور، هریک از خطاهای زیر را مرتکب شود، یک ضربه آزاد غیرمستقیم به نفع تیم مقابل اعلام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 کردن به نحو خطرنا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سد کر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جلوگیری از رها کردن توپ با دست توسط دروازه با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هر خطای دیگری که در قانو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پیش بینی نشده باشد انجام دهد، و بازی برای دادن اخطار یا اخراج متوقف شود، ضربه آزاد غیرمستقیم از محلی که خطا اتفاق افتاده اجرا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یا اگر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دروازه با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در داخل محوطه جریمه خود، هر یک از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پنج خطای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دروازه بان توپ را بیش از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ثانیه در اختیار داشته باش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عد از رها کردن توپ، قبل از اینکه توپ توسط بازیکن دیگری لمس شده باشد، آن را دوباره با دستهایش لمس کن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توپ عمداً توسط بازیکن همدسته دروازه بان با پا به طرف او زده شد و توپ را با دستهایش لمس نمای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وپ را از پرتاب اوت توسط همدسته اش با دستهایش لمس نماید. (بجز دروازه بان در محوطه جریمه خودش)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- تنبیهات انضباط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نها برای بازیکنان و جانشینان و بازیکنان تعویض شده می توان از کارت زرد و قرمز استفاده کر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cc00"/>
                </a:solidFill>
                <a:latin typeface="Verdana"/>
                <a:ea typeface="_MRT_Khodkar"/>
              </a:rPr>
              <a:t>- خطاهای قابل اخطار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طار و کارت زرد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رفتار غیر ورزشی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خالفت خود را با کلمات و عمل نشان ده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صرانه قوانین بازی را نقض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آغاز مجدد بازی را به تأخیر انداز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دم رعایت فاصله، در ضربات آزاد، ضربه کرنر و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دون اجازه داور، وارد یا دوباره وارد زمین باز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مداً زمین بازی را بدون اجازه داور ترک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5:05:44Z</dcterms:modified>
  <cp:revision>72</cp:revision>
  <dc:subject/>
  <dc:title>تاریخچه فوتبال</dc:title>
</cp:coreProperties>
</file>