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1AD-9F48-47FA-8210-794C4A53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E74-D426-40A3-A8B4-DEB91760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EC2-1C13-4183-85D3-1771C89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8C7-0A4D-4C63-B63D-049D23E4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19F-D0D8-4058-A9F5-B0397602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1BDE-AE5C-4A22-90E4-09D7598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D76-3B5B-4A37-A4FC-CA9A1818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567A-937A-45F7-9F6A-9A9989A7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8E76-0ECF-4AC1-B5C8-2DEC298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1309-B52F-4F79-BE93-02F05BB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867-1A55-4B87-9FEE-8FCF81F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846-6F96-443F-8208-886E58D7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A7B-C322-4709-B83B-1FF82D8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1376-5EB3-426A-82C7-AB9D4C0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D789-7FA1-490F-AE2B-62FB844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AD4-AC64-48FA-8E87-76F9B495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913-3BEE-4A01-826C-3CABF3FB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26A-C1EC-44C3-B85F-82338C2C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CBA-FFB8-4CE5-99E2-14AE3BC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C1B-AA41-48E3-911D-DAF817D4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CC7-2C94-4B17-AE3E-9297360A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9B4-0DE3-4168-9121-4803F7B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230-2D77-45E4-9407-47272FD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434-80C1-426D-8F10-57B7F05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7A9-6F7E-4947-B0EB-43D032236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2A40-7BBE-4FF5-8800-40075FDCC4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neshnameh.roshd.ir/mavara/mavara-index.php?page=&#1576;&#1585;&#1586;&#1740;&#1604;" TargetMode="External"/><Relationship Id="rId2" Type="http://schemas.openxmlformats.org/officeDocument/2006/relationships/hyperlink" Target="http://daneshnameh.roshd.ir/mavara/mavara-index.php?page=&#1575;&#1740;&#1578;&#1575;&#1604;&#1740;&#1575;" TargetMode="External"/><Relationship Id="rId3" Type="http://schemas.openxmlformats.org/officeDocument/2006/relationships/hyperlink" Target="http://daneshnameh.roshd.ir/mavara/mavara-index.php?page=&#1605;&#1587;&#1575;&#1576;&#1602;&#1607;" TargetMode="External"/><Relationship Id="rId4" Type="http://schemas.openxmlformats.org/officeDocument/2006/relationships/hyperlink" Target="http://daneshnameh.roshd.ir/mavara/mavara-index.php?page=&#1605;&#1587;&#1575;&#1576;&#1602;&#1575;&#1578;" TargetMode="External"/><Relationship Id="rId5" Type="http://schemas.openxmlformats.org/officeDocument/2006/relationships/hyperlink" Target="http://daneshnameh.roshd.ir/mavara/mavara-index.php?page=&#1576;&#1604;&#1688;&#1740;&#1705;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sociation-footbal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fc" TargetMode="External"/><Relationship Id="rId2" Type="http://schemas.openxmlformats.org/officeDocument/2006/relationships/hyperlink" Target="http://www.irfo.ir/footballpedia/afc" TargetMode="External"/><Relationship Id="rId3" Type="http://schemas.openxmlformats.org/officeDocument/2006/relationships/hyperlink" Target="http://www.irfo.ir/footballpedia/caf" TargetMode="External"/><Relationship Id="rId4" Type="http://schemas.openxmlformats.org/officeDocument/2006/relationships/hyperlink" Target="http://www.irfo.ir/footballpedia/caf" TargetMode="External"/><Relationship Id="rId5" Type="http://schemas.openxmlformats.org/officeDocument/2006/relationships/hyperlink" Target="http://www.irfo.ir/footballpedia/concacaf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1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untitled"/>
          <p:cNvPicPr/>
          <p:nvPr/>
        </p:nvPicPr>
        <p:blipFill>
          <a:blip r:embed="rId1"/>
          <a:stretch/>
        </p:blipFill>
        <p:spPr>
          <a:xfrm>
            <a:off x="250920" y="237960"/>
            <a:ext cx="86421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01 -0.46945 C 0.30382 -0.44584 0.16163 -0.42246 0.16667 -0.35093 C 0.1717 -0.27987 0.50399 -0.1007 0.47621 -0.04237 C 0.44844 0.01643 0.07882 -0.00672 1.11111E-006 4.44444E-006 E">
                                      <p:cBhvr>
                                        <p:cTn id="12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Lotus"/>
              </a:rPr>
              <a:t>تاریخچه فوتبا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26920" y="1412640"/>
            <a:ext cx="756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وتبال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894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ز کشور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1"/>
              </a:rPr>
              <a:t>برزی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وع شد . این ورزش به وسیله  چارلز میلر برزیلی که اجداد او انگلیسی بودند به مردم برزیل معرفی ش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7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سابقه ای بین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2"/>
              </a:rPr>
              <a:t>ایتالیا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 برزیل برگزار شد . هیچ کس تصور نمی کرد که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80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یلیون نفر از مردم جهان ناظر بر اجرای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3"/>
              </a:rPr>
              <a:t>مسابق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اشن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 بین المللی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04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نیان گزاری شد .ا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ظیفه دارد که به نحوه ی اجرا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4"/>
              </a:rPr>
              <a:t>مسابقات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نظارت داشته باشد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.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قوانین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دون موافقت و تصویب سای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کشورهای عضو فدراسیون تغییر نمی کند .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2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بازیکنان فوتبال د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مسابقات المپ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5"/>
              </a:rPr>
              <a:t>بلژ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کت کردند و در سال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ea typeface="B Lotus"/>
              </a:rPr>
              <a:t>193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ول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جام جهان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کشو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cs typeface="B Lotus"/>
              </a:rPr>
              <a:t>اروگوئ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رگزار شد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Times New Roman"/>
                <a:cs typeface="2  Kidnap"/>
              </a:rPr>
              <a:t>فیف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خفف کلمه فرانسو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Fédération Internationale de Football Associ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و انگلیسی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International Federation of Association Footbal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فیفا سازمان اداره کننده و قانون گذار بین الملل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fa-IR" sz="26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1"/>
              </a:rPr>
              <a:t>فوتبال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جهان است. دفتر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رکزی و اجرای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headquarter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ین سازمان در شهر زوریخ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Zürich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کشور سوییس قرار دارد و ریاست کنونی آن نیز به عهده سپ بلاتر است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9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فریقای جنوبی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2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رژانتین و شیلی و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3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ایالات متحد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ه عضویت این فدراسیون جهانی در آمدند که این موضوع باعث شد تا اعضا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آن فقط کشورهای اروپایی نباشند. فدراسیون فوتبال ایران نیز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20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عضویت فیفا در آمد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ا گسترش فوتبال بویژه در کشورهای اروپایی در اوایل قرن بیستم، جای خالی یک اتحادیه بین المللی جهت کنترل فوتبال جهان احساس می شد. در روز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21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م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4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الاخره فیفا در شهر پاریس توسط هفت کشور سوئیس، دانمارک، هلند، سوئد، فرانسه، بلژیک و اسپانیا تاسیس شد و اولین عضوهای این فدراسیون همین هفت کشور بودند. البته کشور اسپانیا از طریق فدراسیون فوتبالش عضو این سازمان نشد بلکه این کلوب فوتبال مادرید - باشگاه رئال مادرید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eal Madrid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مروزی - بود که عضو فیفا شد. روبرت گورین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obert Guérin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فرانسوی به عنوان اولین رئیس این فدراسیون انتخاب شد. نام این سازمان بدین خاطر فرانسوی انتخاب شد که تاسیس آن در فرانسه بود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Down Ribbon 2"/>
          <p:cNvSpPr/>
          <p:nvPr/>
        </p:nvSpPr>
        <p:spPr>
          <a:xfrm>
            <a:off x="285840" y="214200"/>
            <a:ext cx="8358120" cy="1000080"/>
          </a:xfrm>
          <a:custGeom>
            <a:avLst/>
            <a:gdLst>
              <a:gd name="textAreaLeft" fmla="*/ 2089440 w 8358120"/>
              <a:gd name="textAreaRight" fmla="*/ 6268680 w 8358120"/>
              <a:gd name="textAreaTop" fmla="*/ 16668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      تاریخچه فیف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-384120" y="480960"/>
            <a:ext cx="9540720" cy="56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1"/>
              </a:rPr>
              <a:t>AFC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2"/>
              </a:rPr>
              <a:t>کنفدراسیون فوتبال آسیا</a:t>
            </a:r>
            <a:r>
              <a:rPr b="1" lang="fa-IR" sz="2200" spc="-1" strike="noStrike">
                <a:solidFill>
                  <a:srgbClr val="c00000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(منطقه: آسیا و استرالی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3"/>
              </a:rPr>
              <a:t>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4"/>
              </a:rPr>
              <a:t>کنفدراسیون فوتبال آفریقا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(منطقه: آفریق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5"/>
              </a:rPr>
              <a:t>CONCA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کنفدراسیون فوتبال آمریکای شمالی و مرکزی، و اتحادیه کارابی (منطقه: آمریکای شمالی و آمریکای مرکزی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CONMEBO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آمریکای جنوبی (منطقه: آمریکای جنوبی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OFC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اقیانوسیه (منطقه: اقیانوسیه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UEF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اتحادیه فوتبال اروپا (منطقه: اروپا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FIFA Confederations"/>
          <p:cNvPicPr/>
          <p:nvPr/>
        </p:nvPicPr>
        <p:blipFill>
          <a:blip r:embed="rId6"/>
          <a:stretch/>
        </p:blipFill>
        <p:spPr>
          <a:xfrm>
            <a:off x="1619280" y="3500280"/>
            <a:ext cx="56894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3" descr=""/>
          <p:cNvPicPr/>
          <p:nvPr/>
        </p:nvPicPr>
        <p:blipFill>
          <a:blip r:embed="rId1"/>
          <a:stretch/>
        </p:blipFill>
        <p:spPr>
          <a:xfrm>
            <a:off x="274680" y="30240"/>
            <a:ext cx="89978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1d1d"/>
              </a:solidFill>
              <a:latin typeface="Arial"/>
              <a:ea typeface="B Lotus"/>
            </a:endParaRPr>
          </a:p>
        </p:txBody>
      </p:sp>
      <p:pic>
        <p:nvPicPr>
          <p:cNvPr id="168" name="Diagram 4" descr=""/>
          <p:cNvPicPr/>
          <p:nvPr/>
        </p:nvPicPr>
        <p:blipFill>
          <a:blip r:embed="rId1"/>
          <a:stretch/>
        </p:blipFill>
        <p:spPr>
          <a:xfrm>
            <a:off x="360360" y="1298520"/>
            <a:ext cx="8429760" cy="5632560"/>
          </a:xfrm>
          <a:prstGeom prst="rect">
            <a:avLst/>
          </a:prstGeom>
          <a:ln w="0">
            <a:noFill/>
          </a:ln>
        </p:spPr>
      </p:pic>
      <p:pic>
        <p:nvPicPr>
          <p:cNvPr id="169" name="Diagram 3" descr=""/>
          <p:cNvPicPr/>
          <p:nvPr/>
        </p:nvPicPr>
        <p:blipFill>
          <a:blip r:embed="rId2"/>
          <a:stretch/>
        </p:blipFill>
        <p:spPr>
          <a:xfrm>
            <a:off x="1231920" y="-49320"/>
            <a:ext cx="68263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learning_football-law_field-dimension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4:59:42Z</dcterms:modified>
  <cp:revision>73</cp:revision>
  <dc:subject/>
  <dc:title>تاریخچه فوتبال</dc:title>
</cp:coreProperties>
</file>