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C797-5A49-490D-BE58-E10124B0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1866-A815-46D6-BD03-17C70FCC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65F1-1299-4658-92C2-F9C35D65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CE3C-CC29-4940-A26A-8DD4261B0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5331-71CE-4B0A-B7F4-2679FD87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9F29-7B4D-42D3-ABDD-2AB6B867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1848-345C-4DA6-9EAA-45F30E36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547D-2541-4342-BF78-FCF5F3CB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5E08-2411-4AEB-808D-C984CB63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46DD-1EE5-4E7B-98CF-37E807A5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5C7F-8D70-4FE6-8F01-1A32EE1C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B47B-FAB7-43E0-B6FB-EE417BCF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CD38-B6AE-4801-B737-374F05D5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8232-B0A7-4B45-AA0A-D8C053E7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5541-DD1A-4C6C-95FE-FC4957F1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F8DD-5215-4F22-9DD7-ACD89689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98C5-9527-4A54-AED4-BD587720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E52-1FB4-4DDE-9A6D-99EFCBD8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F82B-B8A8-4831-B579-889FE5C2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DC59-5BCF-4626-B3E3-43A9582A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816D-3271-4C49-8ADD-D8F1D8A8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B36D-767C-438A-A2B2-2A982DE5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0D4-8B86-44FF-8B2F-D0B8C4A8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1D32-EC05-4045-AB04-5BA3928E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آموزش هندبال 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51BF-0FD4-4592-BCA9-FD4796126336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آموزش هندبال 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E9C3-30BC-4D88-8090-96B23B839928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0149-364C-478E-A9D4-AE99A1F249EA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1600200" y="838080"/>
            <a:ext cx="60958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b3535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بسم الله الرحمن الرحیم</a:t>
            </a:r>
            <a:endParaRPr b="0" lang="en-US" sz="1800" spc="1" strike="noStrike">
              <a:ln w="9360">
                <a:solidFill>
                  <a:srgbClr val="cb3535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391F-A209-459B-A6F0-445EF1060D07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6666"/>
                </a:solidFill>
                <a:latin typeface="Arial"/>
              </a:rPr>
              <a:t>تمرینات مربوط به استقامت عضلان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Verdana"/>
              </a:rPr>
              <a:t>استقامت عضلانی کیفیتی است که یک دسته از عضلات بتوانندیک حرکت را در مدت طولانی تکرار کنند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Verdana"/>
              </a:rPr>
              <a:t>در این قسمت نمونه هایی از تمرینات استقامتی آورده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Verdana"/>
              </a:rPr>
              <a:t> می شود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" dur="1" fill="hold"/>
                                  <p:tgtEl>
                                    <p:spTgt spid="1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1F8B-13C5-4D19-AFDF-24CC9E199474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1219320" y="1066680"/>
          <a:ext cx="739116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6680"/>
                    <a:ext cx="739116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5"/>
          <p:cNvSpPr/>
          <p:nvPr/>
        </p:nvSpPr>
        <p:spPr>
          <a:xfrm>
            <a:off x="1219320" y="1066680"/>
            <a:ext cx="7467480" cy="2286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Verdana"/>
              </a:rPr>
              <a:t>تمرینات تکراری :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</a:rPr>
              <a:t>. تمرین طناب زدن با جلیقه سنگین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4419720" y="5943600"/>
            <a:ext cx="1066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EDD3-C3EF-4C41-A45B-4B4DE91BE9B4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1752480" y="2362320"/>
          <a:ext cx="6705720" cy="25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362320"/>
                    <a:ext cx="670572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5"/>
          <p:cNvSpPr/>
          <p:nvPr/>
        </p:nvSpPr>
        <p:spPr>
          <a:xfrm>
            <a:off x="1371600" y="1219320"/>
            <a:ext cx="73152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. تمرین افزایش استقامت عضلات پا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AFF5-C3F4-4D30-AB93-B029CFDCB8A1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8" name="Object 5"/>
          <p:cNvGraphicFramePr/>
          <p:nvPr/>
        </p:nvGraphicFramePr>
        <p:xfrm>
          <a:off x="1143000" y="762120"/>
          <a:ext cx="7315200" cy="48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31520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6"/>
          <p:cNvSpPr/>
          <p:nvPr/>
        </p:nvSpPr>
        <p:spPr>
          <a:xfrm>
            <a:off x="1219320" y="914400"/>
            <a:ext cx="7315200" cy="1447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fa-IR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تمرین زانو بلند جفت یا تک پا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419720" y="5181480"/>
            <a:ext cx="990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DF72-F6EB-4950-B3B2-898BF8169846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905120" y="1905120"/>
          <a:ext cx="5715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05120"/>
                    <a:ext cx="5715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5"/>
          <p:cNvSpPr/>
          <p:nvPr/>
        </p:nvSpPr>
        <p:spPr>
          <a:xfrm>
            <a:off x="1371600" y="914400"/>
            <a:ext cx="731520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.تمرینات دو نفره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234D-251D-481B-961B-9940CB49A7ED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6666"/>
                </a:solidFill>
                <a:latin typeface="Arial"/>
              </a:rPr>
              <a:t>تمرینات مربوط به استقامت قلبی تنفس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300" spc="-1" strike="noStrike">
                <a:solidFill>
                  <a:srgbClr val="000000"/>
                </a:solidFill>
                <a:latin typeface="Verdana"/>
              </a:rPr>
              <a:t>استقامت قلبی تنفسی از کیفیتهای بدنی پیشرفته هوازی است که معمولا با تمرینات طولانی انجام میشود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300" spc="-1" strike="noStrike">
                <a:solidFill>
                  <a:srgbClr val="000000"/>
                </a:solidFill>
                <a:latin typeface="Verdana"/>
              </a:rPr>
              <a:t>نمونه ای از تمرینات استقامتی 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01F7-826D-4DE7-9AA3-59FE45C5A9DF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6666"/>
                </a:solidFill>
                <a:latin typeface="Arial"/>
              </a:rPr>
              <a:t>تمرینات استقامت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 algn="r" rtl="1"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بالا وپایین رفتن روی چهار پای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طناب زد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دویدنهای طولان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دوهای کوتا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کار روی پله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استفاده از تمرینات دایرها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7" dur="1" fill="hold"/>
                                  <p:tgtEl>
                                    <p:spTgt spid="15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4915-4D6F-4B52-ABFC-4A94A946A915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1066680" y="1905120"/>
          <a:ext cx="7315200" cy="43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7315200" cy="43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5"/>
          <p:cNvSpPr/>
          <p:nvPr/>
        </p:nvSpPr>
        <p:spPr>
          <a:xfrm>
            <a:off x="1143000" y="762120"/>
            <a:ext cx="762012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نمونه ای از تمرینات دایره ا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CD83-55DE-4F1C-B458-D1310137E65E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-657720"/>
            <a:ext cx="73134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9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WordArt 7"/>
          <p:cNvSpPr txBox="1"/>
          <p:nvPr/>
        </p:nvSpPr>
        <p:spPr>
          <a:xfrm>
            <a:off x="2209680" y="3429000"/>
            <a:ext cx="48006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پای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9" name="WordArt 8"/>
          <p:cNvSpPr txBox="1"/>
          <p:nvPr/>
        </p:nvSpPr>
        <p:spPr>
          <a:xfrm>
            <a:off x="3200400" y="304920"/>
            <a:ext cx="2381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موفق باشید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B123-6CEF-465D-AF47-56219A903E81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Verdana"/>
              </a:rPr>
              <a:t>تمرینهای آمادگی جسمانی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6F39-59BC-4537-AA5E-052DF2DDB550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6666"/>
                </a:solidFill>
                <a:latin typeface="Arial"/>
              </a:rPr>
              <a:t>تمرینات مربوط به قدرت عضلان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.کشش از بارفیکس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.درازو نشست زانو خ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.دیپ پارالل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" dur="1" fill="hold"/>
                                  <p:tgtEl>
                                    <p:spTgt spid="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6DDC-8D3F-4DD9-A6D6-FC684A3EDFD9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" name="Object 4"/>
          <p:cNvGraphicFramePr/>
          <p:nvPr/>
        </p:nvGraphicFramePr>
        <p:xfrm>
          <a:off x="1219320" y="1295280"/>
          <a:ext cx="773748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95280"/>
                    <a:ext cx="77374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Rectangle 5"/>
          <p:cNvSpPr/>
          <p:nvPr/>
        </p:nvSpPr>
        <p:spPr>
          <a:xfrm>
            <a:off x="1143000" y="1371600"/>
            <a:ext cx="7772400" cy="23623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6666"/>
                </a:solidFill>
                <a:latin typeface="Verdana"/>
              </a:rPr>
              <a:t>4</a:t>
            </a:r>
            <a:r>
              <a:rPr b="1" lang="fa-IR" sz="3600" spc="-1" strike="noStrike">
                <a:solidFill>
                  <a:srgbClr val="006666"/>
                </a:solidFill>
                <a:latin typeface="Verdana"/>
              </a:rPr>
              <a:t>.استفاده از کش یا فنرهای ورزش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972C-7929-4DC1-A543-5DD5E6DB6938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6093000" cy="46483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1295280" y="533520"/>
            <a:ext cx="739152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fa-IR" sz="3600" spc="-1" strike="noStrike">
                <a:solidFill>
                  <a:srgbClr val="000000"/>
                </a:solidFill>
                <a:latin typeface="Verdana"/>
              </a:rPr>
              <a:t>.استفاده از توپ مدیسین بال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038480" y="6400800"/>
            <a:ext cx="1219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4281-6BA5-42CE-AF78-E0DE3820488C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1676520" y="2286000"/>
          <a:ext cx="662940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86000"/>
                    <a:ext cx="662940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5"/>
          <p:cNvSpPr/>
          <p:nvPr/>
        </p:nvSpPr>
        <p:spPr>
          <a:xfrm>
            <a:off x="4343400" y="586728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143000" y="1066680"/>
            <a:ext cx="7620120" cy="1295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.استفاده از وسایل متفرقه وابتکاری وتو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A063-5284-48B3-A1FC-3237082A8510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1676520" y="1752480"/>
          <a:ext cx="6753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52480"/>
                    <a:ext cx="6753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5"/>
          <p:cNvSpPr/>
          <p:nvPr/>
        </p:nvSpPr>
        <p:spPr>
          <a:xfrm>
            <a:off x="1219320" y="914400"/>
            <a:ext cx="7315200" cy="12193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استفاده از وسایل ابتکار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4191120" y="472428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DD55-ECE5-4575-926E-9532F8D1A61F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1219320" y="457200"/>
          <a:ext cx="727056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72705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6"/>
          <p:cNvSpPr/>
          <p:nvPr/>
        </p:nvSpPr>
        <p:spPr>
          <a:xfrm>
            <a:off x="1219320" y="609480"/>
            <a:ext cx="7391160" cy="1295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.استفاده از یار کمک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343400" y="6019920"/>
            <a:ext cx="990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89E8-DE7F-419D-A9D4-D4190B8FE88E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6666"/>
                </a:solidFill>
                <a:latin typeface="Arial"/>
              </a:rPr>
              <a:t>تمرینات مربوط به توان عضلان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 algn="r" rtl="1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توان عضلانی عبارت است از کاربرد قدرت عضلانی در واحد زما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انواع زانو بلند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استارتها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پریدنیها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پرتابها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استفاده از وسای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23:32:26Z</dcterms:created>
  <dc:creator>Administrator</dc:creator>
  <dc:description/>
  <dc:language>en-US</dc:language>
  <cp:lastModifiedBy>aytak</cp:lastModifiedBy>
  <dcterms:modified xsi:type="dcterms:W3CDTF">2020-05-03T15:29:21Z</dcterms:modified>
  <cp:revision>95</cp:revision>
  <dc:subject/>
  <dc:title>آموزش هند بال</dc:title>
</cp:coreProperties>
</file>