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8B85-F142-47C6-8F73-917B56C9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B80-5CA9-4A47-A941-54D3AAE0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93BF-4F4D-49ED-89A2-90D26DBB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A615-4389-4E5A-8FBE-A3D5C88C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2DA8-AE47-423D-ADD2-F952A93A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7957-8A3F-4B22-B022-A83678FF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CA68-D2CB-4E79-8E70-7B9D93B8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BF07-8A0E-4D54-BAA0-57661F18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B42C-21F1-458C-859C-EAABD6CE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7B8E-CA65-490E-B1A7-268AD5CE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6530-8CD8-4286-A614-7329B8F3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453-E2DB-4614-B69D-DC1F0995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2CC1-AC79-4DDC-9469-88C8D59C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D78E-21FE-4D7C-A91C-6F991139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425A-8430-45CD-9212-027F0B28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7974-6D17-4866-90AD-5E65F56B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677E-B3F1-421B-8036-A7E24BAC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33F4-5E4F-445F-8230-78F23F3F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D3A7-49D2-4CE8-97EC-3AA88A42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DF4E-F944-419A-A5BD-B1A3E0A1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3365-91DA-48E1-AA44-0084D7A5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83C1-D769-4202-87A9-99B2ACC5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48C1-77DD-47D6-AEE6-5AEFE6DA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7C0F-5284-4B6D-A489-4D24F268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آموزش هندبال 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F0E9-9786-4EED-BA03-6E3326428372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آموزش هندبال 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D0BE-52A0-4C13-9FC4-B97E44E666E3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E6F5-8642-43AD-8F7D-1AD0E234922D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1600200" y="838080"/>
            <a:ext cx="60958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b3535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بسم الله الرحمن الرحیم</a:t>
            </a:r>
            <a:endParaRPr b="0" lang="en-US" sz="1800" spc="1" strike="noStrike">
              <a:ln w="9360">
                <a:solidFill>
                  <a:srgbClr val="cb3535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CB48-C37F-4C99-8864-9C8CBC59F3A8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اصول گرم کرد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گرم کردن عبارت است از آمادگی روانی وجسمانی ورزشکاران و جلوگیری از آسیب دیدگی در حین تمرین ومسابق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691B-DF79-4178-83D2-0EDCB3E20263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6666"/>
                </a:solidFill>
                <a:latin typeface="Arial"/>
              </a:rPr>
              <a:t>اصول گرم کردن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Object 5"/>
          <p:cNvGraphicFramePr/>
          <p:nvPr/>
        </p:nvGraphicFramePr>
        <p:xfrm>
          <a:off x="1465200" y="1828800"/>
          <a:ext cx="7085160" cy="38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5200" y="1828800"/>
                    <a:ext cx="708516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C7EE-6999-48CF-8B51-B120805E2E12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1295280" y="304920"/>
          <a:ext cx="7481880" cy="587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920"/>
                    <a:ext cx="748188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C334-67B2-4412-81EB-830C61F781D8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990720" y="457200"/>
          <a:ext cx="764676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76467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806B-8A08-48A2-9731-ACC2D54B5412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1676520" y="457200"/>
          <a:ext cx="716256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57200"/>
                    <a:ext cx="71625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7"/>
          <p:cNvGraphicFramePr/>
          <p:nvPr/>
        </p:nvGraphicFramePr>
        <p:xfrm>
          <a:off x="1733400" y="2967120"/>
          <a:ext cx="6667560" cy="13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3400" y="2967120"/>
                    <a:ext cx="6667560" cy="13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9B6A-F753-4283-9949-676FB2C0E973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-657720"/>
            <a:ext cx="7313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9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WordArt 7"/>
          <p:cNvSpPr txBox="1"/>
          <p:nvPr/>
        </p:nvSpPr>
        <p:spPr>
          <a:xfrm>
            <a:off x="2209680" y="3429000"/>
            <a:ext cx="48006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پای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4" name="WordArt 8"/>
          <p:cNvSpPr txBox="1"/>
          <p:nvPr/>
        </p:nvSpPr>
        <p:spPr>
          <a:xfrm>
            <a:off x="3200400" y="304920"/>
            <a:ext cx="2381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موفق باشید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23:32:26Z</dcterms:created>
  <dc:creator>Administrator</dc:creator>
  <dc:description/>
  <dc:language>en-US</dc:language>
  <cp:lastModifiedBy>aytak</cp:lastModifiedBy>
  <dcterms:modified xsi:type="dcterms:W3CDTF">2020-05-03T15:20:49Z</dcterms:modified>
  <cp:revision>95</cp:revision>
  <dc:subject/>
  <dc:title>آموزش هند بال</dc:title>
</cp:coreProperties>
</file>