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D6D0-7DC2-4E33-B4A4-755F177E2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61DB-F153-4636-B3F6-2E64ADD7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2351-118C-4A22-9D93-2F23B9830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7330-B734-4D15-8144-EE4454213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1AD2-4153-4C07-8728-E93C55B64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3D2C-AB62-45F6-A1D5-E7FED1EB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F8A0-4E8F-4DA9-9B57-4374F8A5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ED6E-D2A2-4373-AB91-0A79DA44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4ED4-8389-4BE6-B359-A05D17C3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348D-1C21-42D7-8BBD-E6763C64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D4D8-55B2-45D8-9B1A-AB2A7122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74C7-3217-485F-95DE-6EEAD6C2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FF85-D348-40C1-9F67-BF4C2938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86DB-E6AA-447B-82A3-FD98AC7A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B270-04A5-4353-9E37-DAE213E7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FD89-CBF1-441C-8494-E167F444B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BEE6-A0FF-46CD-B40D-B676DC25C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BFEB-30F1-4034-BF68-0D758B74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9801-0D74-41FE-8476-0F8191B8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E650-770A-412E-AA46-4EB927D9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FD28-3B6B-4184-AAE8-4E6A5CCF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5863-B7AB-47CE-91B2-EF00EA94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5946-64DF-49B2-86C0-8D764D20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6613-5B3C-4780-BDA5-E184F662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4C0E-3352-4F1F-BBD0-C0557E30FA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DE24-865D-4A6F-B7EB-F3ADA2DE7A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1080" y="776160"/>
            <a:ext cx="838836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c000"/>
                </a:solidFill>
                <a:latin typeface="Arial"/>
                <a:ea typeface="2  Aseman"/>
              </a:rPr>
              <a:t>«</a:t>
            </a:r>
            <a:r>
              <a:rPr b="0" lang="fa-IR" sz="8800" spc="-1" strike="noStrike">
                <a:solidFill>
                  <a:srgbClr val="ffc000"/>
                </a:solidFill>
                <a:latin typeface="Arial"/>
                <a:cs typeface="2  Aseman"/>
              </a:rPr>
              <a:t>بسم الله الرحمن الرحیم</a:t>
            </a:r>
            <a:r>
              <a:rPr b="0" lang="fa-IR" sz="4000" spc="-1" strike="noStrike">
                <a:solidFill>
                  <a:srgbClr val="ffc000"/>
                </a:solidFill>
                <a:latin typeface="Arial"/>
                <a:ea typeface="2  Aseman"/>
              </a:rPr>
              <a:t>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41440" y="2214360"/>
            <a:ext cx="806112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600" spc="-1" strike="noStrike">
                <a:solidFill>
                  <a:srgbClr val="ff0000"/>
                </a:solidFill>
                <a:latin typeface="Verdana"/>
                <a:cs typeface="B Titr"/>
              </a:rPr>
              <a:t>موضوع</a:t>
            </a:r>
            <a:r>
              <a:rPr b="0" lang="fa-IR" sz="5600" spc="-1" strike="noStrike">
                <a:solidFill>
                  <a:srgbClr val="ff0000"/>
                </a:solidFill>
                <a:latin typeface="Verdana"/>
                <a:ea typeface="B Titr"/>
              </a:rPr>
              <a:t> </a:t>
            </a:r>
            <a:r>
              <a:rPr b="0" lang="fa-IR" sz="5600" spc="-1" strike="noStrike">
                <a:solidFill>
                  <a:srgbClr val="ff0000"/>
                </a:solidFill>
                <a:latin typeface="Verdana"/>
                <a:ea typeface="B Titr"/>
              </a:rPr>
              <a:t>:</a:t>
            </a:r>
            <a:endParaRPr b="0" lang="en-US" sz="5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b050"/>
                </a:solidFill>
                <a:latin typeface="IranNastaliq"/>
              </a:rPr>
              <a:t>قوانین و مقررات رشته </a:t>
            </a:r>
            <a:r>
              <a:rPr b="0" lang="en-US" sz="6600" spc="-1" strike="noStrike">
                <a:solidFill>
                  <a:srgbClr val="00b050"/>
                </a:solidFill>
                <a:latin typeface="IranNastaliq"/>
              </a:rPr>
              <a:t>3</a:t>
            </a:r>
            <a:r>
              <a:rPr b="0" lang="fa-IR" sz="6600" spc="-1" strike="noStrike">
                <a:solidFill>
                  <a:srgbClr val="00b050"/>
                </a:solidFill>
                <a:latin typeface="IranNastaliq"/>
              </a:rPr>
              <a:t>ورزشی فوتبال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84358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0000"/>
                </a:solidFill>
                <a:latin typeface="Verdana"/>
                <a:cs typeface="B Titr"/>
              </a:rPr>
              <a:t>خطاهای قابل اخراج</a:t>
            </a:r>
            <a:br>
              <a:rPr sz="2400"/>
            </a:br>
            <a:r>
              <a:rPr b="1" lang="fa-IR" sz="2400" spc="-1" strike="noStrike">
                <a:solidFill>
                  <a:srgbClr val="ffff66"/>
                </a:solidFill>
                <a:latin typeface="Verdana"/>
                <a:ea typeface="B Lotus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اگر بازیکنی هر یک از </a:t>
            </a:r>
            <a:r>
              <a:rPr b="1" lang="fa-IR" sz="2400" spc="-1" strike="noStrike">
                <a:solidFill>
                  <a:srgbClr val="36e63a"/>
                </a:solidFill>
                <a:latin typeface="Verdana"/>
                <a:cs typeface="B Lotus"/>
              </a:rPr>
              <a:t>هفت خطای 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زیر را انجام دهد، اخراج شده و کارت قرمز می گیرد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1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برای خطای شدید گناهکار باش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2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برای برخورد شدید گناهکار باش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3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تف انداختن روی حریف یا هر شخص دیگر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4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فرصت آشکار گل را با دست زدن عمدی به توپ، از تیم حریف سلب نماید (بجز دروازه بان در محوطه جریمه خودش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5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فرصت آشکار گل را از حرکت رو به جلو حریف با خطاهایی که جریمه آن ضربه آزاد یا پنالتی می باشد، سلب نمای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6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استفاده از الفاظ اهانت آمیز، بی احترامی یا فحش و یا حرکاتی همچون ژِست زدن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7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دومین اخطار را در همان مسابقه دریافت نمای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بازیکنی که اخراج شده باید زمین بازی و محوطه فنی را ترک کند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66"/>
                </a:solidFill>
                <a:latin typeface="Verdana"/>
                <a:cs typeface="B Lotus"/>
              </a:rPr>
              <a:t>ضربه پنالتی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وقتی که بازیکنی یکی از خطاهای ده گانه که جریمه اش ضربه آزاد مستقیم است، در داخل محوطه جریمه خودش و زمانی که توپ در جریان باشد را انجام دهد، یک ضربه پنالتی برای تیم مقابل اعلام می گردد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- 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از ضربه مستقیم پنالتی گل محسوب می گردد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- 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اگر در پایان هر نیمه یا پایان وقت اضافی، پنالتی روی دهد اجازه داده می شود که ضربه پنالتی زده شود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Picture 4" descr="law13-2"/>
          <p:cNvPicPr/>
          <p:nvPr/>
        </p:nvPicPr>
        <p:blipFill>
          <a:blip r:embed="rId1"/>
          <a:stretch/>
        </p:blipFill>
        <p:spPr>
          <a:xfrm>
            <a:off x="2987640" y="1125360"/>
            <a:ext cx="3097080" cy="18003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-71640"/>
            <a:ext cx="8229600" cy="57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257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00"/>
                </a:solidFill>
                <a:latin typeface="Verdana"/>
                <a:cs typeface="_MRT_Khodkar"/>
              </a:rPr>
              <a:t>در موقع زدن ضربه پنالتی 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5704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توپ می بایستی ثابت روی نقطه پنالتی قرار گیر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704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بازیکن زننده پنالتی باید به طور مشخص معرفی گرد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704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روی خط دروازه روبروی زننده ضربه پنالتی و بین تیرهای عمودی دروازه قرار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704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گیرد، تا با ضربه به توپ، ضربه پنالتی زده شو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704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6e63a"/>
                </a:solidFill>
                <a:latin typeface="Verdana"/>
                <a:cs typeface="B Lotus"/>
              </a:rPr>
              <a:t>موقعیت سایر بازیکنان بجز زننده ضربه: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704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1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در داخل زمین بازی باشند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704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2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خارج از محوطه جریمه باشن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704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3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به فاصله 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15/9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 متر از نقطه پنالتی باشن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7040" indent="0" algn="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تا زمانی که بازیکنان وضعیتی برابر قانون نداشته باشند، داور برای زدن پنالتی علامت نمی دهد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rd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94920" y="260280"/>
            <a:ext cx="817740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81520" indent="0" algn="ctr" rtl="1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66"/>
                </a:solidFill>
                <a:latin typeface="Verdana"/>
                <a:cs typeface="B Lotus"/>
              </a:rPr>
              <a:t>توپ در بازی و خارج از باز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8152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0000"/>
                </a:solidFill>
                <a:latin typeface="IranNastaliq"/>
              </a:rPr>
              <a:t>- توپ خارج از باز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81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توپ خارج از بازی است زمانی که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1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00"/>
                </a:solidFill>
                <a:latin typeface="Verdana"/>
                <a:ea typeface="B Lotus"/>
              </a:rPr>
              <a:t>1</a:t>
            </a:r>
            <a:r>
              <a:rPr b="1" lang="fa-IR" sz="2400" spc="-1" strike="noStrike">
                <a:solidFill>
                  <a:srgbClr val="ffff00"/>
                </a:solidFill>
                <a:latin typeface="Verdana"/>
                <a:ea typeface="B Lotus"/>
              </a:rPr>
              <a:t>. تمام توپ از روی خط دروازه یا خط طولی از روی زمین یا هوا عبور کن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1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00"/>
                </a:solidFill>
                <a:latin typeface="Verdana"/>
                <a:ea typeface="B Lotus"/>
              </a:rPr>
              <a:t>2</a:t>
            </a:r>
            <a:r>
              <a:rPr b="1" lang="fa-IR" sz="2400" spc="-1" strike="noStrike">
                <a:solidFill>
                  <a:srgbClr val="ffff00"/>
                </a:solidFill>
                <a:latin typeface="Verdana"/>
                <a:ea typeface="B Lotus"/>
              </a:rPr>
              <a:t>. بازی به وسیله داور متوقف شده باش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152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0000"/>
                </a:solidFill>
                <a:latin typeface="IranNastaliq"/>
              </a:rPr>
              <a:t>-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fa-IR" sz="3600" spc="-1" strike="noStrike">
                <a:solidFill>
                  <a:srgbClr val="ff0000"/>
                </a:solidFill>
                <a:latin typeface="IranNastaliq"/>
              </a:rPr>
              <a:t>توپ در داخل بازی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81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توپ در همه اوقات داخل بازی است و                  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1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 همچنین شامل وقتی که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1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6e63a"/>
                </a:solidFill>
                <a:latin typeface="Verdana"/>
                <a:ea typeface="B Lotus"/>
              </a:rPr>
              <a:t>1</a:t>
            </a:r>
            <a:r>
              <a:rPr b="1" lang="fa-IR" sz="2400" spc="-1" strike="noStrike">
                <a:solidFill>
                  <a:srgbClr val="36e63a"/>
                </a:solidFill>
                <a:latin typeface="Verdana"/>
                <a:ea typeface="B Lotus"/>
              </a:rPr>
              <a:t>. توپ در اثر برخورد به تیرهای دروازه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1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6e63a"/>
                </a:solidFill>
                <a:latin typeface="Verdana"/>
                <a:cs typeface="B Lotus"/>
              </a:rPr>
              <a:t>یا تیرک پرچم گوشه برگشت کند و در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1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6e63a"/>
                </a:solidFill>
                <a:latin typeface="Verdana"/>
                <a:cs typeface="B Lotus"/>
              </a:rPr>
              <a:t>داخل زمین بازی باقی بمان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1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6e63a"/>
                </a:solidFill>
                <a:latin typeface="Verdana"/>
                <a:ea typeface="B Lotus"/>
              </a:rPr>
              <a:t>2</a:t>
            </a:r>
            <a:r>
              <a:rPr b="1" lang="fa-IR" sz="2400" spc="-1" strike="noStrike">
                <a:solidFill>
                  <a:srgbClr val="36e63a"/>
                </a:solidFill>
                <a:latin typeface="Verdana"/>
                <a:ea typeface="B Lotus"/>
              </a:rPr>
              <a:t>. توپ در اثر برخورد به داور یا کمک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1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6e63a"/>
                </a:solidFill>
                <a:latin typeface="Verdana"/>
                <a:cs typeface="B Lotus"/>
              </a:rPr>
              <a:t>داور، موقعی که آنها داخل زمین باز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1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6e63a"/>
                </a:solidFill>
                <a:latin typeface="Verdana"/>
                <a:cs typeface="B Lotus"/>
              </a:rPr>
              <a:t>هستند به زمین بازی برگرد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6" descr="law9"/>
          <p:cNvPicPr/>
          <p:nvPr/>
        </p:nvPicPr>
        <p:blipFill>
          <a:blip r:embed="rId1"/>
          <a:stretch/>
        </p:blipFill>
        <p:spPr>
          <a:xfrm>
            <a:off x="179280" y="3284640"/>
            <a:ext cx="4248360" cy="3227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44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Verdana"/>
                <a:cs typeface="B Lotus"/>
              </a:rPr>
              <a:t>روش امتیاز دادن (گل زدن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- به ثمر رسیدن گل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وقتی که تمام توپ از روی خط دروازه بین تیرهای عمودی و زیر تیر افقی عبور کند و قوانین بازی توسط تیمی که گل برای او محاسبه می شود نقض نشده باشد، گل محسوب می گرد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4" descr="law10"/>
          <p:cNvPicPr/>
          <p:nvPr/>
        </p:nvPicPr>
        <p:blipFill>
          <a:blip r:embed="rId1"/>
          <a:stretch/>
        </p:blipFill>
        <p:spPr>
          <a:xfrm>
            <a:off x="684360" y="2924280"/>
            <a:ext cx="410364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1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animClr clrSpc="rgb">
                                      <p:cBhvr>
                                        <p:cTn id="114" dur="1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set>
                                      <p:cBhvr>
                                        <p:cTn id="115" dur="1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66"/>
                </a:solidFill>
                <a:latin typeface="Verdana"/>
                <a:cs typeface="B Lotus"/>
              </a:rPr>
              <a:t>پرتاب اوت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پرتاب توپ اوت روشی برای آغاز مجدد بازی محسوب می گردد. از پرتاب مستقی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اوت، گل محسوب نمی گردد. زمانی پرتاب توپ اوت اعلام می گردد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1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وقتی که تمام توپ از روی خط طولی، از روی زمین یا هوا عبور کن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2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از نقطه ای که توپ از خط طولی عبور کرده، پرتاب اوت انجام می شو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3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پرتاب توپ اوت توسط بازیکن تیم مقابل بازیکنی که آخرین بار توپ را لمس کرده انجام می گرد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4" descr="law15"/>
          <p:cNvPicPr/>
          <p:nvPr/>
        </p:nvPicPr>
        <p:blipFill>
          <a:blip r:embed="rId1"/>
          <a:stretch/>
        </p:blipFill>
        <p:spPr>
          <a:xfrm>
            <a:off x="3132000" y="3500280"/>
            <a:ext cx="1743120" cy="2953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66"/>
                </a:solidFill>
                <a:latin typeface="Verdana"/>
                <a:cs typeface="B Titr"/>
              </a:rPr>
              <a:t>ضربه کرنر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88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ضربه کرنر روشی برای آغاز مجدد بازی می باشد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ورود مستقیم ضربه کرنر به دروازه حریف گل محسوب می گردد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- 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زمانی ضربه کرنر اعلام می گردد که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1. 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تمام توپ، توسط بازیکن مدافع از روی خط دروازه (خط عرضی زمین) از روی زمین یا هوا به بیرون از زمین رفته باشد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2. 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اگر ضربه آزاد غیرمستقیم، مستقیماً وارد دروازه زننده ضربه شود، یک ضربه کرنر برای تیم حریف اعلام می شود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4" descr="law17"/>
          <p:cNvPicPr/>
          <p:nvPr/>
        </p:nvPicPr>
        <p:blipFill>
          <a:blip r:embed="rId1"/>
          <a:stretch/>
        </p:blipFill>
        <p:spPr>
          <a:xfrm>
            <a:off x="1258920" y="3573360"/>
            <a:ext cx="2895480" cy="3097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9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650"/>
                            </p:stCondLst>
                            <p:childTnLst>
                              <p:par>
                                <p:cTn id="2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6868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 rtl="1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r" rtl="1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Verdana"/>
                <a:ea typeface="B Lotus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r" rtl="1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r" rtl="1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Verdana"/>
                <a:ea typeface="B Lotus"/>
              </a:rPr>
              <a:t> 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  <a:cs typeface="B Lotus"/>
              </a:rPr>
              <a:t>خطاها و رفتار ناشایست به صورت زیر جریمه می شوند:</a:t>
            </a:r>
            <a:br>
              <a:rPr sz="1800"/>
            </a:br>
            <a:r>
              <a:rPr b="1" lang="fa-IR" sz="1800" spc="-1" strike="noStrike">
                <a:solidFill>
                  <a:srgbClr val="ffff00"/>
                </a:solidFill>
                <a:latin typeface="Verdana"/>
                <a:ea typeface="B Titr"/>
              </a:rPr>
              <a:t>1</a:t>
            </a:r>
            <a:r>
              <a:rPr b="1" lang="ar-SA" sz="2000" spc="-1" strike="noStrike">
                <a:solidFill>
                  <a:srgbClr val="ffff00"/>
                </a:solidFill>
                <a:latin typeface="Verdana"/>
                <a:ea typeface="B Titr"/>
              </a:rPr>
              <a:t>- ضربه آزاد مستقیم</a:t>
            </a:r>
            <a:r>
              <a:rPr b="1" lang="fa-IR" sz="2000" spc="-1" strike="noStrike">
                <a:solidFill>
                  <a:srgbClr val="ffff00"/>
                </a:solidFill>
                <a:latin typeface="Verdana"/>
                <a:ea typeface="B Titr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r" rtl="1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     اگر بازیکنی هر یک از شش خطای زیر را به طریقی که به تشخیص داور با بی ملاحظگی و با استفاده از نیروی بیش از حد انجام دهد، یک ضربه آزاد مستقیم به نفع تیم مقابل اعلام خواهد شد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r" rtl="1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1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. لگد زدن و یا اقدام به لگد زدن حری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r" rtl="1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2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. پشت پا زدن و یا اقدام به پشت پا زدن حری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r" rtl="1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3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. پریدن روی بازیکن حری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r" rtl="1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4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. تنه زدن به حری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r" rtl="1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5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. زدن و یا اقدام به زدن حری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r" rtl="1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6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. هل دادن حریف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Round Diagonal Corner Rectangle 3" descr=""/>
          <p:cNvPicPr/>
          <p:nvPr/>
        </p:nvPicPr>
        <p:blipFill>
          <a:blip r:embed="rId1"/>
          <a:stretch/>
        </p:blipFill>
        <p:spPr>
          <a:xfrm>
            <a:off x="334800" y="103320"/>
            <a:ext cx="8547120" cy="2822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law12"/>
          <p:cNvPicPr/>
          <p:nvPr/>
        </p:nvPicPr>
        <p:blipFill>
          <a:blip r:embed="rId2"/>
          <a:stretch/>
        </p:blipFill>
        <p:spPr>
          <a:xfrm>
            <a:off x="785880" y="4286160"/>
            <a:ext cx="2232000" cy="1871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اگر بازیکنی، هر یک از چهار خطای زیر را مرتکب شود، یک ضربه آزاد مستقی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7560" indent="0" algn="r" rtl="1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برای تیم مقابل اعلام خواهد شد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1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تکل روی حریف، برای کسب توپ در شرایطی که قبل از لمس توپ با حریف برخورد کن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2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گرفتن حری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3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تف انداختن روی حری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4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دست زدن عمدی به توپ (جز برای دروازه بان در داخل محوطه جریمه خود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یک ضربه آزاد مستقیم از محلی که خطا اتفاق افتاده زده می شو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7560" indent="0" algn="just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  </a:t>
            </a:r>
            <a:r>
              <a:rPr b="1" lang="fa-IR" sz="3600" spc="-1" strike="noStrike">
                <a:solidFill>
                  <a:srgbClr val="36e63a"/>
                </a:solidFill>
                <a:latin typeface="Verdana"/>
                <a:cs typeface="_MRT_Khodkar"/>
              </a:rPr>
              <a:t>ضربه پنالت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77560" indent="0" algn="just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 اگر هریک از ده خطای بالا به وسیله بازیکن درداخل محوطه جریمه خود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7560" indent="0" algn="just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صورت پذیرد، یک ضربه پنالتی به نفع تیم حریف اعلام می گردد. در اعلام ضربه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7560" indent="0" algn="just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پنالتی، وضعیت توپ ملاک نیست، اما توپ باید در جریان بازی باشد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424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00"/>
                </a:solidFill>
                <a:latin typeface="Verdana"/>
                <a:ea typeface="B Titr"/>
              </a:rPr>
              <a:t>2- </a:t>
            </a:r>
            <a:r>
              <a:rPr b="1" lang="fa-IR" sz="2400" spc="-1" strike="noStrike">
                <a:solidFill>
                  <a:srgbClr val="ffff00"/>
                </a:solidFill>
                <a:latin typeface="Verdana"/>
                <a:cs typeface="B Titr"/>
              </a:rPr>
              <a:t>ضربه آزاد غیرمستقی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cs typeface="B Lotus"/>
              </a:rPr>
              <a:t>اگر بازیکنی به تشخیص داور، هریک از خطاهای زیر را مرتکب شود، یک ضربه آزاد غیرمستقیم به نفع تیم مقابل اعلام می شود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1. 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cs typeface="B Lotus"/>
              </a:rPr>
              <a:t>بازی کردن به نحو خطرناک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2. 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cs typeface="B Lotus"/>
              </a:rPr>
              <a:t>سد کردن حری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3. 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cs typeface="B Lotus"/>
              </a:rPr>
              <a:t>جلوگیری از رها کردن توپ با دست توسط دروازه بان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4. 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cs typeface="B Lotus"/>
              </a:rPr>
              <a:t>بازیکن هر خطای دیگری که در قانون 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12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 پیش بینی نشده باشد انجام دهد، و بازی برای دادن اخطار یا اخراج متوقف شود، ضربه آزاد غیرمستقیم از محلی که خطا اتفاق افتاده اجرا می شود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cs typeface="B Lotus"/>
              </a:rPr>
              <a:t>یا اگر </a:t>
            </a:r>
            <a:r>
              <a:rPr b="1" lang="fa-IR" sz="2000" spc="-1" strike="noStrike">
                <a:solidFill>
                  <a:srgbClr val="ffff00"/>
                </a:solidFill>
                <a:latin typeface="Verdana"/>
                <a:cs typeface="B Lotus"/>
              </a:rPr>
              <a:t>دروازه بان 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cs typeface="B Lotus"/>
              </a:rPr>
              <a:t>در داخل محوطه جریمه خود، هر یک از </a:t>
            </a:r>
            <a:r>
              <a:rPr b="1" lang="fa-IR" sz="2000" spc="-1" strike="noStrike">
                <a:solidFill>
                  <a:srgbClr val="ffff00"/>
                </a:solidFill>
                <a:latin typeface="Verdana"/>
                <a:cs typeface="B Lotus"/>
              </a:rPr>
              <a:t>پنج خطای 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cs typeface="B Lotus"/>
              </a:rPr>
              <a:t>زیر را انجام دهد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1. 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cs typeface="B Lotus"/>
              </a:rPr>
              <a:t>چنانچه دروازه بان توپ را بیش از 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6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 ثانیه در اختیار داشته باشد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2. 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cs typeface="B Lotus"/>
              </a:rPr>
              <a:t>بعد از رها کردن توپ، قبل از اینکه توپ توسط بازیکن دیگری لمس شده باشد، آن را دوباره با دستهایش لمس کند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3. 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cs typeface="B Lotus"/>
              </a:rPr>
              <a:t>چنانچه توپ عمداً توسط بازیکن همدسته دروازه بان با پا به طرف او زده شد و توپ را با دستهایش لمس نماید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4. 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cs typeface="B Lotus"/>
              </a:rPr>
              <a:t>توپ را از پرتاب اوت توسط همدسته اش با دستهایش لمس نماید. (بجز دروازه بان در محوطه جریمه خودش)</a:t>
            </a:r>
            <a:br>
              <a:rPr sz="2000"/>
            </a:b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- تنبیهات انضباط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cs typeface="B Lotus"/>
              </a:rPr>
              <a:t>تنها برای بازیکنان و جانشینان و بازیکنان تعویض شده می توان از کارت زرد و قرمز استفاده کرد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98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98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98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98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98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98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898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98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98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98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898" fill="hold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98" fill="hold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ccc00"/>
                </a:solidFill>
                <a:latin typeface="Verdana"/>
                <a:ea typeface="_MRT_Khodkar"/>
              </a:rPr>
              <a:t>- خطاهای قابل اخطار</a:t>
            </a:r>
            <a:br>
              <a:rPr sz="2400"/>
            </a:br>
            <a:r>
              <a:rPr b="1" lang="fa-IR" sz="2400" spc="-1" strike="noStrike">
                <a:solidFill>
                  <a:srgbClr val="ffff66"/>
                </a:solidFill>
                <a:latin typeface="Verdana"/>
                <a:ea typeface="B Lotus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اگر بازیکن هر یک از </a:t>
            </a:r>
            <a:r>
              <a:rPr b="1" lang="fa-IR" sz="2400" spc="-1" strike="noStrike">
                <a:solidFill>
                  <a:srgbClr val="36e63a"/>
                </a:solidFill>
                <a:latin typeface="Verdana"/>
                <a:cs typeface="B Lotus"/>
              </a:rPr>
              <a:t>هفت خطای 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زیر را انجام دهد، اخطار و کارت زرد می گیرد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1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برای رفتار غیر ورزشی گناهکار باش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2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مخالفت خود را با کلمات و عمل نشان ده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3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مصرانه قوانین بازی را نقض نمای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4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آغاز مجدد بازی را به تأخیر انداز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5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عدم رعایت فاصله، در ضربات آزاد، ضربه کرنر و..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6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بدون اجازه داور، وارد یا دوباره وارد زمین بازی شو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7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عمداً زمین بازی را بدون اجازه داور ترک کن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04:37:15Z</dcterms:created>
  <dc:creator>Love Maker</dc:creator>
  <dc:description/>
  <dc:language>en-US</dc:language>
  <cp:lastModifiedBy>aytak</cp:lastModifiedBy>
  <dcterms:modified xsi:type="dcterms:W3CDTF">2020-05-03T15:05:44Z</dcterms:modified>
  <cp:revision>72</cp:revision>
  <dc:subject/>
  <dc:title>تاریخچه فوتبال</dc:title>
</cp:coreProperties>
</file>