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222-E922-4AFF-BB42-16947D73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EEB-12CE-4610-9FA4-B1AE31A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4C5-750F-4724-8C5B-ABF15C1C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FE9-DC55-4D69-B639-A144A59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D02-A85B-4394-983E-22FD717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EAB-BB41-4EA9-B6C5-36066E6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0A7-C5DF-4872-876E-D668100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D0F-6385-4F6F-80F2-7567D54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03A-3922-4064-ADD5-A6E1EEE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E279-6A4E-4FF5-BC02-01B8F7B6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82B4-04E9-4473-97C7-D4120A8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C68-8CB5-427B-BAF8-A61CA80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D190-EFF2-4E8D-9563-203B54B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F9B4-C182-4AC2-96FF-F57297E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91D7-7163-410D-87DA-2F4A1E5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526F-968C-4432-9C23-86D663DE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590-4DAC-4EBE-8303-F93944B2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BCF-C962-40BB-AE93-EE2E2994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F21-6B24-4B74-A14E-8F35A1F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5E0-E9A9-4218-862D-1B1A2D8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E84-A958-4824-AC18-4CF53DF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D23-5C39-4199-AF43-77DAA53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E17-DBCB-4D94-B862-54320D2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CAE-5D3B-4751-99E0-17D18AB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CBC-6C7D-46F7-BFEC-66EB26A24F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40CE-D0B6-49C8-B9E0-6483630F6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neshnameh.roshd.ir/mavara/mavara-index.php?page=&#1576;&#1585;&#1586;&#1740;&#1604;" TargetMode="External"/><Relationship Id="rId2" Type="http://schemas.openxmlformats.org/officeDocument/2006/relationships/hyperlink" Target="http://daneshnameh.roshd.ir/mavara/mavara-index.php?page=&#1575;&#1740;&#1578;&#1575;&#1604;&#1740;&#1575;" TargetMode="External"/><Relationship Id="rId3" Type="http://schemas.openxmlformats.org/officeDocument/2006/relationships/hyperlink" Target="http://daneshnameh.roshd.ir/mavara/mavara-index.php?page=&#1605;&#1587;&#1575;&#1576;&#1602;&#1607;" TargetMode="External"/><Relationship Id="rId4" Type="http://schemas.openxmlformats.org/officeDocument/2006/relationships/hyperlink" Target="http://daneshnameh.roshd.ir/mavara/mavara-index.php?page=&#1605;&#1587;&#1575;&#1576;&#1602;&#1575;&#1578;" TargetMode="External"/><Relationship Id="rId5" Type="http://schemas.openxmlformats.org/officeDocument/2006/relationships/hyperlink" Target="http://daneshnameh.roshd.ir/mavara/mavara-index.php?page=&#1576;&#1604;&#1688;&#1740;&#1705;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sociation-footbal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fc" TargetMode="External"/><Relationship Id="rId2" Type="http://schemas.openxmlformats.org/officeDocument/2006/relationships/hyperlink" Target="http://www.irfo.ir/footballpedia/afc" TargetMode="External"/><Relationship Id="rId3" Type="http://schemas.openxmlformats.org/officeDocument/2006/relationships/hyperlink" Target="http://www.irfo.ir/footballpedia/caf" TargetMode="External"/><Relationship Id="rId4" Type="http://schemas.openxmlformats.org/officeDocument/2006/relationships/hyperlink" Target="http://www.irfo.ir/footballpedia/caf" TargetMode="External"/><Relationship Id="rId5" Type="http://schemas.openxmlformats.org/officeDocument/2006/relationships/hyperlink" Target="http://www.irfo.ir/footballpedia/concacaf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1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untitled"/>
          <p:cNvPicPr/>
          <p:nvPr/>
        </p:nvPicPr>
        <p:blipFill>
          <a:blip r:embed="rId1"/>
          <a:stretch/>
        </p:blipFill>
        <p:spPr>
          <a:xfrm>
            <a:off x="250920" y="237960"/>
            <a:ext cx="86421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01 -0.46945 C 0.30382 -0.44584 0.16163 -0.42246 0.16667 -0.35093 C 0.1717 -0.27987 0.50399 -0.1007 0.47621 -0.04237 C 0.44844 0.01643 0.07882 -0.00672 1.11111E-006 4.44444E-006 E">
                                      <p:cBhvr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Lotus"/>
              </a:rPr>
              <a:t>تاریخچه فوتبا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56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وتبال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894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ز کشور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1"/>
              </a:rPr>
              <a:t>برزی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وع شد . این ورزش به وسیله  چارلز میلر برزیلی که اجداد او انگلیسی بودند به مردم برزیل معرفی ش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7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سابقه ای بین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2"/>
              </a:rPr>
              <a:t>ایتالیا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 برزیل برگزار شد . هیچ کس تصور نمی کرد که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80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یلیون نفر از مردم جهان ناظر بر اجرای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3"/>
              </a:rPr>
              <a:t>مسابق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اشن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 بین المللی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0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نیان گزاری شد .ا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ظیفه دارد که به نحوه ی اجرا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4"/>
              </a:rPr>
              <a:t>مسابقات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نظارت داشته باشد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.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قوانین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دون موافقت و تصویب سای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کشورهای عضو فدراسیون تغییر نمی کند .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2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بازیکنان فوتبال د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مسابقات المپ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5"/>
              </a:rPr>
              <a:t>بلژ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کت کردند و در سال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ea typeface="B Lotus"/>
              </a:rPr>
              <a:t>193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ول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جام جهان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کشو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cs typeface="B Lotus"/>
              </a:rPr>
              <a:t>اروگوئ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رگزار شد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Times New Roman"/>
                <a:cs typeface="2  Kidnap"/>
              </a:rPr>
              <a:t>فیف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خفف کلمه فرانسو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Fédération Internationale de Football Associ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و انگلیسی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International Federation of Association Footba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فیفا سازمان اداره کننده و قانون گذار بین الملل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fa-IR" sz="26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1"/>
              </a:rPr>
              <a:t>فوتبال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جهان است. دفتر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رکزی و اجرای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headquarter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ین سازمان در شهر زوریخ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Zürich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کشور سوییس قرار دارد و ریاست کنونی آن نیز به عهده سپ بلاتر است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9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فریقای جنوبی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2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رژانتین و شیلی و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3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ایالات متحد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ه عضویت این فدراسیون جهانی در آمدند که این موضوع باعث شد تا اعضا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آن فقط کشورهای اروپایی نباشند. فدراسیون فوتبال ایران نیز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20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عضویت فیفا در آمد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ا گسترش فوتبال بویژه در کشورهای اروپایی در اوایل قرن بیستم، جای خالی یک اتحادیه بین المللی جهت کنترل فوتبال جهان احساس می شد. در روز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21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م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4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الاخره فیفا در شهر پاریس توسط هفت کشور سوئیس، دانمارک، هلند، سوئد، فرانسه، بلژیک و اسپانیا تاسیس شد و اولین عضوهای این فدراسیون همین هفت کشور بودند. البته کشور اسپانیا از طریق فدراسیون فوتبالش عضو این سازمان نشد بلکه این کلوب فوتبال مادرید - باشگاه رئال مادرید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eal Madrid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مروزی - بود که عضو فیفا شد. روبرت گورین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obert Guérin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فرانسوی به عنوان اولین رئیس این فدراسیون انتخاب شد. نام این سازمان بدین خاطر فرانسوی انتخاب شد که تاسیس آن در فرانسه بود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Down Ribbon 2"/>
          <p:cNvSpPr/>
          <p:nvPr/>
        </p:nvSpPr>
        <p:spPr>
          <a:xfrm>
            <a:off x="285840" y="214200"/>
            <a:ext cx="8358120" cy="1000080"/>
          </a:xfrm>
          <a:custGeom>
            <a:avLst/>
            <a:gdLst>
              <a:gd name="textAreaLeft" fmla="*/ 2089440 w 8358120"/>
              <a:gd name="textAreaRight" fmla="*/ 6268680 w 8358120"/>
              <a:gd name="textAreaTop" fmla="*/ 16668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      تاریخچه فیف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384120" y="480960"/>
            <a:ext cx="954072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1"/>
              </a:rPr>
              <a:t>AFC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2"/>
              </a:rPr>
              <a:t>کنفدراسیون فوتبال آسیا</a:t>
            </a:r>
            <a:r>
              <a:rPr b="1" lang="fa-IR" sz="2200" spc="-1" strike="noStrike">
                <a:solidFill>
                  <a:srgbClr val="c00000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(منطقه: آسیا و استرالی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3"/>
              </a:rPr>
              <a:t>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4"/>
              </a:rPr>
              <a:t>کنفدراسیون فوتبال آفریقا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(منطقه: آفریق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5"/>
              </a:rPr>
              <a:t>CONCA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کنفدراسیون فوتبال آمریکای شمالی و مرکزی، و اتحادیه کارابی (منطقه: آمریکای شمالی و آمریکای مرکزی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CONMEBO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آمریکای جنوبی (منطقه: آمریکای جنوبی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OFC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اقیانوسیه (منطقه: اقیانوسیه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UEF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اتحادیه فوتبال اروپا (منطقه: اروپا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FIFA Confederations"/>
          <p:cNvPicPr/>
          <p:nvPr/>
        </p:nvPicPr>
        <p:blipFill>
          <a:blip r:embed="rId6"/>
          <a:stretch/>
        </p:blipFill>
        <p:spPr>
          <a:xfrm>
            <a:off x="1619280" y="3500280"/>
            <a:ext cx="56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3" descr=""/>
          <p:cNvPicPr/>
          <p:nvPr/>
        </p:nvPicPr>
        <p:blipFill>
          <a:blip r:embed="rId1"/>
          <a:stretch/>
        </p:blipFill>
        <p:spPr>
          <a:xfrm>
            <a:off x="274680" y="30240"/>
            <a:ext cx="89978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1d1d"/>
              </a:solidFill>
              <a:latin typeface="Arial"/>
              <a:ea typeface="B Lotus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360360" y="1298520"/>
            <a:ext cx="8429760" cy="5632560"/>
          </a:xfrm>
          <a:prstGeom prst="rect">
            <a:avLst/>
          </a:prstGeom>
          <a:ln w="0">
            <a:noFill/>
          </a:ln>
        </p:spPr>
      </p:pic>
      <p:pic>
        <p:nvPicPr>
          <p:cNvPr id="169" name="Diagram 3" descr=""/>
          <p:cNvPicPr/>
          <p:nvPr/>
        </p:nvPicPr>
        <p:blipFill>
          <a:blip r:embed="rId2"/>
          <a:stretch/>
        </p:blipFill>
        <p:spPr>
          <a:xfrm>
            <a:off x="1231920" y="-49320"/>
            <a:ext cx="68263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learning_football-law_field-dimension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4:59:42Z</dcterms:modified>
  <cp:revision>73</cp:revision>
  <dc:subject/>
  <dc:title>تاریخچه فوتبال</dc:title>
</cp:coreProperties>
</file>