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CD3-5348-435D-94D4-9CF0EFB9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093-9C62-44E2-9990-31EF1E1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F30-3E8C-4C03-A53E-1A4FED3C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AB8-A8F4-4EDA-ACBD-A835E850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B27D-0FA4-4F70-ABF4-AA52E59F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B23D-D347-4DD0-A3C4-AF90DDBD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1C4D-C65A-4235-8A0B-ED01B3EA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FB0-A5DD-4D32-9FBE-26B0C0E9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5A38-B4EB-471A-A1B3-00F929EB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7D7-3185-4B35-9257-06B425C0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B437-D03A-4D9B-9CAF-7CC5FA2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530-51BF-446F-B58E-9629400B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8085-41B5-44C9-B242-227CB82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413-976E-46DD-AFA3-DC29F6C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A47-3945-4A9D-91DB-12B695BD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56F9-CD51-4F7B-9B3E-38137546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4C18-D635-48C4-9DED-1A77175B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59F-B6E5-4C31-8B4A-C4892E93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A02-3CA0-4F1C-B71A-6E068780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EB1-1FAA-4E78-9326-B7D1BEE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8A6-1873-4BA3-A9E1-05274791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7AB-33CC-4D51-A162-3058A01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302-3676-485C-B8F6-184EBC25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1B6-109F-4098-BEE4-41949577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DBCC-8742-4577-B59A-B4FEB025407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314B-5DED-42E0-9848-C533FC4E6EA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89E6-70AC-4A66-BBF9-A0BA40002CC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1B78-1CB5-40FD-85B1-79EEB56F1C0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عضلان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استقامت عضلانی کیفیتی است که یک دسته از عضلات بتوانندیک حرکت را در مدت طولانی تکرار کنند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در این قسمت نمونه هایی از تمرینات استقامتی آورد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 می شود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0A14-3166-41DE-8FA3-595042F037A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219320" y="1066680"/>
          <a:ext cx="73911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5"/>
          <p:cNvSpPr/>
          <p:nvPr/>
        </p:nvSpPr>
        <p:spPr>
          <a:xfrm>
            <a:off x="1219320" y="1066680"/>
            <a:ext cx="746748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تمرینات تکراری :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. تمرین طناب زدن با جلیقه سنگی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19720" y="594360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856-9F3B-4D4E-8E36-27123BBBBDA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752480" y="2362320"/>
          <a:ext cx="670572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670572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5"/>
          <p:cNvSpPr/>
          <p:nvPr/>
        </p:nvSpPr>
        <p:spPr>
          <a:xfrm>
            <a:off x="1371600" y="1219320"/>
            <a:ext cx="73152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 تمرین افزایش استقامت عضلات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1A5-3EB4-4A6B-AFEE-1C005E9434B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1143000" y="762120"/>
          <a:ext cx="731520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3152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1219320" y="914400"/>
            <a:ext cx="731520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تمرین زانو بلند جفت یا تک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419720" y="51814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5EE-DE1D-447F-BB18-C11931B911D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905120" y="1905120"/>
          <a:ext cx="5715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1371600" y="914400"/>
            <a:ext cx="73152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تمرینات دو نفر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187-7EF5-4C87-849A-5D7393AD600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قلبی تنفس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استقامت قلبی تنفسی از کیفیتهای بدنی پیشرفته هوازی است که معمولا با تمرینات طولانی انجام میشود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نمونه ای از تمرینات استقامتی 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C87-AF07-4F5F-BDB7-D3BC5BEA120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استقامت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بالا وپایین رفتن روی چهار پای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طناب زد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یدنهای طولان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های کوتا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کار روی پل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استفاده از تمرینات دایرها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D377-1711-4D56-B46F-C93C5C3C481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066680" y="1905120"/>
          <a:ext cx="731520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3152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5"/>
          <p:cNvSpPr/>
          <p:nvPr/>
        </p:nvSpPr>
        <p:spPr>
          <a:xfrm>
            <a:off x="1143000" y="762120"/>
            <a:ext cx="762012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نمونه ای از تمرینات دایره ا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16A-EBE9-44CD-9EF2-897F722AAB5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C85-53C1-45DE-9BCC-0D69EBFBF1A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Verdana"/>
              </a:rPr>
              <a:t>تمرینهای آمادگی جسمانی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3F9-EA43-4A9E-BD11-823103C59B9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قدرت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کشش از بارفیکس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رازو نشست زانو خ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یپ پارال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48A7-6AA0-4F1D-A934-15E689EA373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1219320" y="1295280"/>
          <a:ext cx="7737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7737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1143000" y="1371600"/>
            <a:ext cx="7772400" cy="2362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.استفاده از کش یا فنرهای ورزش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5D8-EE19-449C-8FA3-9503D1EBA8F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300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295280" y="533520"/>
            <a:ext cx="73915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استفاده از توپ مدیسین با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038480" y="640080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64F-3F8B-4EFD-A77B-34119AD3344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676520" y="2286000"/>
          <a:ext cx="662940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66294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5"/>
          <p:cNvSpPr/>
          <p:nvPr/>
        </p:nvSpPr>
        <p:spPr>
          <a:xfrm>
            <a:off x="4343400" y="58672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43000" y="1066680"/>
            <a:ext cx="762012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.استفاده از وسایل متفرقه وابتکاری وتو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E85A-7B68-4773-B45A-99A49186902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676520" y="1752480"/>
          <a:ext cx="6753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753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5"/>
          <p:cNvSpPr/>
          <p:nvPr/>
        </p:nvSpPr>
        <p:spPr>
          <a:xfrm>
            <a:off x="1219320" y="914400"/>
            <a:ext cx="7315200" cy="1219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 ابتکار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191120" y="4724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9A7-5D42-49BB-B099-EDC87CECE5D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19320" y="457200"/>
          <a:ext cx="7270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270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"/>
          <p:cNvSpPr/>
          <p:nvPr/>
        </p:nvSpPr>
        <p:spPr>
          <a:xfrm>
            <a:off x="1219320" y="609480"/>
            <a:ext cx="739116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استفاده از یار کمک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343400" y="6019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81F1-7DAB-4B74-B5C9-CE9658771DA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توان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توان عضلانی عبارت است از کاربرد قدرت عضلانی در واحد زما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نواع زانو بلن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ارت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یدنی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تاب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9:21Z</dcterms:modified>
  <cp:revision>95</cp:revision>
  <dc:subject/>
  <dc:title>آموزش هند بال</dc:title>
</cp:coreProperties>
</file>