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790-0E31-4FD7-9E3B-E32CC271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534-2F7C-4781-8EBA-B24C3D7C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91F-44DA-4C5C-A212-156F1B01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533-FB8E-43A6-B5D3-BCD63083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ABA2-6E88-44C3-B6F9-685044E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BF6B-73AE-4A0C-B459-AE9B37D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93C1-A0A8-4C20-A63B-C4444B5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0AEE-BFAC-4634-8DD1-8DBBE4CB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1B5-8A8C-489C-BC08-73761D7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73C-604E-4B6D-B16A-E8177175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A7EA-7458-4EF9-94E9-9ACD27B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E7D-4E0D-4C47-9CD8-A5B05BB2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CA0-A7D7-4320-B9D0-08A68B42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14EA-69DC-448F-9BCF-41AB190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3346-31F7-46DF-8AAB-297DCFB1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8E0C-05D0-4933-A075-2B7BBABA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096E-3629-4477-9AFB-485B0AF5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E1E-C98D-4FE9-9528-7936F18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3D9-229D-4EE6-BB64-FC748DC2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63F-31E7-4730-B5D6-4F16C741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403-5C77-4367-A4F5-4E377291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7EF-E906-4651-BF11-2F02EDAA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A40-F418-4ADF-A452-F66658F5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250-261A-4956-8229-E1C78189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FB5-C69D-48EB-A6D6-F4687A2A93D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E8BF-E005-46FA-8F9D-DED5BB1A980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47DF-0245-4745-A8A8-CE0825527C6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FABC-74E2-4785-A622-08E1D2EC921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اصول گرم کرد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گرم کردن عبارت است از آمادگی روانی وجسمانی ورزشکاران و جلوگیری از آسیب دیدگی در حین تمرین ومسابق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B37-5C0F-4100-ADBB-AA470914C02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6666"/>
                </a:solidFill>
                <a:latin typeface="Arial"/>
              </a:rPr>
              <a:t>اصول گرم کردن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1465200" y="1828800"/>
          <a:ext cx="708516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1828800"/>
                    <a:ext cx="70851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C66-411A-4FD8-929F-841BEB1A47A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295280" y="304920"/>
          <a:ext cx="7481880" cy="58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74818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3D8E-DAD4-4F6C-9B41-54EFA5582E4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990720" y="457200"/>
          <a:ext cx="76467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6467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01FE-F0BA-409C-84E4-16A4896C906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676520" y="457200"/>
          <a:ext cx="7162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7162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7"/>
          <p:cNvGraphicFramePr/>
          <p:nvPr/>
        </p:nvGraphicFramePr>
        <p:xfrm>
          <a:off x="1733400" y="2967120"/>
          <a:ext cx="6667560" cy="13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967120"/>
                    <a:ext cx="666756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DA3-4D2B-4764-B613-9E8065F9A6E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0:49Z</dcterms:modified>
  <cp:revision>95</cp:revision>
  <dc:subject/>
  <dc:title>آموزش هند بال</dc:title>
</cp:coreProperties>
</file>