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F341E-9E7D-4243-AEE5-D9A11AD7C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47535-E3B1-40F8-8F33-99894ABF7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5541-AF56-4EDA-AFD5-A888BFA9B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AC8C0-B304-4BC4-AC6E-39F3F9D4D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81FAF-F231-44FD-9BBF-870C3C6D5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2E8DA-8D94-4CA1-A6BA-24992C566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DB448-E27E-404E-89A0-15E309DE4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D4550-EED4-4B91-B4B9-AD53D58AA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1C91E-1180-41AF-B0C8-2F8832B35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53DF1-6C96-4481-8A16-3BB663BEC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AA7E8-E27F-4666-9818-A8FB330DA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DBEB4-6604-4249-934B-23AF42A6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A7BCF-9C77-4A05-9683-80ADE8178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699B6-14A7-492A-8BE3-A43D46ADE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D44FE-804F-4227-9B1A-58FACFF30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9B3A7-0753-4A30-A94B-1E4E63E83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7C07A-3B97-4BF9-9276-0A7993152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3ECFA-E94B-4A1F-8B96-8D078756A9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BA85C-2071-43A0-97CD-DDB4EB798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73368-324C-4080-B2BA-4A0788079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FF4E0-D375-4003-9A26-0B1141044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8296C-F1DF-4373-83E4-5AD5872BA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2C0A2-9EA5-4AE8-A619-A4A20DD9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09667-F518-4E18-80DA-583407947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CC40A-E584-43E1-8C9B-5B781BD0D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DADE1-76E7-4414-AB64-745B16244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1AC79-4907-4119-A319-001E860B5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6E464-4251-4A0A-B270-2A2258653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0F1D47-35CF-40C1-8A3F-3D90CB13E3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783EE5-6AAF-4C8D-A4B2-54048DA0C4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A4A11B-3652-4881-8038-BBD9BF3F8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8EE14-DEE1-429F-9D4B-734D70123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7BC44-F91D-4DFF-B6AF-91D2FFB0A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85D48-1490-4454-8BAF-BD86B191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E0D5B-1004-4F1F-BF8D-0ABC2CD96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C2A2B-0AA4-48A6-A3E8-57202D9EE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937D0-B9F8-4580-AF1F-4024323D5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97E46-7A46-49FF-8616-410C73BF3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9EFB9-0AD3-465B-AC50-C8B3E8581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9079F-A8F6-4FF2-A624-AD5033DD7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5BBC6-B84A-4FB1-AC1C-F55435154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D6BB23-448E-471C-B6D5-0DBEC2E4D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41C0B8-B489-4849-80DD-08730B1F2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CFB4-0958-491C-BDEF-08DD94D6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C5659-0690-44E2-8DFA-9C5362978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3DCA-82EC-435B-88EF-72BB4B6C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FDAF-6355-4D06-8B97-9BC5843E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9298-9EEA-463C-B2FF-C2C8CCE6C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E9D9-4D4A-474B-8F31-3F73FEFBC31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A6A7-D3FB-4B57-BE80-E7B803DDA13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969C-F1BC-4A85-8E37-B51C2E62F91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0D2F-9BC2-44A0-8ED4-11121DAC915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5400" spc="-1" strike="noStrike">
                <a:solidFill>
                  <a:srgbClr val="90c226"/>
                </a:solidFill>
                <a:latin typeface="Trebuchet MS"/>
                <a:cs typeface="Tahoma"/>
              </a:rPr>
              <a:t>بسم الله الرحمن الرحیم</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544680"/>
            <a:ext cx="8596440" cy="1320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c00000"/>
                </a:solidFill>
                <a:latin typeface="Trebuchet MS"/>
                <a:cs typeface="B Nazanin"/>
              </a:rPr>
              <a:t>در نتایج این نوع تحقیقات به موارد زیر برمی خوریم</a:t>
            </a:r>
            <a:endParaRPr b="0" lang="en-US" sz="3200" spc="-1" strike="noStrike">
              <a:solidFill>
                <a:srgbClr val="90c226"/>
              </a:solidFill>
              <a:latin typeface="Trebuchet MS"/>
            </a:endParaRPr>
          </a:p>
        </p:txBody>
      </p:sp>
      <p:sp>
        <p:nvSpPr>
          <p:cNvPr id="231" name=""/>
          <p:cNvSpPr txBox="1"/>
          <p:nvPr/>
        </p:nvSpPr>
        <p:spPr>
          <a:xfrm>
            <a:off x="677520" y="1503000"/>
            <a:ext cx="8775720" cy="4421160"/>
          </a:xfrm>
          <a:prstGeom prst="rect">
            <a:avLst/>
          </a:prstGeom>
          <a:noFill/>
          <a:ln w="0">
            <a:noFill/>
          </a:ln>
        </p:spPr>
        <p:txBody>
          <a:bodyPr anchor="t">
            <a:normAutofit fontScale="83000"/>
          </a:bodyPr>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1- </a:t>
            </a:r>
            <a:r>
              <a:rPr b="0" lang="fa-IR" sz="2800" spc="-1" strike="noStrike">
                <a:solidFill>
                  <a:srgbClr val="404040"/>
                </a:solidFill>
                <a:latin typeface="Trebuchet MS"/>
                <a:cs typeface="B Nazanin"/>
              </a:rPr>
              <a:t>دانش آموزان دوزبانه در مورد درک معنی ومفهوم کلمات مشکلات یادگیری فراوان داشتند</a:t>
            </a:r>
            <a:r>
              <a:rPr b="0" lang="fa-IR" sz="1800" spc="-1" strike="noStrike">
                <a:solidFill>
                  <a:srgbClr val="404040"/>
                </a:solidFill>
                <a:latin typeface="Trebuchet MS"/>
                <a:ea typeface="B Nazanin"/>
              </a:rPr>
              <a:t>.</a:t>
            </a:r>
            <a:endParaRPr b="0" lang="en-US" sz="1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2- </a:t>
            </a:r>
            <a:r>
              <a:rPr b="0" lang="fa-IR" sz="2800" spc="-1" strike="noStrike">
                <a:solidFill>
                  <a:srgbClr val="404040"/>
                </a:solidFill>
                <a:latin typeface="Trebuchet MS"/>
                <a:cs typeface="B Nazanin"/>
              </a:rPr>
              <a:t>در نوشتن کلمات چاپی دچار مشکلات فراوان بود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3-</a:t>
            </a:r>
            <a:r>
              <a:rPr b="0" lang="fa-IR" sz="2800" spc="-1" strike="noStrike">
                <a:solidFill>
                  <a:srgbClr val="404040"/>
                </a:solidFill>
                <a:latin typeface="Trebuchet MS"/>
                <a:cs typeface="B Nazanin"/>
              </a:rPr>
              <a:t>میزان افت تحصیلی افراد دوزبانه بیشتر از افراد عادی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4-</a:t>
            </a:r>
            <a:r>
              <a:rPr b="0" lang="fa-IR" sz="2800" spc="-1" strike="noStrike">
                <a:solidFill>
                  <a:srgbClr val="404040"/>
                </a:solidFill>
                <a:latin typeface="Trebuchet MS"/>
                <a:cs typeface="B Nazanin"/>
              </a:rPr>
              <a:t>دوزبانه ها در دروس فارسی خوانداری واملاافت بیشتری داشت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5-</a:t>
            </a:r>
            <a:r>
              <a:rPr b="0" lang="fa-IR" sz="2800" spc="-1" strike="noStrike">
                <a:solidFill>
                  <a:srgbClr val="404040"/>
                </a:solidFill>
                <a:latin typeface="Trebuchet MS"/>
                <a:cs typeface="B Nazanin"/>
              </a:rPr>
              <a:t>میزان ترک تحصیل دانش آموزان دوزبانه  از دیگران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6-</a:t>
            </a:r>
            <a:r>
              <a:rPr b="0" lang="fa-IR" sz="2800" spc="-1" strike="noStrike">
                <a:solidFill>
                  <a:srgbClr val="404040"/>
                </a:solidFill>
                <a:latin typeface="Trebuchet MS"/>
                <a:cs typeface="B Nazanin"/>
              </a:rPr>
              <a:t>مشکلات نوشتاری دانش آموزان دوزبانه خصوصا در دوران اولیه تحصیل ازدانش آموزان عادی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c00000"/>
                </a:solidFill>
                <a:latin typeface="Trebuchet MS"/>
                <a:cs typeface="B Nazanin"/>
              </a:rPr>
              <a:t>سپاس از نگاه سبزتان</a:t>
            </a:r>
            <a:endParaRPr b="0" lang="en-US" sz="5400" spc="-1" strike="noStrike">
              <a:solidFill>
                <a:srgbClr val="90c226"/>
              </a:solidFill>
              <a:latin typeface="Trebuchet MS"/>
            </a:endParaRPr>
          </a:p>
        </p:txBody>
      </p:sp>
      <p:pic>
        <p:nvPicPr>
          <p:cNvPr id="233" name="Content Placeholder 3" descr=""/>
          <p:cNvPicPr/>
          <p:nvPr/>
        </p:nvPicPr>
        <p:blipFill>
          <a:blip r:embed="rId1"/>
          <a:stretch/>
        </p:blipFill>
        <p:spPr>
          <a:xfrm>
            <a:off x="1133640" y="1930320"/>
            <a:ext cx="7765920" cy="492768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8480" y="218880"/>
            <a:ext cx="9040680" cy="1299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u="sng">
              <a:solidFill>
                <a:srgbClr val="000000"/>
              </a:solidFill>
              <a:uFillTx/>
              <a:latin typeface="Aharoni"/>
              <a:ea typeface="B Nazanin"/>
            </a:endParaRPr>
          </a:p>
        </p:txBody>
      </p:sp>
      <p:sp>
        <p:nvSpPr>
          <p:cNvPr id="215" name="PlaceHolder 2"/>
          <p:cNvSpPr>
            <a:spLocks noGrp="1"/>
          </p:cNvSpPr>
          <p:nvPr>
            <p:ph type="subTitle"/>
          </p:nvPr>
        </p:nvSpPr>
        <p:spPr>
          <a:xfrm>
            <a:off x="-360" y="0"/>
            <a:ext cx="12192120" cy="8028000"/>
          </a:xfrm>
          <a:prstGeom prst="rect">
            <a:avLst/>
          </a:prstGeom>
          <a:solidFill>
            <a:srgbClr val="54a021"/>
          </a:solid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Arial"/>
                <a:cs typeface="Arial"/>
              </a:rPr>
              <a:t>تهیه وتنظیم:دانشگاه فرهنگیان پردیس بنت الهدی</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Trebuchet MS"/>
                <a:ea typeface="B Nazanin"/>
              </a:rPr>
              <a:t> </a:t>
            </a:r>
            <a:r>
              <a:rPr b="1" lang="fa-IR" sz="5400" spc="-1" strike="noStrike">
                <a:solidFill>
                  <a:srgbClr val="000000"/>
                </a:solidFill>
                <a:latin typeface="Trebuchet MS"/>
                <a:cs typeface="Tahoma"/>
              </a:rPr>
              <a:t>استان  اردبیل</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56800" y="647280"/>
            <a:ext cx="10618920" cy="5599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ff0000"/>
                </a:solidFill>
                <a:latin typeface="Trebuchet MS"/>
                <a:cs typeface="B Nazanin"/>
              </a:rPr>
              <a:t>دوزبانگی واثرات آن</a:t>
            </a:r>
            <a:br>
              <a:rPr sz="4800"/>
            </a:br>
            <a:br>
              <a:rPr sz="4800"/>
            </a:br>
            <a:br>
              <a:rPr sz="4000"/>
            </a:br>
            <a:br>
              <a:rPr sz="4000"/>
            </a:br>
            <a:br>
              <a:rPr sz="4000"/>
            </a:br>
            <a:br>
              <a:rPr sz="4000"/>
            </a:br>
            <a:br>
              <a:rPr sz="4000"/>
            </a:br>
            <a:endParaRPr b="0" lang="en-US" sz="4800" spc="-1" strike="noStrike">
              <a:solidFill>
                <a:srgbClr val="90c226"/>
              </a:solidFill>
              <a:latin typeface="Trebuchet MS"/>
            </a:endParaRPr>
          </a:p>
        </p:txBody>
      </p:sp>
      <p:pic>
        <p:nvPicPr>
          <p:cNvPr id="217" name="Picture 1" descr=""/>
          <p:cNvPicPr/>
          <p:nvPr/>
        </p:nvPicPr>
        <p:blipFill>
          <a:blip r:embed="rId1"/>
          <a:stretch/>
        </p:blipFill>
        <p:spPr>
          <a:xfrm>
            <a:off x="1076400" y="2446200"/>
            <a:ext cx="10256760" cy="380052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816320" y="952200"/>
            <a:ext cx="3079800" cy="1352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ff0000"/>
                </a:solidFill>
                <a:latin typeface="Trebuchet MS"/>
                <a:cs typeface="Tahoma"/>
              </a:rPr>
              <a:t>مقدمه</a:t>
            </a:r>
            <a:endParaRPr b="0" lang="en-US" sz="4800" spc="-1" strike="noStrike">
              <a:solidFill>
                <a:srgbClr val="90c226"/>
              </a:solidFill>
              <a:latin typeface="Trebuchet MS"/>
            </a:endParaRPr>
          </a:p>
        </p:txBody>
      </p:sp>
      <p:sp>
        <p:nvSpPr>
          <p:cNvPr id="219" name=""/>
          <p:cNvSpPr txBox="1"/>
          <p:nvPr/>
        </p:nvSpPr>
        <p:spPr>
          <a:xfrm>
            <a:off x="1295280" y="2414160"/>
            <a:ext cx="9601200" cy="3319560"/>
          </a:xfrm>
          <a:prstGeom prst="rect">
            <a:avLst/>
          </a:prstGeom>
          <a:noFill/>
          <a:ln w="0">
            <a:noFill/>
          </a:ln>
        </p:spPr>
        <p:txBody>
          <a:bodyPr anchor="t">
            <a:normAutofit/>
          </a:bodyPr>
          <a:p>
            <a:pPr algn="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امروزه در سطح جهان کشورهایی وجود دارند که در آنها دویا چند زبان مختلف رایج بوده،اما فقط یکی از زبانها به عنوان زبان رسمی ومشترک پذیرفته شده است وآموزش نیز براساس همان زبان رسمی صورت می پذیرد.اگر زبان کودک وزبان آموزش متفاوت باشد پدیده ی دوزبانگی به وجود  می آید که فرد علاوه بر زبان مادری باید زبان دیگری رانیز بیاموزد لذا کوششهای او برای کسب علم بیشتر از افراد تک زبانه خواهد بود</a:t>
            </a: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95120" y="982440"/>
            <a:ext cx="10147320" cy="7556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500" spc="-1" strike="noStrike">
                <a:solidFill>
                  <a:srgbClr val="ff0000"/>
                </a:solidFill>
                <a:latin typeface="Trebuchet MS"/>
                <a:cs typeface="Tahoma"/>
              </a:rPr>
              <a:t>ایران از جمله کشورهایی است که در آن پدیده ی دوزبانگی وجود دارد</a:t>
            </a:r>
            <a:br>
              <a:rPr sz="2500"/>
            </a:br>
            <a:endParaRPr b="0" lang="en-US" sz="2500" spc="-1" strike="noStrike">
              <a:solidFill>
                <a:srgbClr val="90c226"/>
              </a:solidFill>
              <a:latin typeface="Trebuchet MS"/>
            </a:endParaRPr>
          </a:p>
        </p:txBody>
      </p:sp>
      <p:sp>
        <p:nvSpPr>
          <p:cNvPr id="221" name=""/>
          <p:cNvSpPr txBox="1"/>
          <p:nvPr/>
        </p:nvSpPr>
        <p:spPr>
          <a:xfrm>
            <a:off x="1171440" y="1738080"/>
            <a:ext cx="10071360" cy="4446360"/>
          </a:xfrm>
          <a:prstGeom prst="rect">
            <a:avLst/>
          </a:prstGeom>
          <a:noFill/>
          <a:ln w="0">
            <a:noFill/>
          </a:ln>
        </p:spPr>
        <p:txBody>
          <a:bodyPr anchor="t">
            <a:normAutofit/>
          </a:bodyPr>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دربسیاری از نقاط کور خانواده هایی زندگی می کنند که زبان تکلم آنها ،عیرفارسی است وکودکان این خانواده هابراساس الگوهای زبان مادری خویش بادیگران ارتباط برقرار می کنندتمام کودکان واجب التعلیم در هنگام شروع به تحصیل بازبان فارسی آموزش می بینند باتوجه به اینکه زبان فارسی بسیار متفاوت با زبان مادری ومحلی کودک است لذا مشکلات متعددی برای کودکان به وجود می آورد</a:t>
            </a:r>
            <a:r>
              <a:rPr b="0" lang="fa-IR" sz="1800" spc="-1" strike="noStrike">
                <a:solidFill>
                  <a:srgbClr val="404040"/>
                </a:solidFill>
                <a:latin typeface="Trebuchet MS"/>
                <a:ea typeface="Tahoma"/>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شناخت پدیده ی دوزبانگی واثرات مثبت ومنفی آن بر پیشرفت تحصیلی دانش آموزان می تواند  کمک موثری در رفع تنگناهای احتمالی ناشی ازاین پدیده باشد</a:t>
            </a:r>
            <a:r>
              <a:rPr b="0" lang="fa-IR" sz="1800" spc="-1" strike="noStrike">
                <a:solidFill>
                  <a:srgbClr val="404040"/>
                </a:solidFill>
                <a:latin typeface="Trebuchet MS"/>
                <a:ea typeface="Tahoma"/>
              </a:rPr>
              <a:t>.</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09160" y="219240"/>
            <a:ext cx="2395440" cy="1055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c00000"/>
                </a:solidFill>
                <a:latin typeface="Trebuchet MS"/>
                <a:cs typeface="B Nazanin"/>
              </a:rPr>
              <a:t>تعاریف</a:t>
            </a:r>
            <a:endParaRPr b="0" lang="en-US" sz="4800" spc="-1" strike="noStrike">
              <a:solidFill>
                <a:srgbClr val="90c226"/>
              </a:solidFill>
              <a:latin typeface="Trebuchet MS"/>
            </a:endParaRPr>
          </a:p>
        </p:txBody>
      </p:sp>
      <p:sp>
        <p:nvSpPr>
          <p:cNvPr id="223" name=""/>
          <p:cNvSpPr txBox="1"/>
          <p:nvPr/>
        </p:nvSpPr>
        <p:spPr>
          <a:xfrm>
            <a:off x="1050840" y="1184400"/>
            <a:ext cx="10553760" cy="4497120"/>
          </a:xfrm>
          <a:prstGeom prst="rect">
            <a:avLst/>
          </a:prstGeom>
          <a:noFill/>
          <a:ln w="0">
            <a:noFill/>
          </a:ln>
        </p:spPr>
        <p:txBody>
          <a:bodyPr anchor="t">
            <a:normAutofit fontScale="80000"/>
          </a:bodyPr>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دوزبانگی را ازجنبه های مختلفی تعریف کرده اند.برخی از متخصصین مهارت هم اندازه در دو زبان را مورد توجه قرار می دهند ولذا فردی را دوزبانه می نامند که علاوه بر زبان خویش،دارای مهارتی هم اندازه در زبان دیگر باشد واین توانایی را داشته باشد که بتواند هر یک از آن ها را به طور مساوی ودر شرایطی همانندمورد استفاده قرار ده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ازدیدگاههای دیگردوزبانگی می تواند به زبان خانوادگی وزبان مادروزبان مادر مربوط باشدازاین نظر کودک دو زبانه کودکی است که در خانواده ی تک زبانه بزرگ شده وهنگام ورود به مدرسه بازبان دومی روبرو می شودکه زبان آموزش است وممکن است زبان  جامعه ای باشد که در آن زندگی می کن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6000" spc="-1" strike="noStrike">
                <a:solidFill>
                  <a:srgbClr val="ff0000"/>
                </a:solidFill>
                <a:latin typeface="Trebuchet MS"/>
                <a:cs typeface="B Nazanin"/>
              </a:rPr>
              <a:t>اثرات دوزبانگی</a:t>
            </a:r>
            <a:endParaRPr b="0" lang="en-US" sz="6000" spc="-1" strike="noStrike">
              <a:solidFill>
                <a:srgbClr val="90c226"/>
              </a:solidFill>
              <a:latin typeface="Trebuchet MS"/>
            </a:endParaRPr>
          </a:p>
        </p:txBody>
      </p:sp>
      <p:pic>
        <p:nvPicPr>
          <p:cNvPr id="225" name="Content Placeholder 4" descr=""/>
          <p:cNvPicPr/>
          <p:nvPr/>
        </p:nvPicPr>
        <p:blipFill>
          <a:blip r:embed="rId1"/>
          <a:stretch/>
        </p:blipFill>
        <p:spPr>
          <a:xfrm>
            <a:off x="677880" y="2116080"/>
            <a:ext cx="9040680" cy="4529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065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ثبت</a:t>
            </a:r>
            <a:endParaRPr b="0" lang="en-US" sz="4800" spc="-1" strike="noStrike">
              <a:solidFill>
                <a:srgbClr val="90c226"/>
              </a:solidFill>
              <a:latin typeface="Trebuchet MS"/>
            </a:endParaRPr>
          </a:p>
        </p:txBody>
      </p:sp>
      <p:sp>
        <p:nvSpPr>
          <p:cNvPr id="227" name=""/>
          <p:cNvSpPr txBox="1"/>
          <p:nvPr/>
        </p:nvSpPr>
        <p:spPr>
          <a:xfrm>
            <a:off x="677520" y="1430280"/>
            <a:ext cx="8813880" cy="5099040"/>
          </a:xfrm>
          <a:prstGeom prst="rect">
            <a:avLst/>
          </a:prstGeom>
          <a:noFill/>
          <a:ln w="0">
            <a:noFill/>
          </a:ln>
        </p:spPr>
        <p:txBody>
          <a:bodyPr anchor="t">
            <a:normAutofit fontScale="92000"/>
          </a:bodyPr>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ea typeface="B Nazanin"/>
              </a:rPr>
              <a:t> </a:t>
            </a:r>
            <a:r>
              <a:rPr b="0" lang="fa-IR" sz="2400" spc="-1" strike="noStrike">
                <a:solidFill>
                  <a:srgbClr val="404040"/>
                </a:solidFill>
                <a:latin typeface="Trebuchet MS"/>
                <a:cs typeface="B Nazanin"/>
              </a:rPr>
              <a:t>برخی بررسی هابه اثرات مثبت دوزبانگی اشاره می کندومی گوید کودکی که در حال فراگیری تکلم به دو زبان است نه تنها آن زبان ها رابه آسانی یاد می گیرد بلکه در هر زبان به مهارت واطمینان می رسدلذا لیاقت نگهداری دوسیستم زبانی را در کنارهم واستعمال هر کدام از آنها را بر حسب طرف گفتگو وترجمه مفاهیم از سیستمی به سیستم دیگر یا با کلماتی دیگر دارد</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نتایج به دست آمده نشان می دهدکودک دوزبانه داراد موهبت خاصی برخوردار میشود وبر این باور است که کودک دوزبانه که برای هر شیی دوواژه می شنودوادار می گرددتا به محتوا ومعنی واژه بیشتر از صورت آن توجه کنداو می گویددر دو زبانگی مزیتی می بینم که کودک را به جای گفتار طوطی وار به اندیشیدن وادارمی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گروسین دوزبانه دبودن را ذخیره ی بزرگ برای کودک محسوب می داردومعتقد است که کودک دوزبانه دارای یک آگاهی بهتر از زبان های دیگر است ودریادگیری زبانهای جدید در موقعیت های بهتری قرار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نفی</a:t>
            </a:r>
            <a:endParaRPr b="0" lang="en-US" sz="4800" spc="-1" strike="noStrike">
              <a:solidFill>
                <a:srgbClr val="90c226"/>
              </a:solidFill>
              <a:latin typeface="Trebuchet MS"/>
            </a:endParaRPr>
          </a:p>
        </p:txBody>
      </p:sp>
      <p:sp>
        <p:nvSpPr>
          <p:cNvPr id="229" name=""/>
          <p:cNvSpPr txBox="1"/>
          <p:nvPr/>
        </p:nvSpPr>
        <p:spPr>
          <a:xfrm>
            <a:off x="677520" y="1568520"/>
            <a:ext cx="8697960" cy="4922640"/>
          </a:xfrm>
          <a:prstGeom prst="rect">
            <a:avLst/>
          </a:prstGeom>
          <a:noFill/>
          <a:ln w="0">
            <a:noFill/>
          </a:ln>
        </p:spPr>
        <p:txBody>
          <a:bodyPr anchor="t">
            <a:normAutofit fontScale="93000"/>
          </a:bodyPr>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برخی از متخصصین وزبان شناسان به اثرات منفی دوزبانگی اشاره دارند.پس از بررسی وطبقه بندی انواع تداخل در رفتار زبانی کودکان دوزبانه  آنها رابااشتباههای کودکان یک زبانه در جریان فراگیری زبان  مادری مقایسه کردند واثرات منفی آن را در کودکان دو زبانه گزارش کردند .مطالعات حاکی از تداخل درگفتاردوزبانه هاست جرزپرزنت معتقد است که کوشش کودک برای تسلط دوزبان به جای یک زبان به طور حتم ،باعث کاهش قدرت او در یادگیری چیزهای دیگری خواهد شد که می بایست فرا گرفته شو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در تحقیقات انجام شده در ایران نیز به اثرات منفی دوزبانگی روی پیشرفت تحصیلی دانش آموزان اشاره ش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04T14:40:31Z</dcterms:created>
  <dc:creator>shahedold</dc:creator>
  <dc:description/>
  <dc:language>en-US</dc:language>
  <cp:lastModifiedBy>ROHAM</cp:lastModifiedBy>
  <dcterms:modified xsi:type="dcterms:W3CDTF">2020-04-21T17:35:52Z</dcterms:modified>
  <cp:revision>39</cp:revision>
  <dc:subject/>
  <dc:title>بسم الله الرحمن الرحیم</dc:title>
</cp:coreProperties>
</file>